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B98-A3D5-44CA-9591-B63F9277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7D7-61B8-4FA3-8EBD-87C37099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A8D-A479-49A6-9952-F0F5A9E8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830-3BB7-4AF7-955E-EEA92D3A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269-8A64-4C37-A65D-2D90C1D8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9A0-6E46-4BBB-8F77-8BA180D0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02A-7DE8-4513-BEEB-D923F77F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CF9-F692-489B-8515-8DEE37F0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65B-0A52-4A24-8F04-550B6935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9CF-9DD5-46C9-88AC-E3605526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B29-B221-4715-8EC7-4A1B1A4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759-A815-4998-A900-756FFF6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94BD-293D-4E95-B114-84D7208CB8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hursday, September 10th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5120" y="3108240"/>
            <a:ext cx="556236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et out your homewor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worksheet</a:t>
            </a:r>
            <a:br>
              <a:rPr sz="8500"/>
            </a:b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P.4 part four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Go over last night’s HW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-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1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1 and -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 4 and 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4"/>
          <p:cNvSpPr/>
          <p:nvPr/>
        </p:nvSpPr>
        <p:spPr>
          <a:xfrm>
            <a:off x="3562200" y="1374840"/>
            <a:ext cx="2921040" cy="893520"/>
          </a:xfrm>
          <a:custGeom>
            <a:avLst/>
            <a:gdLst/>
            <a:ahLst/>
            <a:rect l="l" t="t" r="r" b="b"/>
            <a:pathLst>
              <a:path w="8112" h="2481">
                <a:moveTo>
                  <a:pt x="11832" y="4242"/>
                </a:moveTo>
                <a:cubicBezTo>
                  <a:pt x="11869" y="4195"/>
                  <a:pt x="11895" y="4141"/>
                  <a:pt x="11931" y="4093"/>
                </a:cubicBezTo>
                <a:cubicBezTo>
                  <a:pt x="11980" y="4028"/>
                  <a:pt x="12082" y="3954"/>
                  <a:pt x="12154" y="3919"/>
                </a:cubicBezTo>
                <a:cubicBezTo>
                  <a:pt x="12246" y="3875"/>
                  <a:pt x="12285" y="3932"/>
                  <a:pt x="12353" y="3994"/>
                </a:cubicBezTo>
                <a:cubicBezTo>
                  <a:pt x="12421" y="4056"/>
                  <a:pt x="12402" y="4133"/>
                  <a:pt x="12402" y="4217"/>
                </a:cubicBezTo>
                <a:cubicBezTo>
                  <a:pt x="12402" y="4389"/>
                  <a:pt x="12387" y="4513"/>
                  <a:pt x="12303" y="4663"/>
                </a:cubicBezTo>
                <a:cubicBezTo>
                  <a:pt x="12235" y="4783"/>
                  <a:pt x="12207" y="4834"/>
                  <a:pt x="12105" y="4911"/>
                </a:cubicBezTo>
                <a:cubicBezTo>
                  <a:pt x="12035" y="4964"/>
                  <a:pt x="11980" y="5030"/>
                  <a:pt x="11881" y="5011"/>
                </a:cubicBezTo>
                <a:cubicBezTo>
                  <a:pt x="11850" y="5005"/>
                  <a:pt x="11740" y="4951"/>
                  <a:pt x="11733" y="4911"/>
                </a:cubicBezTo>
                <a:cubicBezTo>
                  <a:pt x="11718" y="4819"/>
                  <a:pt x="11735" y="4740"/>
                  <a:pt x="11782" y="4663"/>
                </a:cubicBezTo>
                <a:cubicBezTo>
                  <a:pt x="11811" y="4615"/>
                  <a:pt x="11866" y="4526"/>
                  <a:pt x="11931" y="4514"/>
                </a:cubicBezTo>
                <a:cubicBezTo>
                  <a:pt x="12020" y="4498"/>
                  <a:pt x="12077" y="4516"/>
                  <a:pt x="12129" y="4589"/>
                </a:cubicBezTo>
                <a:cubicBezTo>
                  <a:pt x="12170" y="4646"/>
                  <a:pt x="12200" y="4719"/>
                  <a:pt x="12204" y="4787"/>
                </a:cubicBezTo>
                <a:cubicBezTo>
                  <a:pt x="12207" y="4845"/>
                  <a:pt x="12204" y="4903"/>
                  <a:pt x="12204" y="4961"/>
                </a:cubicBezTo>
              </a:path>
              <a:path w="8112" h="2481">
                <a:moveTo>
                  <a:pt x="12650" y="4118"/>
                </a:moveTo>
                <a:cubicBezTo>
                  <a:pt x="12615" y="4253"/>
                  <a:pt x="12580" y="4374"/>
                  <a:pt x="12576" y="4514"/>
                </a:cubicBezTo>
                <a:cubicBezTo>
                  <a:pt x="12572" y="4638"/>
                  <a:pt x="12553" y="4797"/>
                  <a:pt x="12601" y="4911"/>
                </a:cubicBezTo>
                <a:cubicBezTo>
                  <a:pt x="12632" y="4985"/>
                  <a:pt x="12710" y="4976"/>
                  <a:pt x="12774" y="4936"/>
                </a:cubicBezTo>
                <a:cubicBezTo>
                  <a:pt x="12845" y="4892"/>
                  <a:pt x="12914" y="4762"/>
                  <a:pt x="12948" y="4688"/>
                </a:cubicBezTo>
                <a:cubicBezTo>
                  <a:pt x="12987" y="4603"/>
                  <a:pt x="12973" y="4506"/>
                  <a:pt x="12973" y="4415"/>
                </a:cubicBezTo>
                <a:cubicBezTo>
                  <a:pt x="12973" y="4319"/>
                  <a:pt x="12936" y="4260"/>
                  <a:pt x="12874" y="4192"/>
                </a:cubicBezTo>
                <a:cubicBezTo>
                  <a:pt x="12824" y="4137"/>
                  <a:pt x="12793" y="4074"/>
                  <a:pt x="12725" y="4068"/>
                </a:cubicBezTo>
                <a:cubicBezTo>
                  <a:pt x="12700" y="4068"/>
                  <a:pt x="12675" y="4068"/>
                  <a:pt x="12650" y="4068"/>
                </a:cubicBezTo>
              </a:path>
              <a:path w="8112" h="2481">
                <a:moveTo>
                  <a:pt x="13097" y="4415"/>
                </a:moveTo>
                <a:cubicBezTo>
                  <a:pt x="13201" y="4415"/>
                  <a:pt x="13298" y="4415"/>
                  <a:pt x="13395" y="4390"/>
                </a:cubicBezTo>
                <a:cubicBezTo>
                  <a:pt x="13420" y="4382"/>
                  <a:pt x="13444" y="4374"/>
                  <a:pt x="13469" y="4366"/>
                </a:cubicBezTo>
              </a:path>
              <a:path w="8112" h="2481">
                <a:moveTo>
                  <a:pt x="13742" y="4118"/>
                </a:moveTo>
                <a:cubicBezTo>
                  <a:pt x="13750" y="4247"/>
                  <a:pt x="13774" y="4345"/>
                  <a:pt x="13816" y="4465"/>
                </a:cubicBezTo>
                <a:cubicBezTo>
                  <a:pt x="13846" y="4552"/>
                  <a:pt x="13902" y="4621"/>
                  <a:pt x="13965" y="4688"/>
                </a:cubicBezTo>
                <a:cubicBezTo>
                  <a:pt x="14015" y="4741"/>
                  <a:pt x="14111" y="4776"/>
                  <a:pt x="14188" y="4762"/>
                </a:cubicBezTo>
                <a:cubicBezTo>
                  <a:pt x="14282" y="4745"/>
                  <a:pt x="14273" y="4713"/>
                  <a:pt x="14288" y="4638"/>
                </a:cubicBezTo>
              </a:path>
              <a:path w="8112" h="2481">
                <a:moveTo>
                  <a:pt x="14288" y="4118"/>
                </a:moveTo>
                <a:cubicBezTo>
                  <a:pt x="14175" y="4146"/>
                  <a:pt x="14097" y="4176"/>
                  <a:pt x="14015" y="4266"/>
                </a:cubicBezTo>
                <a:cubicBezTo>
                  <a:pt x="13933" y="4356"/>
                  <a:pt x="13866" y="4462"/>
                  <a:pt x="13767" y="4539"/>
                </a:cubicBezTo>
                <a:cubicBezTo>
                  <a:pt x="13691" y="4598"/>
                  <a:pt x="13604" y="4693"/>
                  <a:pt x="13519" y="4738"/>
                </a:cubicBezTo>
                <a:cubicBezTo>
                  <a:pt x="13494" y="4746"/>
                  <a:pt x="13469" y="4754"/>
                  <a:pt x="13444" y="4762"/>
                </a:cubicBezTo>
              </a:path>
              <a:path w="8112" h="2481">
                <a:moveTo>
                  <a:pt x="11832" y="5135"/>
                </a:moveTo>
                <a:cubicBezTo>
                  <a:pt x="11937" y="5169"/>
                  <a:pt x="12041" y="5159"/>
                  <a:pt x="12154" y="5159"/>
                </a:cubicBezTo>
                <a:cubicBezTo>
                  <a:pt x="12618" y="5159"/>
                  <a:pt x="13081" y="5160"/>
                  <a:pt x="13543" y="5184"/>
                </a:cubicBezTo>
                <a:cubicBezTo>
                  <a:pt x="13693" y="5192"/>
                  <a:pt x="13841" y="5202"/>
                  <a:pt x="13990" y="5209"/>
                </a:cubicBezTo>
                <a:cubicBezTo>
                  <a:pt x="14006" y="5209"/>
                  <a:pt x="14023" y="5209"/>
                  <a:pt x="14039" y="5209"/>
                </a:cubicBezTo>
              </a:path>
              <a:path w="8112" h="2481">
                <a:moveTo>
                  <a:pt x="12849" y="5432"/>
                </a:moveTo>
                <a:cubicBezTo>
                  <a:pt x="12909" y="5585"/>
                  <a:pt x="12958" y="5764"/>
                  <a:pt x="13047" y="5904"/>
                </a:cubicBezTo>
                <a:cubicBezTo>
                  <a:pt x="13103" y="5993"/>
                  <a:pt x="13163" y="6095"/>
                  <a:pt x="13221" y="6176"/>
                </a:cubicBezTo>
                <a:cubicBezTo>
                  <a:pt x="13226" y="6183"/>
                  <a:pt x="13360" y="6303"/>
                  <a:pt x="13370" y="6300"/>
                </a:cubicBezTo>
                <a:cubicBezTo>
                  <a:pt x="13395" y="6284"/>
                  <a:pt x="13419" y="6267"/>
                  <a:pt x="13444" y="6251"/>
                </a:cubicBezTo>
              </a:path>
              <a:path w="8112" h="2481">
                <a:moveTo>
                  <a:pt x="13196" y="5383"/>
                </a:moveTo>
                <a:cubicBezTo>
                  <a:pt x="13091" y="5495"/>
                  <a:pt x="13012" y="5606"/>
                  <a:pt x="12923" y="5730"/>
                </a:cubicBezTo>
                <a:cubicBezTo>
                  <a:pt x="12853" y="5828"/>
                  <a:pt x="12785" y="5977"/>
                  <a:pt x="12700" y="6052"/>
                </a:cubicBezTo>
                <a:cubicBezTo>
                  <a:pt x="12666" y="6082"/>
                  <a:pt x="12605" y="6079"/>
                  <a:pt x="12650" y="6102"/>
                </a:cubicBezTo>
              </a:path>
              <a:path w="8112" h="2481">
                <a:moveTo>
                  <a:pt x="14511" y="5085"/>
                </a:moveTo>
                <a:cubicBezTo>
                  <a:pt x="14635" y="5085"/>
                  <a:pt x="14660" y="5085"/>
                  <a:pt x="14734" y="5085"/>
                </a:cubicBezTo>
              </a:path>
              <a:path w="8112" h="2481">
                <a:moveTo>
                  <a:pt x="14511" y="5259"/>
                </a:moveTo>
                <a:cubicBezTo>
                  <a:pt x="14594" y="5259"/>
                  <a:pt x="14709" y="5264"/>
                  <a:pt x="14784" y="5234"/>
                </a:cubicBezTo>
                <a:cubicBezTo>
                  <a:pt x="14833" y="5209"/>
                  <a:pt x="14883" y="5184"/>
                  <a:pt x="14932" y="5159"/>
                </a:cubicBezTo>
              </a:path>
              <a:path w="8112" h="2481">
                <a:moveTo>
                  <a:pt x="15801" y="4242"/>
                </a:moveTo>
                <a:cubicBezTo>
                  <a:pt x="15848" y="4356"/>
                  <a:pt x="15929" y="4453"/>
                  <a:pt x="15974" y="4564"/>
                </a:cubicBezTo>
                <a:cubicBezTo>
                  <a:pt x="16024" y="4686"/>
                  <a:pt x="16087" y="4776"/>
                  <a:pt x="16197" y="4862"/>
                </a:cubicBezTo>
                <a:cubicBezTo>
                  <a:pt x="16292" y="4937"/>
                  <a:pt x="16429" y="4975"/>
                  <a:pt x="16545" y="4986"/>
                </a:cubicBezTo>
                <a:cubicBezTo>
                  <a:pt x="16734" y="5003"/>
                  <a:pt x="16739" y="4829"/>
                  <a:pt x="16793" y="4688"/>
                </a:cubicBezTo>
              </a:path>
              <a:path w="8112" h="2481">
                <a:moveTo>
                  <a:pt x="16396" y="4118"/>
                </a:moveTo>
                <a:cubicBezTo>
                  <a:pt x="16267" y="4262"/>
                  <a:pt x="16170" y="4417"/>
                  <a:pt x="16049" y="4564"/>
                </a:cubicBezTo>
                <a:cubicBezTo>
                  <a:pt x="15944" y="4692"/>
                  <a:pt x="15859" y="4790"/>
                  <a:pt x="15776" y="4936"/>
                </a:cubicBezTo>
              </a:path>
              <a:path w="8112" h="2481">
                <a:moveTo>
                  <a:pt x="10889" y="4564"/>
                </a:moveTo>
                <a:cubicBezTo>
                  <a:pt x="10881" y="4547"/>
                  <a:pt x="10872" y="4531"/>
                  <a:pt x="10864" y="4514"/>
                </a:cubicBezTo>
              </a:path>
              <a:path w="8112" h="2481">
                <a:moveTo>
                  <a:pt x="9947" y="3820"/>
                </a:moveTo>
                <a:cubicBezTo>
                  <a:pt x="10010" y="3998"/>
                  <a:pt x="10073" y="4166"/>
                  <a:pt x="10195" y="4316"/>
                </a:cubicBezTo>
                <a:cubicBezTo>
                  <a:pt x="10251" y="4386"/>
                  <a:pt x="10351" y="4480"/>
                  <a:pt x="10418" y="4539"/>
                </a:cubicBezTo>
                <a:cubicBezTo>
                  <a:pt x="10451" y="4568"/>
                  <a:pt x="10506" y="4600"/>
                  <a:pt x="10542" y="4614"/>
                </a:cubicBezTo>
              </a:path>
              <a:path w="8112" h="2481">
                <a:moveTo>
                  <a:pt x="10319" y="3919"/>
                </a:moveTo>
                <a:cubicBezTo>
                  <a:pt x="10253" y="4076"/>
                  <a:pt x="10190" y="4235"/>
                  <a:pt x="10120" y="4390"/>
                </a:cubicBezTo>
                <a:cubicBezTo>
                  <a:pt x="10075" y="4488"/>
                  <a:pt x="9974" y="4585"/>
                  <a:pt x="9947" y="4688"/>
                </a:cubicBezTo>
                <a:cubicBezTo>
                  <a:pt x="9931" y="4748"/>
                  <a:pt x="9931" y="4753"/>
                  <a:pt x="9897" y="4812"/>
                </a:cubicBezTo>
              </a:path>
              <a:path w="8112" h="2481">
                <a:moveTo>
                  <a:pt x="17016" y="4440"/>
                </a:moveTo>
                <a:lnTo>
                  <a:pt x="17016" y="4440"/>
                </a:lnTo>
              </a:path>
              <a:path w="8112" h="2481">
                <a:moveTo>
                  <a:pt x="17537" y="4093"/>
                </a:moveTo>
                <a:cubicBezTo>
                  <a:pt x="17598" y="4259"/>
                  <a:pt x="17619" y="4507"/>
                  <a:pt x="17735" y="4638"/>
                </a:cubicBezTo>
                <a:cubicBezTo>
                  <a:pt x="17770" y="4677"/>
                  <a:pt x="17892" y="4791"/>
                  <a:pt x="17959" y="4787"/>
                </a:cubicBezTo>
                <a:cubicBezTo>
                  <a:pt x="17975" y="4779"/>
                  <a:pt x="17992" y="4770"/>
                  <a:pt x="18008" y="4762"/>
                </a:cubicBezTo>
              </a:path>
              <a:path w="8112" h="2481">
                <a:moveTo>
                  <a:pt x="17959" y="4142"/>
                </a:moveTo>
                <a:cubicBezTo>
                  <a:pt x="17739" y="4281"/>
                  <a:pt x="17524" y="4429"/>
                  <a:pt x="17289" y="4539"/>
                </a:cubicBezTo>
                <a:cubicBezTo>
                  <a:pt x="17248" y="4556"/>
                  <a:pt x="17206" y="4572"/>
                  <a:pt x="17165" y="4589"/>
                </a:cubicBezTo>
              </a:path>
              <a:path w="8112" h="2481">
                <a:moveTo>
                  <a:pt x="12402" y="6028"/>
                </a:moveTo>
                <a:cubicBezTo>
                  <a:pt x="12563" y="5917"/>
                  <a:pt x="12730" y="5829"/>
                  <a:pt x="12898" y="5730"/>
                </a:cubicBezTo>
                <a:cubicBezTo>
                  <a:pt x="13057" y="5637"/>
                  <a:pt x="13224" y="5550"/>
                  <a:pt x="13395" y="5482"/>
                </a:cubicBezTo>
                <a:cubicBezTo>
                  <a:pt x="13462" y="5459"/>
                  <a:pt x="13480" y="5454"/>
                  <a:pt x="13519" y="5432"/>
                </a:cubicBezTo>
              </a:path>
              <a:path w="8112" h="2481">
                <a:moveTo>
                  <a:pt x="9922" y="4663"/>
                </a:moveTo>
                <a:cubicBezTo>
                  <a:pt x="9971" y="4556"/>
                  <a:pt x="10065" y="4451"/>
                  <a:pt x="10170" y="4390"/>
                </a:cubicBezTo>
                <a:cubicBezTo>
                  <a:pt x="10317" y="4305"/>
                  <a:pt x="10464" y="4227"/>
                  <a:pt x="10616" y="4142"/>
                </a:cubicBezTo>
                <a:cubicBezTo>
                  <a:pt x="10761" y="4061"/>
                  <a:pt x="10908" y="4001"/>
                  <a:pt x="11063" y="3944"/>
                </a:cubicBezTo>
                <a:cubicBezTo>
                  <a:pt x="11113" y="3927"/>
                  <a:pt x="11162" y="3911"/>
                  <a:pt x="11212" y="38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5"/>
          <p:cNvSpPr/>
          <p:nvPr/>
        </p:nvSpPr>
        <p:spPr>
          <a:xfrm>
            <a:off x="3983040" y="2394000"/>
            <a:ext cx="2081160" cy="571320"/>
          </a:xfrm>
          <a:custGeom>
            <a:avLst/>
            <a:gdLst/>
            <a:ahLst/>
            <a:rect l="l" t="t" r="r" b="b"/>
            <a:pathLst>
              <a:path w="5780" h="1588">
                <a:moveTo>
                  <a:pt x="11063" y="7144"/>
                </a:moveTo>
                <a:cubicBezTo>
                  <a:pt x="11157" y="7120"/>
                  <a:pt x="11238" y="7119"/>
                  <a:pt x="11336" y="7119"/>
                </a:cubicBezTo>
                <a:cubicBezTo>
                  <a:pt x="11444" y="7119"/>
                  <a:pt x="11590" y="7112"/>
                  <a:pt x="11633" y="7243"/>
                </a:cubicBezTo>
                <a:cubicBezTo>
                  <a:pt x="11667" y="7347"/>
                  <a:pt x="11559" y="7449"/>
                  <a:pt x="11509" y="7516"/>
                </a:cubicBezTo>
                <a:cubicBezTo>
                  <a:pt x="11440" y="7609"/>
                  <a:pt x="11335" y="7715"/>
                  <a:pt x="11261" y="7789"/>
                </a:cubicBezTo>
                <a:cubicBezTo>
                  <a:pt x="11173" y="7877"/>
                  <a:pt x="11167" y="7828"/>
                  <a:pt x="11112" y="7938"/>
                </a:cubicBezTo>
                <a:cubicBezTo>
                  <a:pt x="11194" y="7995"/>
                  <a:pt x="11241" y="8012"/>
                  <a:pt x="11336" y="8012"/>
                </a:cubicBezTo>
                <a:cubicBezTo>
                  <a:pt x="11466" y="8012"/>
                  <a:pt x="11548" y="7977"/>
                  <a:pt x="11658" y="7913"/>
                </a:cubicBezTo>
              </a:path>
              <a:path w="5780" h="1588">
                <a:moveTo>
                  <a:pt x="11981" y="7268"/>
                </a:moveTo>
                <a:cubicBezTo>
                  <a:pt x="11898" y="7420"/>
                  <a:pt x="11845" y="7521"/>
                  <a:pt x="11832" y="7689"/>
                </a:cubicBezTo>
                <a:cubicBezTo>
                  <a:pt x="11824" y="7791"/>
                  <a:pt x="11824" y="7898"/>
                  <a:pt x="11881" y="7987"/>
                </a:cubicBezTo>
                <a:cubicBezTo>
                  <a:pt x="11908" y="8029"/>
                  <a:pt x="12032" y="8023"/>
                  <a:pt x="12080" y="8012"/>
                </a:cubicBezTo>
                <a:cubicBezTo>
                  <a:pt x="12222" y="7981"/>
                  <a:pt x="12287" y="7833"/>
                  <a:pt x="12328" y="7714"/>
                </a:cubicBezTo>
                <a:cubicBezTo>
                  <a:pt x="12356" y="7634"/>
                  <a:pt x="12381" y="7517"/>
                  <a:pt x="12328" y="7441"/>
                </a:cubicBezTo>
                <a:cubicBezTo>
                  <a:pt x="12270" y="7357"/>
                  <a:pt x="12234" y="7344"/>
                  <a:pt x="12154" y="7317"/>
                </a:cubicBezTo>
                <a:cubicBezTo>
                  <a:pt x="12098" y="7289"/>
                  <a:pt x="12074" y="7279"/>
                  <a:pt x="12030" y="7268"/>
                </a:cubicBezTo>
              </a:path>
              <a:path w="5780" h="1588">
                <a:moveTo>
                  <a:pt x="12601" y="7441"/>
                </a:moveTo>
                <a:cubicBezTo>
                  <a:pt x="12743" y="7477"/>
                  <a:pt x="12876" y="7512"/>
                  <a:pt x="13022" y="7516"/>
                </a:cubicBezTo>
                <a:cubicBezTo>
                  <a:pt x="13055" y="7516"/>
                  <a:pt x="13089" y="7516"/>
                  <a:pt x="13122" y="7516"/>
                </a:cubicBezTo>
              </a:path>
              <a:path w="5780" h="1588">
                <a:moveTo>
                  <a:pt x="13370" y="7392"/>
                </a:moveTo>
                <a:cubicBezTo>
                  <a:pt x="13429" y="7541"/>
                  <a:pt x="13516" y="7849"/>
                  <a:pt x="13643" y="7987"/>
                </a:cubicBezTo>
                <a:cubicBezTo>
                  <a:pt x="13695" y="8043"/>
                  <a:pt x="13848" y="8136"/>
                  <a:pt x="13915" y="8161"/>
                </a:cubicBezTo>
                <a:cubicBezTo>
                  <a:pt x="13957" y="8161"/>
                  <a:pt x="13965" y="8161"/>
                  <a:pt x="13990" y="8161"/>
                </a:cubicBezTo>
              </a:path>
              <a:path w="5780" h="1588">
                <a:moveTo>
                  <a:pt x="13891" y="7293"/>
                </a:moveTo>
                <a:cubicBezTo>
                  <a:pt x="13795" y="7396"/>
                  <a:pt x="13705" y="7504"/>
                  <a:pt x="13618" y="7615"/>
                </a:cubicBezTo>
                <a:cubicBezTo>
                  <a:pt x="13533" y="7723"/>
                  <a:pt x="13487" y="7857"/>
                  <a:pt x="13395" y="7962"/>
                </a:cubicBezTo>
                <a:cubicBezTo>
                  <a:pt x="13350" y="8014"/>
                  <a:pt x="13238" y="8070"/>
                  <a:pt x="13221" y="8136"/>
                </a:cubicBezTo>
              </a:path>
              <a:path w="5780" h="1588">
                <a:moveTo>
                  <a:pt x="13990" y="7590"/>
                </a:moveTo>
                <a:cubicBezTo>
                  <a:pt x="14121" y="7555"/>
                  <a:pt x="14253" y="7529"/>
                  <a:pt x="14387" y="7516"/>
                </a:cubicBezTo>
                <a:cubicBezTo>
                  <a:pt x="14420" y="7516"/>
                  <a:pt x="14453" y="7516"/>
                  <a:pt x="14486" y="7516"/>
                </a:cubicBezTo>
              </a:path>
              <a:path w="5780" h="1588">
                <a:moveTo>
                  <a:pt x="14064" y="7739"/>
                </a:moveTo>
                <a:cubicBezTo>
                  <a:pt x="14185" y="7812"/>
                  <a:pt x="14248" y="7777"/>
                  <a:pt x="14387" y="7739"/>
                </a:cubicBezTo>
                <a:cubicBezTo>
                  <a:pt x="14420" y="7731"/>
                  <a:pt x="14453" y="7722"/>
                  <a:pt x="14486" y="7714"/>
                </a:cubicBezTo>
              </a:path>
              <a:path w="5780" h="1588">
                <a:moveTo>
                  <a:pt x="14982" y="7367"/>
                </a:moveTo>
                <a:cubicBezTo>
                  <a:pt x="15069" y="7594"/>
                  <a:pt x="15131" y="7721"/>
                  <a:pt x="15255" y="7913"/>
                </a:cubicBezTo>
                <a:cubicBezTo>
                  <a:pt x="15324" y="8020"/>
                  <a:pt x="15407" y="8124"/>
                  <a:pt x="15528" y="8186"/>
                </a:cubicBezTo>
                <a:cubicBezTo>
                  <a:pt x="15603" y="8224"/>
                  <a:pt x="15669" y="8235"/>
                  <a:pt x="15751" y="8235"/>
                </a:cubicBezTo>
              </a:path>
              <a:path w="5780" h="1588">
                <a:moveTo>
                  <a:pt x="15429" y="7293"/>
                </a:moveTo>
                <a:cubicBezTo>
                  <a:pt x="15339" y="7435"/>
                  <a:pt x="15211" y="7595"/>
                  <a:pt x="15131" y="7739"/>
                </a:cubicBezTo>
                <a:cubicBezTo>
                  <a:pt x="15055" y="7876"/>
                  <a:pt x="14975" y="8021"/>
                  <a:pt x="14908" y="8161"/>
                </a:cubicBezTo>
                <a:cubicBezTo>
                  <a:pt x="14900" y="8177"/>
                  <a:pt x="14891" y="8194"/>
                  <a:pt x="14883" y="8210"/>
                </a:cubicBezTo>
              </a:path>
              <a:path w="5780" h="1588">
                <a:moveTo>
                  <a:pt x="15627" y="6871"/>
                </a:moveTo>
                <a:cubicBezTo>
                  <a:pt x="15758" y="6740"/>
                  <a:pt x="15797" y="6656"/>
                  <a:pt x="15974" y="6648"/>
                </a:cubicBezTo>
                <a:cubicBezTo>
                  <a:pt x="16083" y="6643"/>
                  <a:pt x="16153" y="6738"/>
                  <a:pt x="16123" y="6846"/>
                </a:cubicBezTo>
                <a:cubicBezTo>
                  <a:pt x="16106" y="6906"/>
                  <a:pt x="16041" y="6928"/>
                  <a:pt x="15999" y="6970"/>
                </a:cubicBezTo>
                <a:cubicBezTo>
                  <a:pt x="15955" y="7014"/>
                  <a:pt x="15925" y="7020"/>
                  <a:pt x="15949" y="7069"/>
                </a:cubicBezTo>
                <a:cubicBezTo>
                  <a:pt x="15994" y="7159"/>
                  <a:pt x="16103" y="7162"/>
                  <a:pt x="16197" y="7169"/>
                </a:cubicBezTo>
                <a:cubicBezTo>
                  <a:pt x="16350" y="7181"/>
                  <a:pt x="16496" y="7155"/>
                  <a:pt x="16644" y="7144"/>
                </a:cubicBezTo>
                <a:cubicBezTo>
                  <a:pt x="16753" y="7144"/>
                  <a:pt x="16780" y="7149"/>
                  <a:pt x="16842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6"/>
          <p:cNvSpPr/>
          <p:nvPr/>
        </p:nvSpPr>
        <p:spPr>
          <a:xfrm>
            <a:off x="3384720" y="2990880"/>
            <a:ext cx="758520" cy="241200"/>
          </a:xfrm>
          <a:custGeom>
            <a:avLst/>
            <a:gdLst/>
            <a:ahLst/>
            <a:rect l="l" t="t" r="r" b="b"/>
            <a:pathLst>
              <a:path w="2109" h="670">
                <a:moveTo>
                  <a:pt x="9401" y="8483"/>
                </a:moveTo>
                <a:cubicBezTo>
                  <a:pt x="9525" y="8483"/>
                  <a:pt x="9653" y="8484"/>
                  <a:pt x="9773" y="8508"/>
                </a:cubicBezTo>
                <a:cubicBezTo>
                  <a:pt x="9869" y="8541"/>
                  <a:pt x="9918" y="8549"/>
                  <a:pt x="9996" y="8533"/>
                </a:cubicBezTo>
              </a:path>
              <a:path w="2109" h="670">
                <a:moveTo>
                  <a:pt x="10344" y="8334"/>
                </a:moveTo>
                <a:cubicBezTo>
                  <a:pt x="10442" y="8310"/>
                  <a:pt x="10518" y="8312"/>
                  <a:pt x="10616" y="8334"/>
                </a:cubicBezTo>
                <a:cubicBezTo>
                  <a:pt x="10675" y="8348"/>
                  <a:pt x="10769" y="8402"/>
                  <a:pt x="10716" y="8483"/>
                </a:cubicBezTo>
                <a:cubicBezTo>
                  <a:pt x="10674" y="8547"/>
                  <a:pt x="10554" y="8633"/>
                  <a:pt x="10492" y="8682"/>
                </a:cubicBezTo>
                <a:cubicBezTo>
                  <a:pt x="10437" y="8725"/>
                  <a:pt x="10339" y="8756"/>
                  <a:pt x="10319" y="8830"/>
                </a:cubicBezTo>
                <a:cubicBezTo>
                  <a:pt x="10298" y="8909"/>
                  <a:pt x="10317" y="8951"/>
                  <a:pt x="10393" y="8954"/>
                </a:cubicBezTo>
                <a:cubicBezTo>
                  <a:pt x="10485" y="8954"/>
                  <a:pt x="10527" y="8951"/>
                  <a:pt x="10592" y="8930"/>
                </a:cubicBezTo>
              </a:path>
              <a:path w="2109" h="670">
                <a:moveTo>
                  <a:pt x="11088" y="8434"/>
                </a:moveTo>
                <a:cubicBezTo>
                  <a:pt x="10993" y="8565"/>
                  <a:pt x="10970" y="8594"/>
                  <a:pt x="10964" y="8756"/>
                </a:cubicBezTo>
                <a:cubicBezTo>
                  <a:pt x="10960" y="8859"/>
                  <a:pt x="10960" y="8909"/>
                  <a:pt x="11063" y="8954"/>
                </a:cubicBezTo>
                <a:cubicBezTo>
                  <a:pt x="11128" y="8982"/>
                  <a:pt x="11249" y="8972"/>
                  <a:pt x="11311" y="8930"/>
                </a:cubicBezTo>
                <a:cubicBezTo>
                  <a:pt x="11405" y="8866"/>
                  <a:pt x="11521" y="8761"/>
                  <a:pt x="11509" y="8632"/>
                </a:cubicBezTo>
                <a:cubicBezTo>
                  <a:pt x="11499" y="8527"/>
                  <a:pt x="11442" y="8474"/>
                  <a:pt x="11336" y="8434"/>
                </a:cubicBezTo>
                <a:cubicBezTo>
                  <a:pt x="11294" y="8434"/>
                  <a:pt x="11286" y="8434"/>
                  <a:pt x="11261" y="84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7"/>
          <p:cNvSpPr/>
          <p:nvPr/>
        </p:nvSpPr>
        <p:spPr>
          <a:xfrm>
            <a:off x="4340160" y="3044880"/>
            <a:ext cx="490680" cy="241200"/>
          </a:xfrm>
          <a:custGeom>
            <a:avLst/>
            <a:gdLst/>
            <a:ahLst/>
            <a:rect l="l" t="t" r="r" b="b"/>
            <a:pathLst>
              <a:path w="1365" h="671">
                <a:moveTo>
                  <a:pt x="12427" y="8458"/>
                </a:moveTo>
                <a:cubicBezTo>
                  <a:pt x="12427" y="8598"/>
                  <a:pt x="12387" y="8791"/>
                  <a:pt x="12402" y="8930"/>
                </a:cubicBezTo>
                <a:cubicBezTo>
                  <a:pt x="12410" y="9008"/>
                  <a:pt x="12427" y="9055"/>
                  <a:pt x="12427" y="9128"/>
                </a:cubicBezTo>
              </a:path>
              <a:path w="1365" h="671">
                <a:moveTo>
                  <a:pt x="12055" y="8607"/>
                </a:moveTo>
                <a:cubicBezTo>
                  <a:pt x="12184" y="8659"/>
                  <a:pt x="12262" y="8657"/>
                  <a:pt x="12402" y="8657"/>
                </a:cubicBezTo>
                <a:cubicBezTo>
                  <a:pt x="12479" y="8657"/>
                  <a:pt x="12550" y="8640"/>
                  <a:pt x="12626" y="8632"/>
                </a:cubicBezTo>
              </a:path>
              <a:path w="1365" h="671">
                <a:moveTo>
                  <a:pt x="12923" y="8458"/>
                </a:moveTo>
                <a:cubicBezTo>
                  <a:pt x="12989" y="8616"/>
                  <a:pt x="13026" y="8725"/>
                  <a:pt x="13122" y="8855"/>
                </a:cubicBezTo>
                <a:cubicBezTo>
                  <a:pt x="13187" y="8943"/>
                  <a:pt x="13278" y="9016"/>
                  <a:pt x="13370" y="9079"/>
                </a:cubicBezTo>
                <a:cubicBezTo>
                  <a:pt x="13386" y="9087"/>
                  <a:pt x="13403" y="9095"/>
                  <a:pt x="13419" y="9103"/>
                </a:cubicBezTo>
              </a:path>
              <a:path w="1365" h="671">
                <a:moveTo>
                  <a:pt x="13345" y="8558"/>
                </a:moveTo>
                <a:cubicBezTo>
                  <a:pt x="13209" y="8657"/>
                  <a:pt x="12953" y="8817"/>
                  <a:pt x="12824" y="8954"/>
                </a:cubicBezTo>
                <a:cubicBezTo>
                  <a:pt x="12788" y="8993"/>
                  <a:pt x="12779" y="9059"/>
                  <a:pt x="12750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8"/>
          <p:cNvSpPr/>
          <p:nvPr/>
        </p:nvSpPr>
        <p:spPr>
          <a:xfrm>
            <a:off x="5732640" y="3054240"/>
            <a:ext cx="1393560" cy="320760"/>
          </a:xfrm>
          <a:custGeom>
            <a:avLst/>
            <a:gdLst/>
            <a:ahLst/>
            <a:rect l="l" t="t" r="r" b="b"/>
            <a:pathLst>
              <a:path w="3870" h="894">
                <a:moveTo>
                  <a:pt x="16197" y="8582"/>
                </a:moveTo>
                <a:cubicBezTo>
                  <a:pt x="16197" y="8709"/>
                  <a:pt x="16189" y="8833"/>
                  <a:pt x="16197" y="8954"/>
                </a:cubicBezTo>
                <a:cubicBezTo>
                  <a:pt x="16201" y="9020"/>
                  <a:pt x="16197" y="9087"/>
                  <a:pt x="16197" y="9153"/>
                </a:cubicBezTo>
              </a:path>
              <a:path w="3870" h="894">
                <a:moveTo>
                  <a:pt x="15925" y="8731"/>
                </a:moveTo>
                <a:cubicBezTo>
                  <a:pt x="15998" y="8776"/>
                  <a:pt x="16108" y="8756"/>
                  <a:pt x="16197" y="8756"/>
                </a:cubicBezTo>
                <a:cubicBezTo>
                  <a:pt x="16328" y="8756"/>
                  <a:pt x="16439" y="8747"/>
                  <a:pt x="16570" y="8731"/>
                </a:cubicBezTo>
              </a:path>
              <a:path w="3870" h="894">
                <a:moveTo>
                  <a:pt x="16818" y="8558"/>
                </a:moveTo>
                <a:cubicBezTo>
                  <a:pt x="16888" y="8687"/>
                  <a:pt x="16946" y="8863"/>
                  <a:pt x="17041" y="8979"/>
                </a:cubicBezTo>
                <a:cubicBezTo>
                  <a:pt x="17126" y="9083"/>
                  <a:pt x="17217" y="9160"/>
                  <a:pt x="17314" y="9252"/>
                </a:cubicBezTo>
                <a:cubicBezTo>
                  <a:pt x="17354" y="9293"/>
                  <a:pt x="17384" y="9307"/>
                  <a:pt x="17438" y="9302"/>
                </a:cubicBezTo>
              </a:path>
              <a:path w="3870" h="894">
                <a:moveTo>
                  <a:pt x="17264" y="8558"/>
                </a:moveTo>
                <a:cubicBezTo>
                  <a:pt x="17108" y="8692"/>
                  <a:pt x="16950" y="8842"/>
                  <a:pt x="16818" y="8979"/>
                </a:cubicBezTo>
                <a:cubicBezTo>
                  <a:pt x="16759" y="9041"/>
                  <a:pt x="16711" y="9152"/>
                  <a:pt x="16669" y="9227"/>
                </a:cubicBezTo>
                <a:cubicBezTo>
                  <a:pt x="16649" y="9268"/>
                  <a:pt x="16651" y="9284"/>
                  <a:pt x="16619" y="9277"/>
                </a:cubicBezTo>
              </a:path>
              <a:path w="3870" h="894">
                <a:moveTo>
                  <a:pt x="17587" y="8880"/>
                </a:moveTo>
                <a:cubicBezTo>
                  <a:pt x="17803" y="8900"/>
                  <a:pt x="17838" y="8922"/>
                  <a:pt x="17959" y="8880"/>
                </a:cubicBezTo>
              </a:path>
              <a:path w="3870" h="894">
                <a:moveTo>
                  <a:pt x="18405" y="8533"/>
                </a:moveTo>
                <a:cubicBezTo>
                  <a:pt x="18562" y="8495"/>
                  <a:pt x="18650" y="8465"/>
                  <a:pt x="18777" y="8582"/>
                </a:cubicBezTo>
                <a:cubicBezTo>
                  <a:pt x="18785" y="8590"/>
                  <a:pt x="18794" y="8599"/>
                  <a:pt x="18802" y="8607"/>
                </a:cubicBezTo>
                <a:cubicBezTo>
                  <a:pt x="18754" y="8684"/>
                  <a:pt x="18693" y="8741"/>
                  <a:pt x="18628" y="8806"/>
                </a:cubicBezTo>
                <a:cubicBezTo>
                  <a:pt x="18560" y="8874"/>
                  <a:pt x="18469" y="8939"/>
                  <a:pt x="18430" y="9029"/>
                </a:cubicBezTo>
                <a:cubicBezTo>
                  <a:pt x="18397" y="9104"/>
                  <a:pt x="18406" y="9159"/>
                  <a:pt x="18430" y="9227"/>
                </a:cubicBezTo>
                <a:cubicBezTo>
                  <a:pt x="18461" y="9314"/>
                  <a:pt x="18669" y="9330"/>
                  <a:pt x="18752" y="9302"/>
                </a:cubicBezTo>
                <a:cubicBezTo>
                  <a:pt x="18831" y="9249"/>
                  <a:pt x="18859" y="9229"/>
                  <a:pt x="18901" y="9178"/>
                </a:cubicBezTo>
              </a:path>
              <a:path w="3870" h="894">
                <a:moveTo>
                  <a:pt x="19224" y="8706"/>
                </a:moveTo>
                <a:cubicBezTo>
                  <a:pt x="19184" y="8794"/>
                  <a:pt x="19054" y="8955"/>
                  <a:pt x="19075" y="9054"/>
                </a:cubicBezTo>
                <a:cubicBezTo>
                  <a:pt x="19106" y="9197"/>
                  <a:pt x="19222" y="9348"/>
                  <a:pt x="19372" y="9376"/>
                </a:cubicBezTo>
                <a:cubicBezTo>
                  <a:pt x="19516" y="9403"/>
                  <a:pt x="19593" y="9344"/>
                  <a:pt x="19695" y="9252"/>
                </a:cubicBezTo>
                <a:cubicBezTo>
                  <a:pt x="19767" y="9187"/>
                  <a:pt x="19842" y="9102"/>
                  <a:pt x="19769" y="9004"/>
                </a:cubicBezTo>
                <a:cubicBezTo>
                  <a:pt x="19672" y="8875"/>
                  <a:pt x="19527" y="8795"/>
                  <a:pt x="19397" y="87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9"/>
          <p:cNvSpPr/>
          <p:nvPr/>
        </p:nvSpPr>
        <p:spPr>
          <a:xfrm>
            <a:off x="4473720" y="3500280"/>
            <a:ext cx="2278080" cy="527040"/>
          </a:xfrm>
          <a:custGeom>
            <a:avLst/>
            <a:gdLst/>
            <a:ahLst/>
            <a:rect l="l" t="t" r="r" b="b"/>
            <a:pathLst>
              <a:path w="6326" h="1465">
                <a:moveTo>
                  <a:pt x="12551" y="9996"/>
                </a:moveTo>
                <a:cubicBezTo>
                  <a:pt x="12507" y="10096"/>
                  <a:pt x="12464" y="10210"/>
                  <a:pt x="12452" y="10319"/>
                </a:cubicBezTo>
                <a:cubicBezTo>
                  <a:pt x="12435" y="10475"/>
                  <a:pt x="12422" y="10633"/>
                  <a:pt x="12452" y="10790"/>
                </a:cubicBezTo>
                <a:cubicBezTo>
                  <a:pt x="12463" y="10849"/>
                  <a:pt x="12538" y="10967"/>
                  <a:pt x="12601" y="10988"/>
                </a:cubicBezTo>
                <a:cubicBezTo>
                  <a:pt x="12660" y="11007"/>
                  <a:pt x="12741" y="11014"/>
                  <a:pt x="12799" y="10988"/>
                </a:cubicBezTo>
                <a:cubicBezTo>
                  <a:pt x="12881" y="10951"/>
                  <a:pt x="12979" y="10785"/>
                  <a:pt x="12998" y="10716"/>
                </a:cubicBezTo>
                <a:cubicBezTo>
                  <a:pt x="13030" y="10600"/>
                  <a:pt x="12985" y="10456"/>
                  <a:pt x="12973" y="10344"/>
                </a:cubicBezTo>
                <a:cubicBezTo>
                  <a:pt x="12961" y="10230"/>
                  <a:pt x="12900" y="10159"/>
                  <a:pt x="12824" y="10071"/>
                </a:cubicBezTo>
                <a:cubicBezTo>
                  <a:pt x="12763" y="10000"/>
                  <a:pt x="12662" y="9979"/>
                  <a:pt x="12576" y="9947"/>
                </a:cubicBezTo>
                <a:cubicBezTo>
                  <a:pt x="12501" y="9919"/>
                  <a:pt x="12487" y="9911"/>
                  <a:pt x="12427" y="9947"/>
                </a:cubicBezTo>
              </a:path>
              <a:path w="6326" h="1465">
                <a:moveTo>
                  <a:pt x="13171" y="10071"/>
                </a:moveTo>
                <a:cubicBezTo>
                  <a:pt x="13304" y="10071"/>
                  <a:pt x="13353" y="10085"/>
                  <a:pt x="13469" y="10120"/>
                </a:cubicBezTo>
                <a:cubicBezTo>
                  <a:pt x="13477" y="10120"/>
                  <a:pt x="13486" y="10120"/>
                  <a:pt x="13494" y="10120"/>
                </a:cubicBezTo>
              </a:path>
              <a:path w="6326" h="1465">
                <a:moveTo>
                  <a:pt x="13320" y="10517"/>
                </a:moveTo>
                <a:cubicBezTo>
                  <a:pt x="13504" y="10552"/>
                  <a:pt x="13577" y="10536"/>
                  <a:pt x="13767" y="10492"/>
                </a:cubicBezTo>
              </a:path>
              <a:path w="6326" h="1465">
                <a:moveTo>
                  <a:pt x="14213" y="10145"/>
                </a:moveTo>
                <a:cubicBezTo>
                  <a:pt x="14250" y="10304"/>
                  <a:pt x="14272" y="10503"/>
                  <a:pt x="14362" y="10641"/>
                </a:cubicBezTo>
                <a:cubicBezTo>
                  <a:pt x="14455" y="10785"/>
                  <a:pt x="14603" y="10957"/>
                  <a:pt x="14759" y="11038"/>
                </a:cubicBezTo>
                <a:cubicBezTo>
                  <a:pt x="14826" y="11061"/>
                  <a:pt x="14844" y="11066"/>
                  <a:pt x="14883" y="11088"/>
                </a:cubicBezTo>
              </a:path>
              <a:path w="6326" h="1465">
                <a:moveTo>
                  <a:pt x="14610" y="10096"/>
                </a:moveTo>
                <a:cubicBezTo>
                  <a:pt x="14500" y="10255"/>
                  <a:pt x="14398" y="10405"/>
                  <a:pt x="14312" y="10567"/>
                </a:cubicBezTo>
                <a:cubicBezTo>
                  <a:pt x="14248" y="10686"/>
                  <a:pt x="14182" y="10790"/>
                  <a:pt x="14139" y="10914"/>
                </a:cubicBezTo>
                <a:cubicBezTo>
                  <a:pt x="14122" y="10962"/>
                  <a:pt x="14114" y="11064"/>
                  <a:pt x="14114" y="11013"/>
                </a:cubicBezTo>
              </a:path>
              <a:path w="6326" h="1465">
                <a:moveTo>
                  <a:pt x="14709" y="9773"/>
                </a:moveTo>
                <a:cubicBezTo>
                  <a:pt x="14765" y="9756"/>
                  <a:pt x="14949" y="9671"/>
                  <a:pt x="15007" y="9773"/>
                </a:cubicBezTo>
                <a:cubicBezTo>
                  <a:pt x="15041" y="9833"/>
                  <a:pt x="14971" y="9936"/>
                  <a:pt x="14932" y="9971"/>
                </a:cubicBezTo>
                <a:cubicBezTo>
                  <a:pt x="14873" y="10023"/>
                  <a:pt x="14798" y="10053"/>
                  <a:pt x="14734" y="10096"/>
                </a:cubicBezTo>
                <a:cubicBezTo>
                  <a:pt x="14789" y="10173"/>
                  <a:pt x="14814" y="10170"/>
                  <a:pt x="14908" y="10170"/>
                </a:cubicBezTo>
                <a:cubicBezTo>
                  <a:pt x="15010" y="10170"/>
                  <a:pt x="15082" y="10147"/>
                  <a:pt x="15180" y="10120"/>
                </a:cubicBezTo>
              </a:path>
              <a:path w="6326" h="1465">
                <a:moveTo>
                  <a:pt x="15478" y="10170"/>
                </a:moveTo>
                <a:cubicBezTo>
                  <a:pt x="15456" y="10361"/>
                  <a:pt x="15427" y="10531"/>
                  <a:pt x="15453" y="10716"/>
                </a:cubicBezTo>
                <a:cubicBezTo>
                  <a:pt x="15453" y="10760"/>
                  <a:pt x="15450" y="10774"/>
                  <a:pt x="15478" y="10790"/>
                </a:cubicBezTo>
              </a:path>
              <a:path w="6326" h="1465">
                <a:moveTo>
                  <a:pt x="15180" y="10443"/>
                </a:moveTo>
                <a:cubicBezTo>
                  <a:pt x="15326" y="10509"/>
                  <a:pt x="15460" y="10575"/>
                  <a:pt x="15627" y="10542"/>
                </a:cubicBezTo>
                <a:cubicBezTo>
                  <a:pt x="15685" y="10525"/>
                  <a:pt x="15743" y="10509"/>
                  <a:pt x="15801" y="10492"/>
                </a:cubicBezTo>
              </a:path>
              <a:path w="6326" h="1465">
                <a:moveTo>
                  <a:pt x="16073" y="10244"/>
                </a:moveTo>
                <a:cubicBezTo>
                  <a:pt x="16154" y="10428"/>
                  <a:pt x="16212" y="10646"/>
                  <a:pt x="16321" y="10815"/>
                </a:cubicBezTo>
                <a:cubicBezTo>
                  <a:pt x="16366" y="10884"/>
                  <a:pt x="16520" y="11081"/>
                  <a:pt x="16594" y="11112"/>
                </a:cubicBezTo>
                <a:cubicBezTo>
                  <a:pt x="16644" y="11120"/>
                  <a:pt x="16693" y="11129"/>
                  <a:pt x="16743" y="11137"/>
                </a:cubicBezTo>
              </a:path>
              <a:path w="6326" h="1465">
                <a:moveTo>
                  <a:pt x="16495" y="10220"/>
                </a:moveTo>
                <a:cubicBezTo>
                  <a:pt x="16319" y="10387"/>
                  <a:pt x="16201" y="10529"/>
                  <a:pt x="16073" y="10740"/>
                </a:cubicBezTo>
                <a:cubicBezTo>
                  <a:pt x="16025" y="10819"/>
                  <a:pt x="15946" y="10926"/>
                  <a:pt x="15925" y="11013"/>
                </a:cubicBezTo>
                <a:cubicBezTo>
                  <a:pt x="15925" y="11058"/>
                  <a:pt x="15921" y="11071"/>
                  <a:pt x="15949" y="11088"/>
                </a:cubicBezTo>
              </a:path>
              <a:path w="6326" h="1465">
                <a:moveTo>
                  <a:pt x="16669" y="10616"/>
                </a:moveTo>
                <a:cubicBezTo>
                  <a:pt x="16803" y="10621"/>
                  <a:pt x="16897" y="10636"/>
                  <a:pt x="17016" y="10616"/>
                </a:cubicBezTo>
              </a:path>
              <a:path w="6326" h="1465">
                <a:moveTo>
                  <a:pt x="17264" y="10269"/>
                </a:moveTo>
                <a:cubicBezTo>
                  <a:pt x="17340" y="10219"/>
                  <a:pt x="17436" y="10192"/>
                  <a:pt x="17537" y="10220"/>
                </a:cubicBezTo>
                <a:cubicBezTo>
                  <a:pt x="17684" y="10261"/>
                  <a:pt x="17704" y="10332"/>
                  <a:pt x="17611" y="10443"/>
                </a:cubicBezTo>
                <a:cubicBezTo>
                  <a:pt x="17544" y="10522"/>
                  <a:pt x="17451" y="10578"/>
                  <a:pt x="17388" y="10641"/>
                </a:cubicBezTo>
                <a:cubicBezTo>
                  <a:pt x="17348" y="10681"/>
                  <a:pt x="17249" y="10802"/>
                  <a:pt x="17264" y="10864"/>
                </a:cubicBezTo>
                <a:cubicBezTo>
                  <a:pt x="17283" y="10945"/>
                  <a:pt x="17317" y="10977"/>
                  <a:pt x="17388" y="10988"/>
                </a:cubicBezTo>
                <a:cubicBezTo>
                  <a:pt x="17548" y="11014"/>
                  <a:pt x="17646" y="11032"/>
                  <a:pt x="17785" y="10939"/>
                </a:cubicBezTo>
                <a:cubicBezTo>
                  <a:pt x="17818" y="10914"/>
                  <a:pt x="17851" y="10889"/>
                  <a:pt x="17884" y="10864"/>
                </a:cubicBezTo>
              </a:path>
              <a:path w="6326" h="1465">
                <a:moveTo>
                  <a:pt x="18132" y="10368"/>
                </a:moveTo>
                <a:cubicBezTo>
                  <a:pt x="18072" y="10297"/>
                  <a:pt x="18026" y="10311"/>
                  <a:pt x="17959" y="10393"/>
                </a:cubicBezTo>
                <a:cubicBezTo>
                  <a:pt x="17866" y="10507"/>
                  <a:pt x="17841" y="10677"/>
                  <a:pt x="17884" y="10815"/>
                </a:cubicBezTo>
                <a:cubicBezTo>
                  <a:pt x="17917" y="10922"/>
                  <a:pt x="18044" y="11059"/>
                  <a:pt x="18132" y="11112"/>
                </a:cubicBezTo>
                <a:cubicBezTo>
                  <a:pt x="18343" y="11239"/>
                  <a:pt x="18459" y="11194"/>
                  <a:pt x="18653" y="11013"/>
                </a:cubicBezTo>
                <a:cubicBezTo>
                  <a:pt x="18776" y="10899"/>
                  <a:pt x="18741" y="10663"/>
                  <a:pt x="18703" y="10542"/>
                </a:cubicBezTo>
                <a:cubicBezTo>
                  <a:pt x="18659" y="10400"/>
                  <a:pt x="18488" y="10317"/>
                  <a:pt x="18355" y="10269"/>
                </a:cubicBezTo>
                <a:cubicBezTo>
                  <a:pt x="18246" y="10241"/>
                  <a:pt x="18203" y="10229"/>
                  <a:pt x="18132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0"/>
          <p:cNvSpPr/>
          <p:nvPr/>
        </p:nvSpPr>
        <p:spPr>
          <a:xfrm>
            <a:off x="4510080" y="4160880"/>
            <a:ext cx="438120" cy="304920"/>
          </a:xfrm>
          <a:custGeom>
            <a:avLst/>
            <a:gdLst/>
            <a:ahLst/>
            <a:rect l="l" t="t" r="r" b="b"/>
            <a:pathLst>
              <a:path w="1217" h="844">
                <a:moveTo>
                  <a:pt x="12774" y="11584"/>
                </a:moveTo>
                <a:cubicBezTo>
                  <a:pt x="12679" y="11734"/>
                  <a:pt x="12605" y="11862"/>
                  <a:pt x="12551" y="12030"/>
                </a:cubicBezTo>
                <a:cubicBezTo>
                  <a:pt x="12514" y="12143"/>
                  <a:pt x="12525" y="12201"/>
                  <a:pt x="12576" y="12303"/>
                </a:cubicBezTo>
                <a:cubicBezTo>
                  <a:pt x="12623" y="12396"/>
                  <a:pt x="12653" y="12402"/>
                  <a:pt x="12750" y="12402"/>
                </a:cubicBezTo>
                <a:cubicBezTo>
                  <a:pt x="12819" y="12402"/>
                  <a:pt x="12891" y="12294"/>
                  <a:pt x="12923" y="12229"/>
                </a:cubicBezTo>
                <a:cubicBezTo>
                  <a:pt x="12979" y="12117"/>
                  <a:pt x="12977" y="11900"/>
                  <a:pt x="12923" y="11782"/>
                </a:cubicBezTo>
                <a:cubicBezTo>
                  <a:pt x="12894" y="11719"/>
                  <a:pt x="12797" y="11604"/>
                  <a:pt x="12725" y="11584"/>
                </a:cubicBezTo>
                <a:cubicBezTo>
                  <a:pt x="12658" y="11565"/>
                  <a:pt x="12610" y="11569"/>
                  <a:pt x="12551" y="11584"/>
                </a:cubicBezTo>
              </a:path>
              <a:path w="1217" h="844">
                <a:moveTo>
                  <a:pt x="13345" y="11683"/>
                </a:moveTo>
                <a:cubicBezTo>
                  <a:pt x="13455" y="11700"/>
                  <a:pt x="13542" y="11720"/>
                  <a:pt x="13643" y="11733"/>
                </a:cubicBezTo>
              </a:path>
              <a:path w="1217" h="844">
                <a:moveTo>
                  <a:pt x="13469" y="12080"/>
                </a:moveTo>
                <a:cubicBezTo>
                  <a:pt x="13590" y="12096"/>
                  <a:pt x="13621" y="12088"/>
                  <a:pt x="13742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1"/>
          <p:cNvSpPr/>
          <p:nvPr/>
        </p:nvSpPr>
        <p:spPr>
          <a:xfrm>
            <a:off x="5143680" y="4125960"/>
            <a:ext cx="1741320" cy="588960"/>
          </a:xfrm>
          <a:custGeom>
            <a:avLst/>
            <a:gdLst/>
            <a:ahLst/>
            <a:rect l="l" t="t" r="r" b="b"/>
            <a:pathLst>
              <a:path w="4837" h="1638">
                <a:moveTo>
                  <a:pt x="14585" y="11460"/>
                </a:moveTo>
                <a:cubicBezTo>
                  <a:pt x="14494" y="11543"/>
                  <a:pt x="14384" y="11687"/>
                  <a:pt x="14337" y="11807"/>
                </a:cubicBezTo>
                <a:cubicBezTo>
                  <a:pt x="14285" y="11938"/>
                  <a:pt x="14249" y="12171"/>
                  <a:pt x="14312" y="12303"/>
                </a:cubicBezTo>
                <a:cubicBezTo>
                  <a:pt x="14375" y="12436"/>
                  <a:pt x="14562" y="12515"/>
                  <a:pt x="14684" y="12576"/>
                </a:cubicBezTo>
              </a:path>
              <a:path w="4837" h="1638">
                <a:moveTo>
                  <a:pt x="16991" y="11757"/>
                </a:moveTo>
                <a:cubicBezTo>
                  <a:pt x="17036" y="12014"/>
                  <a:pt x="17146" y="12355"/>
                  <a:pt x="17066" y="12626"/>
                </a:cubicBezTo>
                <a:cubicBezTo>
                  <a:pt x="17036" y="12728"/>
                  <a:pt x="16954" y="12909"/>
                  <a:pt x="16867" y="12973"/>
                </a:cubicBezTo>
                <a:cubicBezTo>
                  <a:pt x="16791" y="13011"/>
                  <a:pt x="16776" y="13045"/>
                  <a:pt x="16743" y="12998"/>
                </a:cubicBezTo>
              </a:path>
              <a:path w="4837" h="1638">
                <a:moveTo>
                  <a:pt x="17264" y="11857"/>
                </a:moveTo>
                <a:cubicBezTo>
                  <a:pt x="17172" y="12077"/>
                  <a:pt x="17036" y="12284"/>
                  <a:pt x="17165" y="12526"/>
                </a:cubicBezTo>
                <a:cubicBezTo>
                  <a:pt x="17284" y="12748"/>
                  <a:pt x="17524" y="12931"/>
                  <a:pt x="17735" y="13047"/>
                </a:cubicBezTo>
              </a:path>
              <a:path w="4837" h="1638">
                <a:moveTo>
                  <a:pt x="14858" y="11857"/>
                </a:moveTo>
                <a:cubicBezTo>
                  <a:pt x="14911" y="12042"/>
                  <a:pt x="14971" y="12253"/>
                  <a:pt x="15106" y="12402"/>
                </a:cubicBezTo>
                <a:cubicBezTo>
                  <a:pt x="15186" y="12490"/>
                  <a:pt x="15307" y="12562"/>
                  <a:pt x="15404" y="12626"/>
                </a:cubicBezTo>
              </a:path>
              <a:path w="4837" h="1638">
                <a:moveTo>
                  <a:pt x="15156" y="12055"/>
                </a:moveTo>
                <a:cubicBezTo>
                  <a:pt x="14990" y="12253"/>
                  <a:pt x="14824" y="12453"/>
                  <a:pt x="14660" y="12650"/>
                </a:cubicBezTo>
                <a:cubicBezTo>
                  <a:pt x="14630" y="12686"/>
                  <a:pt x="14626" y="12708"/>
                  <a:pt x="14610" y="12675"/>
                </a:cubicBezTo>
              </a:path>
              <a:path w="4837" h="1638">
                <a:moveTo>
                  <a:pt x="17314" y="12254"/>
                </a:moveTo>
                <a:cubicBezTo>
                  <a:pt x="17476" y="12416"/>
                  <a:pt x="17630" y="12591"/>
                  <a:pt x="17835" y="12700"/>
                </a:cubicBezTo>
                <a:cubicBezTo>
                  <a:pt x="17860" y="12708"/>
                  <a:pt x="17884" y="12717"/>
                  <a:pt x="17909" y="12725"/>
                </a:cubicBezTo>
              </a:path>
              <a:path w="4837" h="1638">
                <a:moveTo>
                  <a:pt x="17735" y="12055"/>
                </a:moveTo>
                <a:cubicBezTo>
                  <a:pt x="17574" y="12299"/>
                  <a:pt x="17401" y="12514"/>
                  <a:pt x="17239" y="12750"/>
                </a:cubicBezTo>
              </a:path>
              <a:path w="4837" h="1638">
                <a:moveTo>
                  <a:pt x="15602" y="12030"/>
                </a:moveTo>
                <a:cubicBezTo>
                  <a:pt x="15602" y="12155"/>
                  <a:pt x="15579" y="12309"/>
                  <a:pt x="15627" y="12427"/>
                </a:cubicBezTo>
                <a:cubicBezTo>
                  <a:pt x="15650" y="12450"/>
                  <a:pt x="15658" y="12454"/>
                  <a:pt x="15652" y="12477"/>
                </a:cubicBezTo>
              </a:path>
              <a:path w="4837" h="1638">
                <a:moveTo>
                  <a:pt x="15354" y="12080"/>
                </a:moveTo>
                <a:cubicBezTo>
                  <a:pt x="15476" y="12141"/>
                  <a:pt x="15587" y="12165"/>
                  <a:pt x="15726" y="12179"/>
                </a:cubicBezTo>
                <a:cubicBezTo>
                  <a:pt x="15751" y="12179"/>
                  <a:pt x="15776" y="12179"/>
                  <a:pt x="15801" y="12179"/>
                </a:cubicBezTo>
              </a:path>
              <a:path w="4837" h="1638">
                <a:moveTo>
                  <a:pt x="16173" y="11881"/>
                </a:moveTo>
                <a:cubicBezTo>
                  <a:pt x="16247" y="11881"/>
                  <a:pt x="16322" y="11881"/>
                  <a:pt x="16396" y="11881"/>
                </a:cubicBezTo>
              </a:path>
              <a:path w="4837" h="1638">
                <a:moveTo>
                  <a:pt x="16049" y="11857"/>
                </a:moveTo>
                <a:cubicBezTo>
                  <a:pt x="16014" y="11917"/>
                  <a:pt x="15972" y="11979"/>
                  <a:pt x="15999" y="12055"/>
                </a:cubicBezTo>
                <a:cubicBezTo>
                  <a:pt x="16007" y="12063"/>
                  <a:pt x="16016" y="12072"/>
                  <a:pt x="16024" y="12080"/>
                </a:cubicBezTo>
                <a:cubicBezTo>
                  <a:pt x="16116" y="12070"/>
                  <a:pt x="16161" y="12066"/>
                  <a:pt x="16247" y="12080"/>
                </a:cubicBezTo>
                <a:cubicBezTo>
                  <a:pt x="16350" y="12097"/>
                  <a:pt x="16342" y="12151"/>
                  <a:pt x="16396" y="12229"/>
                </a:cubicBezTo>
                <a:cubicBezTo>
                  <a:pt x="16441" y="12294"/>
                  <a:pt x="16431" y="12403"/>
                  <a:pt x="16396" y="12477"/>
                </a:cubicBezTo>
                <a:cubicBezTo>
                  <a:pt x="16366" y="12540"/>
                  <a:pt x="16231" y="12571"/>
                  <a:pt x="16173" y="12576"/>
                </a:cubicBezTo>
                <a:cubicBezTo>
                  <a:pt x="16127" y="12580"/>
                  <a:pt x="16017" y="12547"/>
                  <a:pt x="16024" y="12477"/>
                </a:cubicBezTo>
                <a:cubicBezTo>
                  <a:pt x="16032" y="12469"/>
                  <a:pt x="16041" y="12460"/>
                  <a:pt x="16049" y="12452"/>
                </a:cubicBezTo>
              </a:path>
              <a:path w="4837" h="1638">
                <a:moveTo>
                  <a:pt x="18157" y="12278"/>
                </a:moveTo>
                <a:cubicBezTo>
                  <a:pt x="18281" y="12278"/>
                  <a:pt x="18405" y="12278"/>
                  <a:pt x="18529" y="12278"/>
                </a:cubicBezTo>
              </a:path>
              <a:path w="4837" h="1638">
                <a:moveTo>
                  <a:pt x="18901" y="12080"/>
                </a:moveTo>
                <a:cubicBezTo>
                  <a:pt x="18875" y="12142"/>
                  <a:pt x="18808" y="12256"/>
                  <a:pt x="18827" y="12328"/>
                </a:cubicBezTo>
                <a:cubicBezTo>
                  <a:pt x="18849" y="12411"/>
                  <a:pt x="18936" y="12428"/>
                  <a:pt x="19000" y="12452"/>
                </a:cubicBezTo>
                <a:cubicBezTo>
                  <a:pt x="19048" y="12476"/>
                  <a:pt x="19063" y="12484"/>
                  <a:pt x="19100" y="12477"/>
                </a:cubicBezTo>
              </a:path>
              <a:path w="4837" h="1638">
                <a:moveTo>
                  <a:pt x="19124" y="11757"/>
                </a:moveTo>
                <a:cubicBezTo>
                  <a:pt x="19046" y="11993"/>
                  <a:pt x="18992" y="12231"/>
                  <a:pt x="18951" y="12477"/>
                </a:cubicBezTo>
                <a:cubicBezTo>
                  <a:pt x="18917" y="12750"/>
                  <a:pt x="18899" y="12890"/>
                  <a:pt x="18876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2"/>
          <p:cNvSpPr/>
          <p:nvPr/>
        </p:nvSpPr>
        <p:spPr>
          <a:xfrm>
            <a:off x="7072200" y="4313160"/>
            <a:ext cx="169920" cy="438120"/>
          </a:xfrm>
          <a:custGeom>
            <a:avLst/>
            <a:gdLst/>
            <a:ahLst/>
            <a:rect l="l" t="t" r="r" b="b"/>
            <a:pathLst>
              <a:path w="473" h="1216">
                <a:moveTo>
                  <a:pt x="20017" y="11981"/>
                </a:moveTo>
                <a:cubicBezTo>
                  <a:pt x="20115" y="12339"/>
                  <a:pt x="20115" y="12493"/>
                  <a:pt x="20042" y="12849"/>
                </a:cubicBezTo>
                <a:cubicBezTo>
                  <a:pt x="20013" y="12989"/>
                  <a:pt x="19987" y="13130"/>
                  <a:pt x="19819" y="13171"/>
                </a:cubicBezTo>
                <a:cubicBezTo>
                  <a:pt x="19761" y="13179"/>
                  <a:pt x="19703" y="13188"/>
                  <a:pt x="19645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Radical Equ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quations with one or more square root symbols in i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1d1cb"/>
                </a:solidFill>
                <a:latin typeface="Arial"/>
              </a:rPr>
              <a:t>Most radical equations are solved by isolating the square root to one side of the equation and then squaring both sides</a:t>
            </a:r>
            <a:endParaRPr b="0" lang="en-US" sz="55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d1d1cb"/>
                </a:solidFill>
                <a:latin typeface="Arial"/>
              </a:rPr>
              <a:t>EXAMPLES</a:t>
            </a:r>
            <a:endParaRPr b="0" lang="en-US" sz="85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Ink 3"/>
          <p:cNvSpPr/>
          <p:nvPr/>
        </p:nvSpPr>
        <p:spPr>
          <a:xfrm>
            <a:off x="1062000" y="650088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952" y="18058"/>
                </a:moveTo>
                <a:cubicBezTo>
                  <a:pt x="2952" y="18066"/>
                  <a:pt x="2952" y="18075"/>
                  <a:pt x="2952" y="180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2819520" y="1066680"/>
          <a:ext cx="396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066680"/>
                    <a:ext cx="396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Ink 4"/>
          <p:cNvSpPr/>
          <p:nvPr/>
        </p:nvSpPr>
        <p:spPr>
          <a:xfrm>
            <a:off x="5340240" y="839880"/>
            <a:ext cx="142920" cy="3031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14982" y="2555"/>
                </a:moveTo>
                <a:cubicBezTo>
                  <a:pt x="14966" y="2522"/>
                  <a:pt x="14964" y="2428"/>
                  <a:pt x="15007" y="2381"/>
                </a:cubicBezTo>
                <a:cubicBezTo>
                  <a:pt x="15055" y="2328"/>
                  <a:pt x="15121" y="2320"/>
                  <a:pt x="15180" y="2356"/>
                </a:cubicBezTo>
                <a:cubicBezTo>
                  <a:pt x="15242" y="2394"/>
                  <a:pt x="15230" y="2470"/>
                  <a:pt x="15230" y="2530"/>
                </a:cubicBezTo>
                <a:cubicBezTo>
                  <a:pt x="15230" y="2654"/>
                  <a:pt x="15243" y="2783"/>
                  <a:pt x="15205" y="2902"/>
                </a:cubicBezTo>
                <a:cubicBezTo>
                  <a:pt x="15179" y="2983"/>
                  <a:pt x="15138" y="3026"/>
                  <a:pt x="15081" y="3076"/>
                </a:cubicBezTo>
                <a:cubicBezTo>
                  <a:pt x="15010" y="3139"/>
                  <a:pt x="15010" y="3161"/>
                  <a:pt x="14932" y="3150"/>
                </a:cubicBezTo>
                <a:cubicBezTo>
                  <a:pt x="14852" y="3139"/>
                  <a:pt x="14852" y="3107"/>
                  <a:pt x="14833" y="3026"/>
                </a:cubicBezTo>
                <a:cubicBezTo>
                  <a:pt x="14821" y="2976"/>
                  <a:pt x="14829" y="2910"/>
                  <a:pt x="14883" y="2902"/>
                </a:cubicBezTo>
                <a:cubicBezTo>
                  <a:pt x="14969" y="2889"/>
                  <a:pt x="14986" y="2895"/>
                  <a:pt x="15032" y="2952"/>
                </a:cubicBezTo>
                <a:cubicBezTo>
                  <a:pt x="15051" y="2976"/>
                  <a:pt x="15089" y="3101"/>
                  <a:pt x="15106" y="3101"/>
                </a:cubicBezTo>
                <a:cubicBezTo>
                  <a:pt x="15114" y="3093"/>
                  <a:pt x="15123" y="3084"/>
                  <a:pt x="15131" y="30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6643800" y="928800"/>
            <a:ext cx="322200" cy="30312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18579" y="2803"/>
                </a:moveTo>
                <a:cubicBezTo>
                  <a:pt x="18554" y="2836"/>
                  <a:pt x="18529" y="2869"/>
                  <a:pt x="18504" y="2902"/>
                </a:cubicBezTo>
                <a:cubicBezTo>
                  <a:pt x="18544" y="2862"/>
                  <a:pt x="18527" y="2853"/>
                  <a:pt x="18554" y="2803"/>
                </a:cubicBezTo>
                <a:cubicBezTo>
                  <a:pt x="18566" y="2781"/>
                  <a:pt x="18638" y="2692"/>
                  <a:pt x="18653" y="2679"/>
                </a:cubicBezTo>
                <a:cubicBezTo>
                  <a:pt x="18680" y="2656"/>
                  <a:pt x="18771" y="2588"/>
                  <a:pt x="18802" y="2580"/>
                </a:cubicBezTo>
                <a:cubicBezTo>
                  <a:pt x="18875" y="2561"/>
                  <a:pt x="18961" y="2636"/>
                  <a:pt x="18976" y="2704"/>
                </a:cubicBezTo>
                <a:cubicBezTo>
                  <a:pt x="18995" y="2791"/>
                  <a:pt x="19000" y="2886"/>
                  <a:pt x="19000" y="2977"/>
                </a:cubicBezTo>
                <a:cubicBezTo>
                  <a:pt x="19000" y="3058"/>
                  <a:pt x="18973" y="3179"/>
                  <a:pt x="18926" y="3249"/>
                </a:cubicBezTo>
                <a:cubicBezTo>
                  <a:pt x="18887" y="3308"/>
                  <a:pt x="18813" y="3365"/>
                  <a:pt x="18752" y="3398"/>
                </a:cubicBezTo>
                <a:cubicBezTo>
                  <a:pt x="18701" y="3425"/>
                  <a:pt x="18613" y="3439"/>
                  <a:pt x="18554" y="3423"/>
                </a:cubicBezTo>
                <a:cubicBezTo>
                  <a:pt x="18469" y="3399"/>
                  <a:pt x="18459" y="3349"/>
                  <a:pt x="18455" y="3274"/>
                </a:cubicBezTo>
                <a:cubicBezTo>
                  <a:pt x="18451" y="3201"/>
                  <a:pt x="18487" y="3178"/>
                  <a:pt x="18554" y="3175"/>
                </a:cubicBezTo>
                <a:cubicBezTo>
                  <a:pt x="18620" y="3172"/>
                  <a:pt x="18719" y="3172"/>
                  <a:pt x="18777" y="3200"/>
                </a:cubicBezTo>
                <a:cubicBezTo>
                  <a:pt x="18864" y="3241"/>
                  <a:pt x="18938" y="3279"/>
                  <a:pt x="19025" y="3299"/>
                </a:cubicBezTo>
                <a:cubicBezTo>
                  <a:pt x="19104" y="3317"/>
                  <a:pt x="19215" y="3344"/>
                  <a:pt x="19298" y="3324"/>
                </a:cubicBezTo>
                <a:cubicBezTo>
                  <a:pt x="19348" y="3299"/>
                  <a:pt x="19365" y="3291"/>
                  <a:pt x="19323" y="32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3990960" y="2303640"/>
            <a:ext cx="2268720" cy="580680"/>
          </a:xfrm>
          <a:custGeom>
            <a:avLst/>
            <a:gdLst/>
            <a:ahLst/>
            <a:rect l="l" t="t" r="r" b="b"/>
            <a:pathLst>
              <a:path w="6301" h="1613">
                <a:moveTo>
                  <a:pt x="11212" y="6697"/>
                </a:moveTo>
                <a:cubicBezTo>
                  <a:pt x="11220" y="6751"/>
                  <a:pt x="11254" y="6799"/>
                  <a:pt x="11261" y="6846"/>
                </a:cubicBezTo>
                <a:cubicBezTo>
                  <a:pt x="11272" y="6923"/>
                  <a:pt x="11291" y="7022"/>
                  <a:pt x="11336" y="7094"/>
                </a:cubicBezTo>
                <a:cubicBezTo>
                  <a:pt x="11405" y="7203"/>
                  <a:pt x="11521" y="7317"/>
                  <a:pt x="11609" y="7417"/>
                </a:cubicBezTo>
                <a:cubicBezTo>
                  <a:pt x="11667" y="7483"/>
                  <a:pt x="11752" y="7528"/>
                  <a:pt x="11807" y="7590"/>
                </a:cubicBezTo>
                <a:cubicBezTo>
                  <a:pt x="11832" y="7640"/>
                  <a:pt x="11840" y="7656"/>
                  <a:pt x="11881" y="7665"/>
                </a:cubicBezTo>
              </a:path>
              <a:path w="6301" h="1613">
                <a:moveTo>
                  <a:pt x="11708" y="6648"/>
                </a:moveTo>
                <a:cubicBezTo>
                  <a:pt x="11698" y="6714"/>
                  <a:pt x="11642" y="6811"/>
                  <a:pt x="11609" y="6871"/>
                </a:cubicBezTo>
                <a:cubicBezTo>
                  <a:pt x="11568" y="6946"/>
                  <a:pt x="11498" y="7064"/>
                  <a:pt x="11435" y="7119"/>
                </a:cubicBezTo>
                <a:cubicBezTo>
                  <a:pt x="11339" y="7202"/>
                  <a:pt x="11331" y="7271"/>
                  <a:pt x="11261" y="7367"/>
                </a:cubicBezTo>
                <a:cubicBezTo>
                  <a:pt x="11209" y="7438"/>
                  <a:pt x="11159" y="7618"/>
                  <a:pt x="11088" y="7565"/>
                </a:cubicBezTo>
                <a:cubicBezTo>
                  <a:pt x="11088" y="7521"/>
                  <a:pt x="11085" y="7508"/>
                  <a:pt x="11112" y="7491"/>
                </a:cubicBezTo>
              </a:path>
              <a:path w="6301" h="1613">
                <a:moveTo>
                  <a:pt x="12080" y="7144"/>
                </a:moveTo>
                <a:cubicBezTo>
                  <a:pt x="12157" y="7154"/>
                  <a:pt x="12222" y="7169"/>
                  <a:pt x="12303" y="7169"/>
                </a:cubicBezTo>
                <a:cubicBezTo>
                  <a:pt x="12399" y="7169"/>
                  <a:pt x="12476" y="7193"/>
                  <a:pt x="12576" y="7193"/>
                </a:cubicBezTo>
                <a:cubicBezTo>
                  <a:pt x="12604" y="7193"/>
                  <a:pt x="12755" y="7249"/>
                  <a:pt x="12774" y="7218"/>
                </a:cubicBezTo>
                <a:cubicBezTo>
                  <a:pt x="12766" y="7210"/>
                  <a:pt x="12758" y="7201"/>
                  <a:pt x="12750" y="7193"/>
                </a:cubicBezTo>
              </a:path>
              <a:path w="6301" h="1613">
                <a:moveTo>
                  <a:pt x="12898" y="6846"/>
                </a:moveTo>
                <a:cubicBezTo>
                  <a:pt x="12981" y="6764"/>
                  <a:pt x="13020" y="6746"/>
                  <a:pt x="13122" y="6697"/>
                </a:cubicBezTo>
                <a:cubicBezTo>
                  <a:pt x="13200" y="6660"/>
                  <a:pt x="13249" y="6629"/>
                  <a:pt x="13345" y="6648"/>
                </a:cubicBezTo>
                <a:cubicBezTo>
                  <a:pt x="13426" y="6664"/>
                  <a:pt x="13465" y="6694"/>
                  <a:pt x="13469" y="6772"/>
                </a:cubicBezTo>
                <a:cubicBezTo>
                  <a:pt x="13473" y="6861"/>
                  <a:pt x="13433" y="6918"/>
                  <a:pt x="13395" y="6995"/>
                </a:cubicBezTo>
                <a:cubicBezTo>
                  <a:pt x="13354" y="7077"/>
                  <a:pt x="13311" y="7128"/>
                  <a:pt x="13246" y="7193"/>
                </a:cubicBezTo>
                <a:cubicBezTo>
                  <a:pt x="13167" y="7272"/>
                  <a:pt x="13114" y="7372"/>
                  <a:pt x="13022" y="7441"/>
                </a:cubicBezTo>
                <a:cubicBezTo>
                  <a:pt x="12968" y="7481"/>
                  <a:pt x="12934" y="7529"/>
                  <a:pt x="12874" y="7565"/>
                </a:cubicBezTo>
                <a:cubicBezTo>
                  <a:pt x="12830" y="7587"/>
                  <a:pt x="12818" y="7590"/>
                  <a:pt x="12799" y="7615"/>
                </a:cubicBezTo>
                <a:cubicBezTo>
                  <a:pt x="12854" y="7648"/>
                  <a:pt x="12954" y="7657"/>
                  <a:pt x="13022" y="7665"/>
                </a:cubicBezTo>
                <a:cubicBezTo>
                  <a:pt x="13161" y="7681"/>
                  <a:pt x="13306" y="7676"/>
                  <a:pt x="13444" y="7689"/>
                </a:cubicBezTo>
                <a:cubicBezTo>
                  <a:pt x="13522" y="7697"/>
                  <a:pt x="13629" y="7702"/>
                  <a:pt x="13692" y="7665"/>
                </a:cubicBezTo>
              </a:path>
              <a:path w="6301" h="1613">
                <a:moveTo>
                  <a:pt x="14288" y="7293"/>
                </a:moveTo>
                <a:cubicBezTo>
                  <a:pt x="14577" y="7293"/>
                  <a:pt x="15395" y="7293"/>
                  <a:pt x="15106" y="7293"/>
                </a:cubicBezTo>
              </a:path>
              <a:path w="6301" h="1613">
                <a:moveTo>
                  <a:pt x="14511" y="7441"/>
                </a:moveTo>
                <a:cubicBezTo>
                  <a:pt x="14568" y="7499"/>
                  <a:pt x="14602" y="7491"/>
                  <a:pt x="14684" y="7491"/>
                </a:cubicBezTo>
                <a:cubicBezTo>
                  <a:pt x="14940" y="7491"/>
                  <a:pt x="15197" y="7491"/>
                  <a:pt x="15453" y="7491"/>
                </a:cubicBezTo>
              </a:path>
              <a:path w="6301" h="1613">
                <a:moveTo>
                  <a:pt x="16247" y="6598"/>
                </a:moveTo>
                <a:cubicBezTo>
                  <a:pt x="16234" y="6700"/>
                  <a:pt x="16188" y="6777"/>
                  <a:pt x="16148" y="6871"/>
                </a:cubicBezTo>
                <a:cubicBezTo>
                  <a:pt x="16091" y="7003"/>
                  <a:pt x="16042" y="7128"/>
                  <a:pt x="15999" y="7268"/>
                </a:cubicBezTo>
                <a:cubicBezTo>
                  <a:pt x="15969" y="7368"/>
                  <a:pt x="15974" y="7461"/>
                  <a:pt x="15974" y="7565"/>
                </a:cubicBezTo>
                <a:cubicBezTo>
                  <a:pt x="15974" y="7645"/>
                  <a:pt x="15999" y="7703"/>
                  <a:pt x="16049" y="7764"/>
                </a:cubicBezTo>
                <a:cubicBezTo>
                  <a:pt x="16113" y="7842"/>
                  <a:pt x="16258" y="7856"/>
                  <a:pt x="16346" y="7813"/>
                </a:cubicBezTo>
                <a:cubicBezTo>
                  <a:pt x="16395" y="7789"/>
                  <a:pt x="16513" y="7708"/>
                  <a:pt x="16545" y="7665"/>
                </a:cubicBezTo>
                <a:cubicBezTo>
                  <a:pt x="16600" y="7591"/>
                  <a:pt x="16594" y="7503"/>
                  <a:pt x="16594" y="7417"/>
                </a:cubicBezTo>
                <a:cubicBezTo>
                  <a:pt x="16594" y="7326"/>
                  <a:pt x="16540" y="7301"/>
                  <a:pt x="16446" y="7317"/>
                </a:cubicBezTo>
                <a:cubicBezTo>
                  <a:pt x="16385" y="7328"/>
                  <a:pt x="16327" y="7421"/>
                  <a:pt x="16297" y="7466"/>
                </a:cubicBezTo>
                <a:cubicBezTo>
                  <a:pt x="16257" y="7527"/>
                  <a:pt x="16231" y="7594"/>
                  <a:pt x="16222" y="7665"/>
                </a:cubicBezTo>
                <a:cubicBezTo>
                  <a:pt x="16217" y="7707"/>
                  <a:pt x="16239" y="7830"/>
                  <a:pt x="16272" y="7863"/>
                </a:cubicBezTo>
                <a:cubicBezTo>
                  <a:pt x="16280" y="7863"/>
                  <a:pt x="16289" y="7863"/>
                  <a:pt x="16297" y="7863"/>
                </a:cubicBezTo>
              </a:path>
              <a:path w="6301" h="1613">
                <a:moveTo>
                  <a:pt x="16892" y="6747"/>
                </a:moveTo>
                <a:cubicBezTo>
                  <a:pt x="16912" y="6827"/>
                  <a:pt x="16882" y="6849"/>
                  <a:pt x="16867" y="6921"/>
                </a:cubicBezTo>
                <a:cubicBezTo>
                  <a:pt x="16850" y="7005"/>
                  <a:pt x="16801" y="7041"/>
                  <a:pt x="16842" y="7119"/>
                </a:cubicBezTo>
                <a:cubicBezTo>
                  <a:pt x="16859" y="7152"/>
                  <a:pt x="16925" y="7231"/>
                  <a:pt x="16966" y="7243"/>
                </a:cubicBezTo>
                <a:cubicBezTo>
                  <a:pt x="17048" y="7267"/>
                  <a:pt x="17087" y="7253"/>
                  <a:pt x="17165" y="7243"/>
                </a:cubicBezTo>
                <a:cubicBezTo>
                  <a:pt x="17264" y="7230"/>
                  <a:pt x="17262" y="7235"/>
                  <a:pt x="17338" y="7169"/>
                </a:cubicBezTo>
              </a:path>
              <a:path w="6301" h="1613">
                <a:moveTo>
                  <a:pt x="17388" y="6400"/>
                </a:moveTo>
                <a:cubicBezTo>
                  <a:pt x="17378" y="6517"/>
                  <a:pt x="17347" y="6629"/>
                  <a:pt x="17338" y="6747"/>
                </a:cubicBezTo>
                <a:cubicBezTo>
                  <a:pt x="17326" y="6897"/>
                  <a:pt x="17314" y="7042"/>
                  <a:pt x="17314" y="7193"/>
                </a:cubicBezTo>
                <a:cubicBezTo>
                  <a:pt x="17314" y="7346"/>
                  <a:pt x="17326" y="7490"/>
                  <a:pt x="17338" y="7640"/>
                </a:cubicBezTo>
                <a:cubicBezTo>
                  <a:pt x="17348" y="7767"/>
                  <a:pt x="17347" y="7883"/>
                  <a:pt x="17363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4249800" y="3071880"/>
            <a:ext cx="501480" cy="285840"/>
          </a:xfrm>
          <a:custGeom>
            <a:avLst/>
            <a:gdLst/>
            <a:ahLst/>
            <a:rect l="l" t="t" r="r" b="b"/>
            <a:pathLst>
              <a:path w="1390" h="795">
                <a:moveTo>
                  <a:pt x="12254" y="8558"/>
                </a:moveTo>
                <a:cubicBezTo>
                  <a:pt x="12247" y="8669"/>
                  <a:pt x="12229" y="8768"/>
                  <a:pt x="12229" y="8880"/>
                </a:cubicBezTo>
                <a:cubicBezTo>
                  <a:pt x="12229" y="8985"/>
                  <a:pt x="12271" y="9215"/>
                  <a:pt x="12254" y="9302"/>
                </a:cubicBezTo>
                <a:cubicBezTo>
                  <a:pt x="12246" y="9310"/>
                  <a:pt x="12237" y="9319"/>
                  <a:pt x="12229" y="9327"/>
                </a:cubicBezTo>
              </a:path>
              <a:path w="1390" h="795">
                <a:moveTo>
                  <a:pt x="11807" y="8880"/>
                </a:moveTo>
                <a:cubicBezTo>
                  <a:pt x="11890" y="8911"/>
                  <a:pt x="11964" y="8905"/>
                  <a:pt x="12055" y="8905"/>
                </a:cubicBezTo>
                <a:cubicBezTo>
                  <a:pt x="12171" y="8905"/>
                  <a:pt x="12286" y="8905"/>
                  <a:pt x="12402" y="8905"/>
                </a:cubicBezTo>
              </a:path>
              <a:path w="1390" h="795">
                <a:moveTo>
                  <a:pt x="12650" y="8607"/>
                </a:moveTo>
                <a:cubicBezTo>
                  <a:pt x="12757" y="8568"/>
                  <a:pt x="12855" y="8508"/>
                  <a:pt x="12973" y="8533"/>
                </a:cubicBezTo>
                <a:cubicBezTo>
                  <a:pt x="13074" y="8554"/>
                  <a:pt x="13081" y="8586"/>
                  <a:pt x="13072" y="8657"/>
                </a:cubicBezTo>
                <a:cubicBezTo>
                  <a:pt x="13064" y="8726"/>
                  <a:pt x="13011" y="8743"/>
                  <a:pt x="12973" y="8806"/>
                </a:cubicBezTo>
                <a:cubicBezTo>
                  <a:pt x="12923" y="8889"/>
                  <a:pt x="12852" y="8923"/>
                  <a:pt x="12799" y="9004"/>
                </a:cubicBezTo>
                <a:cubicBezTo>
                  <a:pt x="12773" y="9044"/>
                  <a:pt x="12711" y="9106"/>
                  <a:pt x="12700" y="9153"/>
                </a:cubicBezTo>
                <a:cubicBezTo>
                  <a:pt x="12680" y="9239"/>
                  <a:pt x="12756" y="9270"/>
                  <a:pt x="12824" y="9277"/>
                </a:cubicBezTo>
                <a:cubicBezTo>
                  <a:pt x="12911" y="9286"/>
                  <a:pt x="13062" y="9316"/>
                  <a:pt x="13146" y="9302"/>
                </a:cubicBezTo>
                <a:cubicBezTo>
                  <a:pt x="13163" y="9294"/>
                  <a:pt x="13179" y="9285"/>
                  <a:pt x="13196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8"/>
          <p:cNvSpPr/>
          <p:nvPr/>
        </p:nvSpPr>
        <p:spPr>
          <a:xfrm>
            <a:off x="5581800" y="3116160"/>
            <a:ext cx="652320" cy="393840"/>
          </a:xfrm>
          <a:custGeom>
            <a:avLst/>
            <a:gdLst/>
            <a:ahLst/>
            <a:rect l="l" t="t" r="r" b="b"/>
            <a:pathLst>
              <a:path w="1812" h="1092">
                <a:moveTo>
                  <a:pt x="15850" y="8781"/>
                </a:moveTo>
                <a:cubicBezTo>
                  <a:pt x="15839" y="8878"/>
                  <a:pt x="15796" y="9069"/>
                  <a:pt x="15825" y="9178"/>
                </a:cubicBezTo>
                <a:cubicBezTo>
                  <a:pt x="15840" y="9233"/>
                  <a:pt x="15865" y="9303"/>
                  <a:pt x="15875" y="9351"/>
                </a:cubicBezTo>
                <a:cubicBezTo>
                  <a:pt x="15875" y="9393"/>
                  <a:pt x="15875" y="9401"/>
                  <a:pt x="15875" y="9426"/>
                </a:cubicBezTo>
              </a:path>
              <a:path w="1812" h="1092">
                <a:moveTo>
                  <a:pt x="15503" y="9128"/>
                </a:moveTo>
                <a:cubicBezTo>
                  <a:pt x="15622" y="9128"/>
                  <a:pt x="15739" y="9142"/>
                  <a:pt x="15850" y="9153"/>
                </a:cubicBezTo>
                <a:cubicBezTo>
                  <a:pt x="15963" y="9164"/>
                  <a:pt x="16084" y="9153"/>
                  <a:pt x="16197" y="9153"/>
                </a:cubicBezTo>
              </a:path>
              <a:path w="1812" h="1092">
                <a:moveTo>
                  <a:pt x="16570" y="8781"/>
                </a:moveTo>
                <a:cubicBezTo>
                  <a:pt x="16613" y="8704"/>
                  <a:pt x="16651" y="8667"/>
                  <a:pt x="16743" y="8657"/>
                </a:cubicBezTo>
                <a:cubicBezTo>
                  <a:pt x="16825" y="8649"/>
                  <a:pt x="16897" y="8659"/>
                  <a:pt x="16966" y="8706"/>
                </a:cubicBezTo>
                <a:cubicBezTo>
                  <a:pt x="17021" y="8744"/>
                  <a:pt x="17038" y="8793"/>
                  <a:pt x="17041" y="8855"/>
                </a:cubicBezTo>
                <a:cubicBezTo>
                  <a:pt x="17047" y="8961"/>
                  <a:pt x="17017" y="8970"/>
                  <a:pt x="16966" y="9054"/>
                </a:cubicBezTo>
                <a:cubicBezTo>
                  <a:pt x="16901" y="9161"/>
                  <a:pt x="16815" y="9203"/>
                  <a:pt x="16743" y="9302"/>
                </a:cubicBezTo>
                <a:cubicBezTo>
                  <a:pt x="16689" y="9376"/>
                  <a:pt x="16591" y="9455"/>
                  <a:pt x="16570" y="9550"/>
                </a:cubicBezTo>
                <a:cubicBezTo>
                  <a:pt x="16557" y="9608"/>
                  <a:pt x="16615" y="9661"/>
                  <a:pt x="16669" y="9674"/>
                </a:cubicBezTo>
                <a:cubicBezTo>
                  <a:pt x="16771" y="9698"/>
                  <a:pt x="16889" y="9712"/>
                  <a:pt x="16991" y="9723"/>
                </a:cubicBezTo>
                <a:cubicBezTo>
                  <a:pt x="17054" y="9730"/>
                  <a:pt x="17181" y="9761"/>
                  <a:pt x="17239" y="9748"/>
                </a:cubicBezTo>
                <a:cubicBezTo>
                  <a:pt x="17280" y="9728"/>
                  <a:pt x="17286" y="9719"/>
                  <a:pt x="17314" y="97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9"/>
          <p:cNvSpPr/>
          <p:nvPr/>
        </p:nvSpPr>
        <p:spPr>
          <a:xfrm>
            <a:off x="4446720" y="3367080"/>
            <a:ext cx="1679400" cy="1071720"/>
          </a:xfrm>
          <a:custGeom>
            <a:avLst/>
            <a:gdLst/>
            <a:ahLst/>
            <a:rect l="l" t="t" r="r" b="b"/>
            <a:pathLst>
              <a:path w="4664" h="2978">
                <a:moveTo>
                  <a:pt x="13271" y="10269"/>
                </a:moveTo>
                <a:cubicBezTo>
                  <a:pt x="13304" y="10360"/>
                  <a:pt x="13351" y="10472"/>
                  <a:pt x="13370" y="10567"/>
                </a:cubicBezTo>
                <a:cubicBezTo>
                  <a:pt x="13396" y="10696"/>
                  <a:pt x="13448" y="10775"/>
                  <a:pt x="13519" y="10889"/>
                </a:cubicBezTo>
                <a:cubicBezTo>
                  <a:pt x="13586" y="10998"/>
                  <a:pt x="13665" y="11088"/>
                  <a:pt x="13742" y="11187"/>
                </a:cubicBezTo>
                <a:cubicBezTo>
                  <a:pt x="13783" y="11240"/>
                  <a:pt x="13866" y="11349"/>
                  <a:pt x="13940" y="11361"/>
                </a:cubicBezTo>
                <a:cubicBezTo>
                  <a:pt x="13973" y="11361"/>
                  <a:pt x="14006" y="11361"/>
                  <a:pt x="14039" y="11361"/>
                </a:cubicBezTo>
              </a:path>
              <a:path w="4664" h="2978">
                <a:moveTo>
                  <a:pt x="13717" y="10368"/>
                </a:moveTo>
                <a:cubicBezTo>
                  <a:pt x="13624" y="10493"/>
                  <a:pt x="13436" y="10688"/>
                  <a:pt x="13370" y="10840"/>
                </a:cubicBezTo>
                <a:cubicBezTo>
                  <a:pt x="13325" y="10942"/>
                  <a:pt x="13237" y="11041"/>
                  <a:pt x="13196" y="11137"/>
                </a:cubicBezTo>
                <a:cubicBezTo>
                  <a:pt x="13180" y="11176"/>
                  <a:pt x="13177" y="11243"/>
                  <a:pt x="13171" y="11286"/>
                </a:cubicBezTo>
              </a:path>
              <a:path w="4664" h="2978">
                <a:moveTo>
                  <a:pt x="13965" y="10740"/>
                </a:moveTo>
                <a:cubicBezTo>
                  <a:pt x="14130" y="10722"/>
                  <a:pt x="14146" y="10714"/>
                  <a:pt x="14238" y="10716"/>
                </a:cubicBezTo>
              </a:path>
              <a:path w="4664" h="2978">
                <a:moveTo>
                  <a:pt x="13965" y="10939"/>
                </a:moveTo>
                <a:cubicBezTo>
                  <a:pt x="14082" y="10960"/>
                  <a:pt x="14152" y="10965"/>
                  <a:pt x="14263" y="10939"/>
                </a:cubicBezTo>
                <a:cubicBezTo>
                  <a:pt x="14288" y="10931"/>
                  <a:pt x="14312" y="10922"/>
                  <a:pt x="14337" y="10914"/>
                </a:cubicBezTo>
              </a:path>
              <a:path w="4664" h="2978">
                <a:moveTo>
                  <a:pt x="14932" y="10492"/>
                </a:moveTo>
                <a:cubicBezTo>
                  <a:pt x="14923" y="10570"/>
                  <a:pt x="14890" y="10642"/>
                  <a:pt x="14858" y="10716"/>
                </a:cubicBezTo>
                <a:cubicBezTo>
                  <a:pt x="14822" y="10800"/>
                  <a:pt x="14805" y="10879"/>
                  <a:pt x="14784" y="10964"/>
                </a:cubicBezTo>
                <a:cubicBezTo>
                  <a:pt x="14749" y="11102"/>
                  <a:pt x="14795" y="11167"/>
                  <a:pt x="14858" y="11286"/>
                </a:cubicBezTo>
                <a:cubicBezTo>
                  <a:pt x="14902" y="11370"/>
                  <a:pt x="14972" y="11374"/>
                  <a:pt x="15056" y="11410"/>
                </a:cubicBezTo>
                <a:cubicBezTo>
                  <a:pt x="15160" y="11455"/>
                  <a:pt x="15236" y="11432"/>
                  <a:pt x="15329" y="11361"/>
                </a:cubicBezTo>
                <a:cubicBezTo>
                  <a:pt x="15384" y="11319"/>
                  <a:pt x="15396" y="11256"/>
                  <a:pt x="15379" y="11187"/>
                </a:cubicBezTo>
                <a:cubicBezTo>
                  <a:pt x="15358" y="11097"/>
                  <a:pt x="15287" y="11107"/>
                  <a:pt x="15230" y="11137"/>
                </a:cubicBezTo>
                <a:cubicBezTo>
                  <a:pt x="15161" y="11174"/>
                  <a:pt x="15123" y="11258"/>
                  <a:pt x="15106" y="11336"/>
                </a:cubicBezTo>
                <a:cubicBezTo>
                  <a:pt x="15093" y="11398"/>
                  <a:pt x="15105" y="11469"/>
                  <a:pt x="15156" y="11509"/>
                </a:cubicBezTo>
                <a:cubicBezTo>
                  <a:pt x="15239" y="11575"/>
                  <a:pt x="15241" y="11545"/>
                  <a:pt x="15329" y="11534"/>
                </a:cubicBezTo>
              </a:path>
              <a:path w="4664" h="2978">
                <a:moveTo>
                  <a:pt x="15701" y="10492"/>
                </a:moveTo>
                <a:cubicBezTo>
                  <a:pt x="15692" y="10566"/>
                  <a:pt x="15669" y="10643"/>
                  <a:pt x="15652" y="10716"/>
                </a:cubicBezTo>
                <a:cubicBezTo>
                  <a:pt x="15633" y="10799"/>
                  <a:pt x="15606" y="10878"/>
                  <a:pt x="15602" y="10964"/>
                </a:cubicBezTo>
                <a:cubicBezTo>
                  <a:pt x="15597" y="11082"/>
                  <a:pt x="15595" y="11203"/>
                  <a:pt x="15652" y="11311"/>
                </a:cubicBezTo>
                <a:cubicBezTo>
                  <a:pt x="15692" y="11385"/>
                  <a:pt x="15781" y="11402"/>
                  <a:pt x="15850" y="11435"/>
                </a:cubicBezTo>
                <a:cubicBezTo>
                  <a:pt x="15937" y="11476"/>
                  <a:pt x="16009" y="11462"/>
                  <a:pt x="16098" y="11435"/>
                </a:cubicBezTo>
                <a:cubicBezTo>
                  <a:pt x="16155" y="11417"/>
                  <a:pt x="16236" y="11384"/>
                  <a:pt x="16247" y="11311"/>
                </a:cubicBezTo>
                <a:cubicBezTo>
                  <a:pt x="16262" y="11210"/>
                  <a:pt x="16217" y="11088"/>
                  <a:pt x="16098" y="11112"/>
                </a:cubicBezTo>
                <a:cubicBezTo>
                  <a:pt x="16056" y="11121"/>
                  <a:pt x="15898" y="11181"/>
                  <a:pt x="15875" y="11212"/>
                </a:cubicBezTo>
                <a:cubicBezTo>
                  <a:pt x="15829" y="11274"/>
                  <a:pt x="15825" y="11362"/>
                  <a:pt x="15825" y="11435"/>
                </a:cubicBezTo>
              </a:path>
              <a:path w="4664" h="2978">
                <a:moveTo>
                  <a:pt x="13097" y="9550"/>
                </a:moveTo>
                <a:cubicBezTo>
                  <a:pt x="12942" y="9627"/>
                  <a:pt x="12874" y="9675"/>
                  <a:pt x="12750" y="9773"/>
                </a:cubicBezTo>
                <a:cubicBezTo>
                  <a:pt x="12652" y="9851"/>
                  <a:pt x="12593" y="9872"/>
                  <a:pt x="12576" y="9996"/>
                </a:cubicBezTo>
                <a:cubicBezTo>
                  <a:pt x="12565" y="10076"/>
                  <a:pt x="12597" y="10160"/>
                  <a:pt x="12675" y="10220"/>
                </a:cubicBezTo>
                <a:cubicBezTo>
                  <a:pt x="12744" y="10273"/>
                  <a:pt x="12834" y="10252"/>
                  <a:pt x="12849" y="10368"/>
                </a:cubicBezTo>
                <a:cubicBezTo>
                  <a:pt x="12858" y="10438"/>
                  <a:pt x="12789" y="10541"/>
                  <a:pt x="12750" y="10592"/>
                </a:cubicBezTo>
                <a:cubicBezTo>
                  <a:pt x="12650" y="10722"/>
                  <a:pt x="12524" y="10828"/>
                  <a:pt x="12427" y="10964"/>
                </a:cubicBezTo>
                <a:cubicBezTo>
                  <a:pt x="12347" y="11077"/>
                  <a:pt x="12300" y="11174"/>
                  <a:pt x="12427" y="11311"/>
                </a:cubicBezTo>
                <a:cubicBezTo>
                  <a:pt x="12504" y="11394"/>
                  <a:pt x="12664" y="11439"/>
                  <a:pt x="12774" y="11460"/>
                </a:cubicBezTo>
                <a:cubicBezTo>
                  <a:pt x="12889" y="11482"/>
                  <a:pt x="13069" y="11464"/>
                  <a:pt x="13171" y="11509"/>
                </a:cubicBezTo>
                <a:cubicBezTo>
                  <a:pt x="13301" y="11567"/>
                  <a:pt x="13249" y="11552"/>
                  <a:pt x="13271" y="11683"/>
                </a:cubicBezTo>
                <a:cubicBezTo>
                  <a:pt x="13290" y="11796"/>
                  <a:pt x="13272" y="11813"/>
                  <a:pt x="13345" y="11906"/>
                </a:cubicBezTo>
                <a:cubicBezTo>
                  <a:pt x="13419" y="12000"/>
                  <a:pt x="13509" y="12039"/>
                  <a:pt x="13618" y="12080"/>
                </a:cubicBezTo>
                <a:cubicBezTo>
                  <a:pt x="13813" y="12153"/>
                  <a:pt x="14051" y="12235"/>
                  <a:pt x="14263" y="12229"/>
                </a:cubicBezTo>
                <a:cubicBezTo>
                  <a:pt x="14401" y="12225"/>
                  <a:pt x="14541" y="12192"/>
                  <a:pt x="14684" y="12204"/>
                </a:cubicBezTo>
                <a:cubicBezTo>
                  <a:pt x="14751" y="12210"/>
                  <a:pt x="14802" y="12231"/>
                  <a:pt x="14858" y="12254"/>
                </a:cubicBezTo>
                <a:cubicBezTo>
                  <a:pt x="14940" y="12288"/>
                  <a:pt x="14985" y="12318"/>
                  <a:pt x="15081" y="12328"/>
                </a:cubicBezTo>
                <a:cubicBezTo>
                  <a:pt x="15264" y="12347"/>
                  <a:pt x="15426" y="12314"/>
                  <a:pt x="15602" y="12278"/>
                </a:cubicBezTo>
                <a:cubicBezTo>
                  <a:pt x="15760" y="12246"/>
                  <a:pt x="15877" y="12186"/>
                  <a:pt x="16024" y="12129"/>
                </a:cubicBezTo>
                <a:cubicBezTo>
                  <a:pt x="16104" y="12098"/>
                  <a:pt x="16172" y="12064"/>
                  <a:pt x="16247" y="12030"/>
                </a:cubicBezTo>
                <a:cubicBezTo>
                  <a:pt x="16352" y="11982"/>
                  <a:pt x="16464" y="11952"/>
                  <a:pt x="16570" y="11906"/>
                </a:cubicBezTo>
                <a:cubicBezTo>
                  <a:pt x="16684" y="11856"/>
                  <a:pt x="16739" y="11799"/>
                  <a:pt x="16818" y="11708"/>
                </a:cubicBezTo>
                <a:cubicBezTo>
                  <a:pt x="16941" y="11567"/>
                  <a:pt x="17053" y="11400"/>
                  <a:pt x="16991" y="11212"/>
                </a:cubicBezTo>
                <a:cubicBezTo>
                  <a:pt x="16943" y="11066"/>
                  <a:pt x="16746" y="11036"/>
                  <a:pt x="16669" y="10914"/>
                </a:cubicBezTo>
                <a:cubicBezTo>
                  <a:pt x="16632" y="10856"/>
                  <a:pt x="16653" y="10809"/>
                  <a:pt x="16644" y="10740"/>
                </a:cubicBezTo>
                <a:cubicBezTo>
                  <a:pt x="16629" y="10626"/>
                  <a:pt x="16649" y="10528"/>
                  <a:pt x="16594" y="10418"/>
                </a:cubicBezTo>
                <a:cubicBezTo>
                  <a:pt x="16505" y="10239"/>
                  <a:pt x="16320" y="10246"/>
                  <a:pt x="16148" y="10195"/>
                </a:cubicBezTo>
                <a:cubicBezTo>
                  <a:pt x="15982" y="10146"/>
                  <a:pt x="15815" y="10134"/>
                  <a:pt x="15652" y="10096"/>
                </a:cubicBezTo>
                <a:cubicBezTo>
                  <a:pt x="15592" y="10082"/>
                  <a:pt x="15503" y="10062"/>
                  <a:pt x="15453" y="10021"/>
                </a:cubicBezTo>
                <a:cubicBezTo>
                  <a:pt x="15426" y="9999"/>
                  <a:pt x="15349" y="9884"/>
                  <a:pt x="15329" y="9847"/>
                </a:cubicBezTo>
                <a:cubicBezTo>
                  <a:pt x="15259" y="9718"/>
                  <a:pt x="15281" y="9686"/>
                  <a:pt x="15131" y="9624"/>
                </a:cubicBezTo>
                <a:cubicBezTo>
                  <a:pt x="14911" y="9533"/>
                  <a:pt x="14775" y="9610"/>
                  <a:pt x="14560" y="9624"/>
                </a:cubicBezTo>
                <a:cubicBezTo>
                  <a:pt x="14469" y="9630"/>
                  <a:pt x="14262" y="9657"/>
                  <a:pt x="14188" y="9599"/>
                </a:cubicBezTo>
                <a:cubicBezTo>
                  <a:pt x="14136" y="9559"/>
                  <a:pt x="14091" y="9472"/>
                  <a:pt x="14039" y="9426"/>
                </a:cubicBezTo>
                <a:cubicBezTo>
                  <a:pt x="13913" y="9314"/>
                  <a:pt x="13772" y="9369"/>
                  <a:pt x="13618" y="9426"/>
                </a:cubicBezTo>
                <a:cubicBezTo>
                  <a:pt x="13469" y="9481"/>
                  <a:pt x="13352" y="9567"/>
                  <a:pt x="13221" y="9649"/>
                </a:cubicBezTo>
                <a:cubicBezTo>
                  <a:pt x="13159" y="9688"/>
                  <a:pt x="13105" y="9731"/>
                  <a:pt x="13047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2362320" y="533520"/>
          <a:ext cx="4381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4381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Ink 3"/>
          <p:cNvSpPr/>
          <p:nvPr/>
        </p:nvSpPr>
        <p:spPr>
          <a:xfrm>
            <a:off x="4599000" y="1589040"/>
            <a:ext cx="615960" cy="393840"/>
          </a:xfrm>
          <a:custGeom>
            <a:avLst/>
            <a:gdLst/>
            <a:ahLst/>
            <a:rect l="l" t="t" r="r" b="b"/>
            <a:pathLst>
              <a:path w="1713" h="1093">
                <a:moveTo>
                  <a:pt x="13221" y="4440"/>
                </a:moveTo>
                <a:cubicBezTo>
                  <a:pt x="13221" y="4577"/>
                  <a:pt x="13211" y="4705"/>
                  <a:pt x="13196" y="4837"/>
                </a:cubicBezTo>
                <a:cubicBezTo>
                  <a:pt x="13187" y="4917"/>
                  <a:pt x="13180" y="5018"/>
                  <a:pt x="13171" y="5085"/>
                </a:cubicBezTo>
                <a:cubicBezTo>
                  <a:pt x="13161" y="5155"/>
                  <a:pt x="13171" y="5237"/>
                  <a:pt x="13171" y="5308"/>
                </a:cubicBezTo>
              </a:path>
              <a:path w="1713" h="1093">
                <a:moveTo>
                  <a:pt x="12774" y="4911"/>
                </a:moveTo>
                <a:cubicBezTo>
                  <a:pt x="12982" y="4911"/>
                  <a:pt x="13203" y="4913"/>
                  <a:pt x="13395" y="4936"/>
                </a:cubicBezTo>
                <a:cubicBezTo>
                  <a:pt x="13470" y="4945"/>
                  <a:pt x="13513" y="4944"/>
                  <a:pt x="13568" y="4911"/>
                </a:cubicBezTo>
              </a:path>
              <a:path w="1713" h="1093">
                <a:moveTo>
                  <a:pt x="13816" y="4564"/>
                </a:moveTo>
                <a:cubicBezTo>
                  <a:pt x="13925" y="4481"/>
                  <a:pt x="13946" y="4478"/>
                  <a:pt x="14064" y="4440"/>
                </a:cubicBezTo>
                <a:cubicBezTo>
                  <a:pt x="14152" y="4412"/>
                  <a:pt x="14275" y="4380"/>
                  <a:pt x="14362" y="4440"/>
                </a:cubicBezTo>
                <a:cubicBezTo>
                  <a:pt x="14441" y="4495"/>
                  <a:pt x="14445" y="4556"/>
                  <a:pt x="14436" y="4638"/>
                </a:cubicBezTo>
                <a:cubicBezTo>
                  <a:pt x="14428" y="4717"/>
                  <a:pt x="14358" y="4791"/>
                  <a:pt x="14312" y="4862"/>
                </a:cubicBezTo>
                <a:cubicBezTo>
                  <a:pt x="14258" y="4944"/>
                  <a:pt x="14182" y="5071"/>
                  <a:pt x="14114" y="5135"/>
                </a:cubicBezTo>
                <a:cubicBezTo>
                  <a:pt x="14045" y="5200"/>
                  <a:pt x="13965" y="5271"/>
                  <a:pt x="13891" y="5333"/>
                </a:cubicBezTo>
                <a:cubicBezTo>
                  <a:pt x="13825" y="5388"/>
                  <a:pt x="13773" y="5426"/>
                  <a:pt x="13717" y="5482"/>
                </a:cubicBezTo>
                <a:cubicBezTo>
                  <a:pt x="13777" y="5518"/>
                  <a:pt x="13841" y="5507"/>
                  <a:pt x="13915" y="5507"/>
                </a:cubicBezTo>
                <a:cubicBezTo>
                  <a:pt x="13999" y="5507"/>
                  <a:pt x="14076" y="5482"/>
                  <a:pt x="14163" y="5482"/>
                </a:cubicBezTo>
                <a:cubicBezTo>
                  <a:pt x="14282" y="5482"/>
                  <a:pt x="14370" y="5457"/>
                  <a:pt x="1448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4"/>
          <p:cNvSpPr/>
          <p:nvPr/>
        </p:nvSpPr>
        <p:spPr>
          <a:xfrm>
            <a:off x="5892840" y="1562040"/>
            <a:ext cx="750960" cy="554040"/>
          </a:xfrm>
          <a:custGeom>
            <a:avLst/>
            <a:gdLst/>
            <a:ahLst/>
            <a:rect l="l" t="t" r="r" b="b"/>
            <a:pathLst>
              <a:path w="2085" h="1539">
                <a:moveTo>
                  <a:pt x="16768" y="4539"/>
                </a:moveTo>
                <a:cubicBezTo>
                  <a:pt x="16768" y="4651"/>
                  <a:pt x="16761" y="4754"/>
                  <a:pt x="16743" y="4862"/>
                </a:cubicBezTo>
                <a:cubicBezTo>
                  <a:pt x="16724" y="4979"/>
                  <a:pt x="16699" y="5092"/>
                  <a:pt x="16694" y="5209"/>
                </a:cubicBezTo>
                <a:cubicBezTo>
                  <a:pt x="16694" y="5254"/>
                  <a:pt x="16698" y="5267"/>
                  <a:pt x="16669" y="5283"/>
                </a:cubicBezTo>
              </a:path>
              <a:path w="2085" h="1539">
                <a:moveTo>
                  <a:pt x="16371" y="4911"/>
                </a:moveTo>
                <a:cubicBezTo>
                  <a:pt x="16492" y="4911"/>
                  <a:pt x="16600" y="4897"/>
                  <a:pt x="16718" y="4887"/>
                </a:cubicBezTo>
                <a:cubicBezTo>
                  <a:pt x="16799" y="4880"/>
                  <a:pt x="16884" y="4887"/>
                  <a:pt x="16966" y="4887"/>
                </a:cubicBezTo>
              </a:path>
              <a:path w="2085" h="1539">
                <a:moveTo>
                  <a:pt x="17462" y="4440"/>
                </a:moveTo>
                <a:cubicBezTo>
                  <a:pt x="17580" y="4381"/>
                  <a:pt x="17655" y="4345"/>
                  <a:pt x="17785" y="4341"/>
                </a:cubicBezTo>
                <a:cubicBezTo>
                  <a:pt x="17879" y="4338"/>
                  <a:pt x="18005" y="4346"/>
                  <a:pt x="18083" y="4390"/>
                </a:cubicBezTo>
                <a:cubicBezTo>
                  <a:pt x="18130" y="4416"/>
                  <a:pt x="18169" y="4486"/>
                  <a:pt x="18157" y="4539"/>
                </a:cubicBezTo>
                <a:cubicBezTo>
                  <a:pt x="18135" y="4639"/>
                  <a:pt x="18058" y="4768"/>
                  <a:pt x="17983" y="4837"/>
                </a:cubicBezTo>
                <a:cubicBezTo>
                  <a:pt x="17894" y="4919"/>
                  <a:pt x="17811" y="4988"/>
                  <a:pt x="17735" y="5085"/>
                </a:cubicBezTo>
                <a:cubicBezTo>
                  <a:pt x="17655" y="5188"/>
                  <a:pt x="17555" y="5265"/>
                  <a:pt x="17462" y="5358"/>
                </a:cubicBezTo>
                <a:cubicBezTo>
                  <a:pt x="17432" y="5388"/>
                  <a:pt x="17290" y="5495"/>
                  <a:pt x="17338" y="5556"/>
                </a:cubicBezTo>
                <a:cubicBezTo>
                  <a:pt x="17391" y="5623"/>
                  <a:pt x="17556" y="5669"/>
                  <a:pt x="17636" y="5680"/>
                </a:cubicBezTo>
                <a:cubicBezTo>
                  <a:pt x="17802" y="5703"/>
                  <a:pt x="17968" y="5737"/>
                  <a:pt x="18132" y="5779"/>
                </a:cubicBezTo>
                <a:cubicBezTo>
                  <a:pt x="18225" y="5803"/>
                  <a:pt x="18309" y="5849"/>
                  <a:pt x="18405" y="5854"/>
                </a:cubicBezTo>
                <a:cubicBezTo>
                  <a:pt x="18437" y="5856"/>
                  <a:pt x="18403" y="5872"/>
                  <a:pt x="18430" y="5854"/>
                </a:cubicBezTo>
                <a:cubicBezTo>
                  <a:pt x="18378" y="5802"/>
                  <a:pt x="18359" y="5785"/>
                  <a:pt x="18306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5"/>
          <p:cNvSpPr/>
          <p:nvPr/>
        </p:nvSpPr>
        <p:spPr>
          <a:xfrm>
            <a:off x="2919240" y="2035080"/>
            <a:ext cx="3268800" cy="920880"/>
          </a:xfrm>
          <a:custGeom>
            <a:avLst/>
            <a:gdLst/>
            <a:ahLst/>
            <a:rect l="l" t="t" r="r" b="b"/>
            <a:pathLst>
              <a:path w="9080" h="2556">
                <a:moveTo>
                  <a:pt x="8111" y="6573"/>
                </a:moveTo>
                <a:cubicBezTo>
                  <a:pt x="8227" y="6573"/>
                  <a:pt x="8348" y="6557"/>
                  <a:pt x="8458" y="6598"/>
                </a:cubicBezTo>
                <a:cubicBezTo>
                  <a:pt x="8515" y="6619"/>
                  <a:pt x="8595" y="6676"/>
                  <a:pt x="8632" y="6722"/>
                </a:cubicBezTo>
                <a:cubicBezTo>
                  <a:pt x="8670" y="6768"/>
                  <a:pt x="8699" y="6865"/>
                  <a:pt x="8706" y="6921"/>
                </a:cubicBezTo>
                <a:cubicBezTo>
                  <a:pt x="8717" y="7011"/>
                  <a:pt x="8687" y="7085"/>
                  <a:pt x="8682" y="7169"/>
                </a:cubicBezTo>
                <a:cubicBezTo>
                  <a:pt x="8676" y="7265"/>
                  <a:pt x="8700" y="7350"/>
                  <a:pt x="8706" y="7441"/>
                </a:cubicBezTo>
                <a:cubicBezTo>
                  <a:pt x="8710" y="7514"/>
                  <a:pt x="8718" y="7580"/>
                  <a:pt x="8731" y="7640"/>
                </a:cubicBezTo>
                <a:cubicBezTo>
                  <a:pt x="8731" y="7691"/>
                  <a:pt x="8732" y="7710"/>
                  <a:pt x="8756" y="7739"/>
                </a:cubicBezTo>
                <a:cubicBezTo>
                  <a:pt x="8761" y="7664"/>
                  <a:pt x="8765" y="7612"/>
                  <a:pt x="8781" y="7541"/>
                </a:cubicBezTo>
                <a:cubicBezTo>
                  <a:pt x="8801" y="7453"/>
                  <a:pt x="8816" y="7360"/>
                  <a:pt x="8830" y="7268"/>
                </a:cubicBezTo>
                <a:cubicBezTo>
                  <a:pt x="8847" y="7152"/>
                  <a:pt x="8861" y="7037"/>
                  <a:pt x="8880" y="6921"/>
                </a:cubicBezTo>
                <a:cubicBezTo>
                  <a:pt x="8899" y="6809"/>
                  <a:pt x="8928" y="6710"/>
                  <a:pt x="8954" y="6598"/>
                </a:cubicBezTo>
                <a:cubicBezTo>
                  <a:pt x="8976" y="6504"/>
                  <a:pt x="9016" y="6398"/>
                  <a:pt x="9029" y="6300"/>
                </a:cubicBezTo>
                <a:cubicBezTo>
                  <a:pt x="9036" y="6247"/>
                  <a:pt x="9026" y="6170"/>
                  <a:pt x="9054" y="6127"/>
                </a:cubicBezTo>
                <a:cubicBezTo>
                  <a:pt x="9110" y="6043"/>
                  <a:pt x="9090" y="6052"/>
                  <a:pt x="9227" y="6052"/>
                </a:cubicBezTo>
                <a:cubicBezTo>
                  <a:pt x="9355" y="6052"/>
                  <a:pt x="9492" y="6099"/>
                  <a:pt x="9624" y="6102"/>
                </a:cubicBezTo>
                <a:cubicBezTo>
                  <a:pt x="9832" y="6107"/>
                  <a:pt x="10038" y="6115"/>
                  <a:pt x="10244" y="6127"/>
                </a:cubicBezTo>
                <a:cubicBezTo>
                  <a:pt x="10501" y="6142"/>
                  <a:pt x="10758" y="6127"/>
                  <a:pt x="11013" y="6152"/>
                </a:cubicBezTo>
                <a:cubicBezTo>
                  <a:pt x="11259" y="6176"/>
                  <a:pt x="11510" y="6195"/>
                  <a:pt x="11757" y="6201"/>
                </a:cubicBezTo>
                <a:cubicBezTo>
                  <a:pt x="11972" y="6206"/>
                  <a:pt x="12187" y="6201"/>
                  <a:pt x="12402" y="6201"/>
                </a:cubicBezTo>
                <a:cubicBezTo>
                  <a:pt x="12360" y="6201"/>
                  <a:pt x="12268" y="6201"/>
                  <a:pt x="12204" y="6201"/>
                </a:cubicBezTo>
              </a:path>
              <a:path w="9080" h="2556">
                <a:moveTo>
                  <a:pt x="9426" y="6672"/>
                </a:moveTo>
                <a:cubicBezTo>
                  <a:pt x="9439" y="6760"/>
                  <a:pt x="9468" y="6826"/>
                  <a:pt x="9500" y="6921"/>
                </a:cubicBezTo>
                <a:cubicBezTo>
                  <a:pt x="9536" y="7027"/>
                  <a:pt x="9590" y="7110"/>
                  <a:pt x="9624" y="7218"/>
                </a:cubicBezTo>
                <a:cubicBezTo>
                  <a:pt x="9651" y="7304"/>
                  <a:pt x="9718" y="7418"/>
                  <a:pt x="9773" y="7491"/>
                </a:cubicBezTo>
                <a:cubicBezTo>
                  <a:pt x="9823" y="7557"/>
                  <a:pt x="9861" y="7616"/>
                  <a:pt x="9922" y="7665"/>
                </a:cubicBezTo>
                <a:cubicBezTo>
                  <a:pt x="9944" y="7687"/>
                  <a:pt x="9949" y="7695"/>
                  <a:pt x="9971" y="7689"/>
                </a:cubicBezTo>
              </a:path>
              <a:path w="9080" h="2556">
                <a:moveTo>
                  <a:pt x="9996" y="6747"/>
                </a:moveTo>
                <a:cubicBezTo>
                  <a:pt x="9942" y="6854"/>
                  <a:pt x="9880" y="6941"/>
                  <a:pt x="9823" y="7045"/>
                </a:cubicBezTo>
                <a:cubicBezTo>
                  <a:pt x="9770" y="7143"/>
                  <a:pt x="9678" y="7221"/>
                  <a:pt x="9624" y="7317"/>
                </a:cubicBezTo>
                <a:cubicBezTo>
                  <a:pt x="9567" y="7418"/>
                  <a:pt x="9506" y="7456"/>
                  <a:pt x="9451" y="7541"/>
                </a:cubicBezTo>
                <a:cubicBezTo>
                  <a:pt x="9424" y="7582"/>
                  <a:pt x="9411" y="7605"/>
                  <a:pt x="9376" y="7640"/>
                </a:cubicBezTo>
                <a:cubicBezTo>
                  <a:pt x="9428" y="7640"/>
                  <a:pt x="9446" y="7638"/>
                  <a:pt x="9451" y="7590"/>
                </a:cubicBezTo>
              </a:path>
              <a:path w="9080" h="2556">
                <a:moveTo>
                  <a:pt x="10567" y="6871"/>
                </a:moveTo>
                <a:cubicBezTo>
                  <a:pt x="10567" y="7063"/>
                  <a:pt x="10537" y="7282"/>
                  <a:pt x="10592" y="7466"/>
                </a:cubicBezTo>
                <a:cubicBezTo>
                  <a:pt x="10595" y="7476"/>
                  <a:pt x="10653" y="7659"/>
                  <a:pt x="10641" y="7665"/>
                </a:cubicBezTo>
                <a:cubicBezTo>
                  <a:pt x="10633" y="7657"/>
                  <a:pt x="10624" y="7648"/>
                  <a:pt x="10616" y="7640"/>
                </a:cubicBezTo>
              </a:path>
              <a:path w="9080" h="2556">
                <a:moveTo>
                  <a:pt x="10220" y="7243"/>
                </a:moveTo>
                <a:cubicBezTo>
                  <a:pt x="10377" y="7243"/>
                  <a:pt x="10534" y="7243"/>
                  <a:pt x="10691" y="7243"/>
                </a:cubicBezTo>
              </a:path>
              <a:path w="9080" h="2556">
                <a:moveTo>
                  <a:pt x="11683" y="6772"/>
                </a:moveTo>
                <a:cubicBezTo>
                  <a:pt x="11630" y="6719"/>
                  <a:pt x="11610" y="6722"/>
                  <a:pt x="11534" y="6722"/>
                </a:cubicBezTo>
                <a:cubicBezTo>
                  <a:pt x="11422" y="6722"/>
                  <a:pt x="11368" y="6746"/>
                  <a:pt x="11261" y="6772"/>
                </a:cubicBezTo>
                <a:cubicBezTo>
                  <a:pt x="11217" y="6783"/>
                  <a:pt x="11130" y="6784"/>
                  <a:pt x="11112" y="6846"/>
                </a:cubicBezTo>
                <a:cubicBezTo>
                  <a:pt x="11088" y="6930"/>
                  <a:pt x="11133" y="6966"/>
                  <a:pt x="11187" y="7020"/>
                </a:cubicBezTo>
                <a:cubicBezTo>
                  <a:pt x="11254" y="7086"/>
                  <a:pt x="11336" y="7158"/>
                  <a:pt x="11410" y="7218"/>
                </a:cubicBezTo>
                <a:cubicBezTo>
                  <a:pt x="11491" y="7283"/>
                  <a:pt x="11548" y="7376"/>
                  <a:pt x="11609" y="7466"/>
                </a:cubicBezTo>
                <a:cubicBezTo>
                  <a:pt x="11677" y="7566"/>
                  <a:pt x="11656" y="7644"/>
                  <a:pt x="11609" y="7739"/>
                </a:cubicBezTo>
                <a:cubicBezTo>
                  <a:pt x="11567" y="7824"/>
                  <a:pt x="11499" y="7834"/>
                  <a:pt x="11410" y="7838"/>
                </a:cubicBezTo>
                <a:cubicBezTo>
                  <a:pt x="11349" y="7841"/>
                  <a:pt x="11273" y="7841"/>
                  <a:pt x="11261" y="7764"/>
                </a:cubicBezTo>
                <a:cubicBezTo>
                  <a:pt x="11248" y="7685"/>
                  <a:pt x="11257" y="7563"/>
                  <a:pt x="11286" y="7491"/>
                </a:cubicBezTo>
                <a:cubicBezTo>
                  <a:pt x="11327" y="7388"/>
                  <a:pt x="11387" y="7309"/>
                  <a:pt x="11435" y="7218"/>
                </a:cubicBezTo>
                <a:cubicBezTo>
                  <a:pt x="11459" y="7173"/>
                  <a:pt x="11501" y="7088"/>
                  <a:pt x="11509" y="7045"/>
                </a:cubicBezTo>
                <a:cubicBezTo>
                  <a:pt x="11519" y="6992"/>
                  <a:pt x="11509" y="6926"/>
                  <a:pt x="11509" y="6871"/>
                </a:cubicBezTo>
              </a:path>
              <a:path w="9080" h="2556">
                <a:moveTo>
                  <a:pt x="13543" y="6921"/>
                </a:moveTo>
                <a:cubicBezTo>
                  <a:pt x="13616" y="6921"/>
                  <a:pt x="13672" y="6943"/>
                  <a:pt x="13742" y="6945"/>
                </a:cubicBezTo>
                <a:cubicBezTo>
                  <a:pt x="13893" y="6950"/>
                  <a:pt x="14042" y="6958"/>
                  <a:pt x="14188" y="6970"/>
                </a:cubicBezTo>
                <a:cubicBezTo>
                  <a:pt x="14284" y="6978"/>
                  <a:pt x="14570" y="6937"/>
                  <a:pt x="14511" y="6970"/>
                </a:cubicBezTo>
                <a:cubicBezTo>
                  <a:pt x="14503" y="6978"/>
                  <a:pt x="14494" y="6987"/>
                  <a:pt x="14486" y="6995"/>
                </a:cubicBezTo>
              </a:path>
              <a:path w="9080" h="2556">
                <a:moveTo>
                  <a:pt x="13543" y="7268"/>
                </a:moveTo>
                <a:cubicBezTo>
                  <a:pt x="13659" y="7300"/>
                  <a:pt x="13769" y="7293"/>
                  <a:pt x="13891" y="7293"/>
                </a:cubicBezTo>
                <a:cubicBezTo>
                  <a:pt x="14003" y="7293"/>
                  <a:pt x="14104" y="7314"/>
                  <a:pt x="14213" y="7317"/>
                </a:cubicBezTo>
                <a:cubicBezTo>
                  <a:pt x="14345" y="7321"/>
                  <a:pt x="14478" y="7317"/>
                  <a:pt x="14610" y="7317"/>
                </a:cubicBezTo>
              </a:path>
              <a:path w="9080" h="2556">
                <a:moveTo>
                  <a:pt x="15503" y="6375"/>
                </a:moveTo>
                <a:cubicBezTo>
                  <a:pt x="15503" y="6475"/>
                  <a:pt x="15495" y="6552"/>
                  <a:pt x="15478" y="6648"/>
                </a:cubicBezTo>
                <a:cubicBezTo>
                  <a:pt x="15448" y="6816"/>
                  <a:pt x="15440" y="6999"/>
                  <a:pt x="15429" y="7169"/>
                </a:cubicBezTo>
                <a:cubicBezTo>
                  <a:pt x="15419" y="7318"/>
                  <a:pt x="15417" y="7470"/>
                  <a:pt x="15379" y="7615"/>
                </a:cubicBezTo>
                <a:cubicBezTo>
                  <a:pt x="15353" y="7715"/>
                  <a:pt x="15321" y="7818"/>
                  <a:pt x="15280" y="7913"/>
                </a:cubicBezTo>
                <a:cubicBezTo>
                  <a:pt x="15239" y="8010"/>
                  <a:pt x="15255" y="8031"/>
                  <a:pt x="15255" y="7913"/>
                </a:cubicBezTo>
              </a:path>
              <a:path w="9080" h="2556">
                <a:moveTo>
                  <a:pt x="16247" y="6499"/>
                </a:moveTo>
                <a:cubicBezTo>
                  <a:pt x="16222" y="6646"/>
                  <a:pt x="16201" y="6795"/>
                  <a:pt x="16197" y="6945"/>
                </a:cubicBezTo>
                <a:cubicBezTo>
                  <a:pt x="16191" y="7179"/>
                  <a:pt x="16201" y="7409"/>
                  <a:pt x="16222" y="7640"/>
                </a:cubicBezTo>
                <a:cubicBezTo>
                  <a:pt x="16235" y="7781"/>
                  <a:pt x="16259" y="7908"/>
                  <a:pt x="16321" y="8037"/>
                </a:cubicBezTo>
                <a:cubicBezTo>
                  <a:pt x="16356" y="8110"/>
                  <a:pt x="16417" y="8240"/>
                  <a:pt x="16396" y="8161"/>
                </a:cubicBezTo>
                <a:cubicBezTo>
                  <a:pt x="16388" y="8144"/>
                  <a:pt x="16379" y="8128"/>
                  <a:pt x="16371" y="8111"/>
                </a:cubicBezTo>
              </a:path>
              <a:path w="9080" h="2556">
                <a:moveTo>
                  <a:pt x="12601" y="5779"/>
                </a:moveTo>
                <a:cubicBezTo>
                  <a:pt x="12638" y="5714"/>
                  <a:pt x="12649" y="5685"/>
                  <a:pt x="12725" y="5680"/>
                </a:cubicBezTo>
                <a:cubicBezTo>
                  <a:pt x="12809" y="5675"/>
                  <a:pt x="12808" y="5651"/>
                  <a:pt x="12898" y="5705"/>
                </a:cubicBezTo>
                <a:cubicBezTo>
                  <a:pt x="13016" y="5777"/>
                  <a:pt x="12860" y="5918"/>
                  <a:pt x="12824" y="5978"/>
                </a:cubicBezTo>
                <a:cubicBezTo>
                  <a:pt x="12781" y="6050"/>
                  <a:pt x="12719" y="6126"/>
                  <a:pt x="12650" y="6176"/>
                </a:cubicBezTo>
                <a:cubicBezTo>
                  <a:pt x="12586" y="6222"/>
                  <a:pt x="12562" y="6249"/>
                  <a:pt x="12551" y="6325"/>
                </a:cubicBezTo>
                <a:cubicBezTo>
                  <a:pt x="12624" y="6369"/>
                  <a:pt x="12712" y="6351"/>
                  <a:pt x="12799" y="6325"/>
                </a:cubicBezTo>
                <a:cubicBezTo>
                  <a:pt x="12876" y="6302"/>
                  <a:pt x="12940" y="6300"/>
                  <a:pt x="13022" y="6300"/>
                </a:cubicBezTo>
                <a:cubicBezTo>
                  <a:pt x="13079" y="6300"/>
                  <a:pt x="13101" y="6303"/>
                  <a:pt x="13146" y="6276"/>
                </a:cubicBezTo>
              </a:path>
              <a:path w="9080" h="2556">
                <a:moveTo>
                  <a:pt x="16346" y="5978"/>
                </a:moveTo>
                <a:cubicBezTo>
                  <a:pt x="16467" y="5948"/>
                  <a:pt x="16570" y="5942"/>
                  <a:pt x="16694" y="5978"/>
                </a:cubicBezTo>
                <a:cubicBezTo>
                  <a:pt x="16737" y="5990"/>
                  <a:pt x="16867" y="6030"/>
                  <a:pt x="16867" y="6077"/>
                </a:cubicBezTo>
                <a:cubicBezTo>
                  <a:pt x="16867" y="6165"/>
                  <a:pt x="16772" y="6229"/>
                  <a:pt x="16718" y="6276"/>
                </a:cubicBezTo>
                <a:cubicBezTo>
                  <a:pt x="16659" y="6328"/>
                  <a:pt x="16606" y="6376"/>
                  <a:pt x="16545" y="6424"/>
                </a:cubicBezTo>
                <a:cubicBezTo>
                  <a:pt x="16606" y="6497"/>
                  <a:pt x="16664" y="6474"/>
                  <a:pt x="16768" y="6474"/>
                </a:cubicBezTo>
                <a:cubicBezTo>
                  <a:pt x="16872" y="6474"/>
                  <a:pt x="17085" y="6513"/>
                  <a:pt x="17165" y="6449"/>
                </a:cubicBezTo>
                <a:cubicBezTo>
                  <a:pt x="17173" y="6441"/>
                  <a:pt x="17182" y="6432"/>
                  <a:pt x="17190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6"/>
          <p:cNvSpPr/>
          <p:nvPr/>
        </p:nvSpPr>
        <p:spPr>
          <a:xfrm>
            <a:off x="3517920" y="3116160"/>
            <a:ext cx="1903320" cy="652680"/>
          </a:xfrm>
          <a:custGeom>
            <a:avLst/>
            <a:gdLst/>
            <a:ahLst/>
            <a:rect l="l" t="t" r="r" b="b"/>
            <a:pathLst>
              <a:path w="5284" h="1812">
                <a:moveTo>
                  <a:pt x="9773" y="8682"/>
                </a:moveTo>
                <a:cubicBezTo>
                  <a:pt x="9814" y="8856"/>
                  <a:pt x="9839" y="8905"/>
                  <a:pt x="9922" y="9079"/>
                </a:cubicBezTo>
                <a:cubicBezTo>
                  <a:pt x="9978" y="9198"/>
                  <a:pt x="10017" y="9294"/>
                  <a:pt x="10096" y="9401"/>
                </a:cubicBezTo>
                <a:cubicBezTo>
                  <a:pt x="10171" y="9502"/>
                  <a:pt x="10241" y="9623"/>
                  <a:pt x="10344" y="9699"/>
                </a:cubicBezTo>
                <a:cubicBezTo>
                  <a:pt x="10362" y="9712"/>
                  <a:pt x="10483" y="9848"/>
                  <a:pt x="10517" y="9798"/>
                </a:cubicBezTo>
                <a:cubicBezTo>
                  <a:pt x="10525" y="9765"/>
                  <a:pt x="10534" y="9732"/>
                  <a:pt x="10542" y="9699"/>
                </a:cubicBezTo>
              </a:path>
              <a:path w="5284" h="1812">
                <a:moveTo>
                  <a:pt x="10368" y="8657"/>
                </a:moveTo>
                <a:cubicBezTo>
                  <a:pt x="10283" y="8742"/>
                  <a:pt x="10235" y="8829"/>
                  <a:pt x="10170" y="8930"/>
                </a:cubicBezTo>
                <a:cubicBezTo>
                  <a:pt x="10083" y="9064"/>
                  <a:pt x="10014" y="9208"/>
                  <a:pt x="9947" y="9351"/>
                </a:cubicBezTo>
                <a:cubicBezTo>
                  <a:pt x="9901" y="9448"/>
                  <a:pt x="9855" y="9504"/>
                  <a:pt x="9823" y="9599"/>
                </a:cubicBezTo>
                <a:cubicBezTo>
                  <a:pt x="9801" y="9643"/>
                  <a:pt x="9788" y="9655"/>
                  <a:pt x="9823" y="9674"/>
                </a:cubicBezTo>
              </a:path>
              <a:path w="5284" h="1812">
                <a:moveTo>
                  <a:pt x="10641" y="8781"/>
                </a:moveTo>
                <a:cubicBezTo>
                  <a:pt x="10667" y="8883"/>
                  <a:pt x="10666" y="8973"/>
                  <a:pt x="10666" y="9079"/>
                </a:cubicBezTo>
                <a:cubicBezTo>
                  <a:pt x="10666" y="9159"/>
                  <a:pt x="10678" y="9236"/>
                  <a:pt x="10691" y="9302"/>
                </a:cubicBezTo>
                <a:cubicBezTo>
                  <a:pt x="10703" y="9367"/>
                  <a:pt x="10708" y="9435"/>
                  <a:pt x="10716" y="9500"/>
                </a:cubicBezTo>
              </a:path>
              <a:path w="5284" h="1812">
                <a:moveTo>
                  <a:pt x="10368" y="9103"/>
                </a:moveTo>
                <a:cubicBezTo>
                  <a:pt x="10496" y="9103"/>
                  <a:pt x="10616" y="9121"/>
                  <a:pt x="10740" y="9128"/>
                </a:cubicBezTo>
                <a:cubicBezTo>
                  <a:pt x="10868" y="9136"/>
                  <a:pt x="10986" y="9145"/>
                  <a:pt x="11112" y="9153"/>
                </a:cubicBezTo>
              </a:path>
              <a:path w="5284" h="1812">
                <a:moveTo>
                  <a:pt x="11757" y="8905"/>
                </a:moveTo>
                <a:cubicBezTo>
                  <a:pt x="11721" y="8841"/>
                  <a:pt x="11710" y="8808"/>
                  <a:pt x="11633" y="8806"/>
                </a:cubicBezTo>
                <a:cubicBezTo>
                  <a:pt x="11571" y="8805"/>
                  <a:pt x="11335" y="8781"/>
                  <a:pt x="11311" y="8880"/>
                </a:cubicBezTo>
                <a:cubicBezTo>
                  <a:pt x="11289" y="8970"/>
                  <a:pt x="11379" y="9044"/>
                  <a:pt x="11435" y="9103"/>
                </a:cubicBezTo>
                <a:cubicBezTo>
                  <a:pt x="11506" y="9177"/>
                  <a:pt x="11602" y="9266"/>
                  <a:pt x="11658" y="9351"/>
                </a:cubicBezTo>
                <a:cubicBezTo>
                  <a:pt x="11703" y="9420"/>
                  <a:pt x="11779" y="9562"/>
                  <a:pt x="11757" y="9649"/>
                </a:cubicBezTo>
                <a:cubicBezTo>
                  <a:pt x="11740" y="9714"/>
                  <a:pt x="11641" y="9760"/>
                  <a:pt x="11584" y="9748"/>
                </a:cubicBezTo>
                <a:cubicBezTo>
                  <a:pt x="11516" y="9734"/>
                  <a:pt x="11470" y="9661"/>
                  <a:pt x="11460" y="9599"/>
                </a:cubicBezTo>
                <a:cubicBezTo>
                  <a:pt x="11447" y="9515"/>
                  <a:pt x="11475" y="9451"/>
                  <a:pt x="11485" y="9376"/>
                </a:cubicBezTo>
                <a:cubicBezTo>
                  <a:pt x="11499" y="9273"/>
                  <a:pt x="11526" y="9186"/>
                  <a:pt x="11609" y="9103"/>
                </a:cubicBezTo>
                <a:cubicBezTo>
                  <a:pt x="11656" y="9056"/>
                  <a:pt x="11684" y="8975"/>
                  <a:pt x="11733" y="8930"/>
                </a:cubicBezTo>
                <a:cubicBezTo>
                  <a:pt x="11766" y="8899"/>
                  <a:pt x="11821" y="8884"/>
                  <a:pt x="11857" y="8855"/>
                </a:cubicBezTo>
              </a:path>
              <a:path w="5284" h="1812">
                <a:moveTo>
                  <a:pt x="12179" y="9128"/>
                </a:moveTo>
                <a:cubicBezTo>
                  <a:pt x="12295" y="9150"/>
                  <a:pt x="12409" y="9174"/>
                  <a:pt x="12526" y="9178"/>
                </a:cubicBezTo>
                <a:cubicBezTo>
                  <a:pt x="12617" y="9178"/>
                  <a:pt x="12659" y="9178"/>
                  <a:pt x="12725" y="9178"/>
                </a:cubicBezTo>
              </a:path>
              <a:path w="5284" h="1812">
                <a:moveTo>
                  <a:pt x="12278" y="9351"/>
                </a:moveTo>
                <a:cubicBezTo>
                  <a:pt x="12415" y="9371"/>
                  <a:pt x="12537" y="9376"/>
                  <a:pt x="12675" y="9376"/>
                </a:cubicBezTo>
                <a:cubicBezTo>
                  <a:pt x="12708" y="9376"/>
                  <a:pt x="12741" y="9376"/>
                  <a:pt x="12774" y="9376"/>
                </a:cubicBezTo>
              </a:path>
              <a:path w="5284" h="1812">
                <a:moveTo>
                  <a:pt x="13370" y="8930"/>
                </a:moveTo>
                <a:cubicBezTo>
                  <a:pt x="13370" y="9260"/>
                  <a:pt x="13355" y="9602"/>
                  <a:pt x="13395" y="9922"/>
                </a:cubicBezTo>
                <a:cubicBezTo>
                  <a:pt x="13401" y="9972"/>
                  <a:pt x="13364" y="10106"/>
                  <a:pt x="13469" y="10071"/>
                </a:cubicBezTo>
                <a:cubicBezTo>
                  <a:pt x="13477" y="10063"/>
                  <a:pt x="13486" y="10054"/>
                  <a:pt x="13494" y="10046"/>
                </a:cubicBezTo>
              </a:path>
              <a:path w="5284" h="1812">
                <a:moveTo>
                  <a:pt x="13717" y="9252"/>
                </a:moveTo>
                <a:cubicBezTo>
                  <a:pt x="13801" y="9100"/>
                  <a:pt x="13805" y="9080"/>
                  <a:pt x="13940" y="9004"/>
                </a:cubicBezTo>
                <a:cubicBezTo>
                  <a:pt x="14029" y="8954"/>
                  <a:pt x="14091" y="8972"/>
                  <a:pt x="14139" y="9054"/>
                </a:cubicBezTo>
                <a:cubicBezTo>
                  <a:pt x="14214" y="9183"/>
                  <a:pt x="14236" y="9299"/>
                  <a:pt x="14213" y="9451"/>
                </a:cubicBezTo>
                <a:cubicBezTo>
                  <a:pt x="14200" y="9535"/>
                  <a:pt x="14152" y="9644"/>
                  <a:pt x="14114" y="9723"/>
                </a:cubicBezTo>
                <a:cubicBezTo>
                  <a:pt x="14065" y="9824"/>
                  <a:pt x="14005" y="9870"/>
                  <a:pt x="13940" y="9947"/>
                </a:cubicBezTo>
                <a:cubicBezTo>
                  <a:pt x="13902" y="9992"/>
                  <a:pt x="13897" y="9988"/>
                  <a:pt x="13841" y="9996"/>
                </a:cubicBezTo>
                <a:cubicBezTo>
                  <a:pt x="13807" y="9940"/>
                  <a:pt x="13799" y="9880"/>
                  <a:pt x="13841" y="9823"/>
                </a:cubicBezTo>
                <a:cubicBezTo>
                  <a:pt x="13899" y="9744"/>
                  <a:pt x="13950" y="9787"/>
                  <a:pt x="14015" y="9823"/>
                </a:cubicBezTo>
                <a:cubicBezTo>
                  <a:pt x="14072" y="9855"/>
                  <a:pt x="14137" y="9881"/>
                  <a:pt x="14188" y="9922"/>
                </a:cubicBezTo>
                <a:cubicBezTo>
                  <a:pt x="14291" y="10006"/>
                  <a:pt x="14365" y="10047"/>
                  <a:pt x="14486" y="10096"/>
                </a:cubicBezTo>
                <a:cubicBezTo>
                  <a:pt x="14588" y="10137"/>
                  <a:pt x="14652" y="10101"/>
                  <a:pt x="14709" y="10021"/>
                </a:cubicBezTo>
              </a:path>
              <a:path w="5284" h="1812">
                <a:moveTo>
                  <a:pt x="14883" y="8781"/>
                </a:moveTo>
                <a:cubicBezTo>
                  <a:pt x="14883" y="9037"/>
                  <a:pt x="14866" y="9299"/>
                  <a:pt x="14908" y="9550"/>
                </a:cubicBezTo>
                <a:cubicBezTo>
                  <a:pt x="14938" y="9732"/>
                  <a:pt x="15006" y="9892"/>
                  <a:pt x="15032" y="10071"/>
                </a:cubicBezTo>
                <a:cubicBezTo>
                  <a:pt x="15054" y="10277"/>
                  <a:pt x="15062" y="10335"/>
                  <a:pt x="15056" y="104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7"/>
          <p:cNvSpPr/>
          <p:nvPr/>
        </p:nvSpPr>
        <p:spPr>
          <a:xfrm>
            <a:off x="3803760" y="3697200"/>
            <a:ext cx="492120" cy="320760"/>
          </a:xfrm>
          <a:custGeom>
            <a:avLst/>
            <a:gdLst/>
            <a:ahLst/>
            <a:rect l="l" t="t" r="r" b="b"/>
            <a:pathLst>
              <a:path w="1365" h="894">
                <a:moveTo>
                  <a:pt x="10567" y="10468"/>
                </a:moveTo>
                <a:cubicBezTo>
                  <a:pt x="10688" y="10497"/>
                  <a:pt x="10813" y="10513"/>
                  <a:pt x="10939" y="10517"/>
                </a:cubicBezTo>
                <a:cubicBezTo>
                  <a:pt x="11063" y="10521"/>
                  <a:pt x="11187" y="10517"/>
                  <a:pt x="11311" y="10517"/>
                </a:cubicBezTo>
              </a:path>
              <a:path w="1365" h="894">
                <a:moveTo>
                  <a:pt x="11881" y="10269"/>
                </a:moveTo>
                <a:cubicBezTo>
                  <a:pt x="11780" y="10300"/>
                  <a:pt x="11664" y="10349"/>
                  <a:pt x="11559" y="10368"/>
                </a:cubicBezTo>
                <a:cubicBezTo>
                  <a:pt x="11495" y="10380"/>
                  <a:pt x="11446" y="10391"/>
                  <a:pt x="11385" y="10418"/>
                </a:cubicBezTo>
                <a:cubicBezTo>
                  <a:pt x="11424" y="10496"/>
                  <a:pt x="11450" y="10537"/>
                  <a:pt x="11509" y="10592"/>
                </a:cubicBezTo>
                <a:cubicBezTo>
                  <a:pt x="11612" y="10689"/>
                  <a:pt x="11693" y="10784"/>
                  <a:pt x="11782" y="10889"/>
                </a:cubicBezTo>
                <a:cubicBezTo>
                  <a:pt x="11830" y="10945"/>
                  <a:pt x="11889" y="11029"/>
                  <a:pt x="11857" y="11112"/>
                </a:cubicBezTo>
                <a:cubicBezTo>
                  <a:pt x="11822" y="11202"/>
                  <a:pt x="11621" y="11158"/>
                  <a:pt x="11559" y="11137"/>
                </a:cubicBezTo>
                <a:cubicBezTo>
                  <a:pt x="11452" y="11101"/>
                  <a:pt x="11483" y="11027"/>
                  <a:pt x="11509" y="10939"/>
                </a:cubicBezTo>
                <a:cubicBezTo>
                  <a:pt x="11538" y="10838"/>
                  <a:pt x="11621" y="10723"/>
                  <a:pt x="11683" y="10641"/>
                </a:cubicBezTo>
                <a:cubicBezTo>
                  <a:pt x="11735" y="10572"/>
                  <a:pt x="11806" y="10514"/>
                  <a:pt x="11857" y="10443"/>
                </a:cubicBezTo>
                <a:cubicBezTo>
                  <a:pt x="11881" y="10393"/>
                  <a:pt x="11889" y="10376"/>
                  <a:pt x="11931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8"/>
          <p:cNvSpPr/>
          <p:nvPr/>
        </p:nvSpPr>
        <p:spPr>
          <a:xfrm>
            <a:off x="3911760" y="3803760"/>
            <a:ext cx="1536480" cy="1295280"/>
          </a:xfrm>
          <a:custGeom>
            <a:avLst/>
            <a:gdLst/>
            <a:ahLst/>
            <a:rect l="l" t="t" r="r" b="b"/>
            <a:pathLst>
              <a:path w="4268" h="3597">
                <a:moveTo>
                  <a:pt x="13395" y="10790"/>
                </a:moveTo>
                <a:cubicBezTo>
                  <a:pt x="13593" y="10790"/>
                  <a:pt x="13792" y="10790"/>
                  <a:pt x="13990" y="10790"/>
                </a:cubicBezTo>
              </a:path>
              <a:path w="4268" h="3597">
                <a:moveTo>
                  <a:pt x="14784" y="10641"/>
                </a:moveTo>
                <a:cubicBezTo>
                  <a:pt x="14695" y="10585"/>
                  <a:pt x="14663" y="10567"/>
                  <a:pt x="14560" y="10567"/>
                </a:cubicBezTo>
                <a:cubicBezTo>
                  <a:pt x="14508" y="10567"/>
                  <a:pt x="14392" y="10555"/>
                  <a:pt x="14362" y="10616"/>
                </a:cubicBezTo>
                <a:cubicBezTo>
                  <a:pt x="14324" y="10692"/>
                  <a:pt x="14434" y="10805"/>
                  <a:pt x="14461" y="10864"/>
                </a:cubicBezTo>
                <a:cubicBezTo>
                  <a:pt x="14513" y="10977"/>
                  <a:pt x="14615" y="11073"/>
                  <a:pt x="14660" y="11187"/>
                </a:cubicBezTo>
                <a:cubicBezTo>
                  <a:pt x="14685" y="11251"/>
                  <a:pt x="14743" y="11446"/>
                  <a:pt x="14709" y="11534"/>
                </a:cubicBezTo>
                <a:cubicBezTo>
                  <a:pt x="14701" y="11542"/>
                  <a:pt x="14692" y="11551"/>
                  <a:pt x="14684" y="11559"/>
                </a:cubicBezTo>
                <a:cubicBezTo>
                  <a:pt x="14620" y="11575"/>
                  <a:pt x="14538" y="11575"/>
                  <a:pt x="14486" y="11509"/>
                </a:cubicBezTo>
                <a:cubicBezTo>
                  <a:pt x="14460" y="11476"/>
                  <a:pt x="14397" y="11373"/>
                  <a:pt x="14387" y="11336"/>
                </a:cubicBezTo>
                <a:cubicBezTo>
                  <a:pt x="14368" y="11264"/>
                  <a:pt x="14421" y="11189"/>
                  <a:pt x="14461" y="11137"/>
                </a:cubicBezTo>
                <a:cubicBezTo>
                  <a:pt x="14534" y="11042"/>
                  <a:pt x="14593" y="10984"/>
                  <a:pt x="14684" y="10914"/>
                </a:cubicBezTo>
                <a:cubicBezTo>
                  <a:pt x="14730" y="10878"/>
                  <a:pt x="14728" y="10842"/>
                  <a:pt x="14734" y="10790"/>
                </a:cubicBezTo>
              </a:path>
              <a:path w="4268" h="3597">
                <a:moveTo>
                  <a:pt x="11559" y="12105"/>
                </a:moveTo>
                <a:cubicBezTo>
                  <a:pt x="11577" y="12218"/>
                  <a:pt x="11621" y="12350"/>
                  <a:pt x="11683" y="12452"/>
                </a:cubicBezTo>
                <a:cubicBezTo>
                  <a:pt x="11789" y="12627"/>
                  <a:pt x="11929" y="12831"/>
                  <a:pt x="12080" y="12973"/>
                </a:cubicBezTo>
                <a:cubicBezTo>
                  <a:pt x="12173" y="13060"/>
                  <a:pt x="12259" y="13128"/>
                  <a:pt x="12378" y="13171"/>
                </a:cubicBezTo>
              </a:path>
              <a:path w="4268" h="3597">
                <a:moveTo>
                  <a:pt x="12254" y="12030"/>
                </a:moveTo>
                <a:cubicBezTo>
                  <a:pt x="12117" y="12150"/>
                  <a:pt x="12092" y="12245"/>
                  <a:pt x="11981" y="12378"/>
                </a:cubicBezTo>
                <a:cubicBezTo>
                  <a:pt x="11890" y="12487"/>
                  <a:pt x="11816" y="12606"/>
                  <a:pt x="11733" y="12725"/>
                </a:cubicBezTo>
                <a:cubicBezTo>
                  <a:pt x="11658" y="12832"/>
                  <a:pt x="11574" y="12952"/>
                  <a:pt x="11559" y="13072"/>
                </a:cubicBezTo>
                <a:cubicBezTo>
                  <a:pt x="11559" y="13080"/>
                  <a:pt x="11559" y="13089"/>
                  <a:pt x="11559" y="13097"/>
                </a:cubicBezTo>
              </a:path>
              <a:path w="4268" h="3597">
                <a:moveTo>
                  <a:pt x="12254" y="12452"/>
                </a:moveTo>
                <a:cubicBezTo>
                  <a:pt x="12400" y="12439"/>
                  <a:pt x="12531" y="12427"/>
                  <a:pt x="12675" y="12427"/>
                </a:cubicBezTo>
              </a:path>
              <a:path w="4268" h="3597">
                <a:moveTo>
                  <a:pt x="12328" y="12551"/>
                </a:moveTo>
                <a:cubicBezTo>
                  <a:pt x="12429" y="12588"/>
                  <a:pt x="12514" y="12620"/>
                  <a:pt x="12626" y="12601"/>
                </a:cubicBezTo>
                <a:cubicBezTo>
                  <a:pt x="12651" y="12593"/>
                  <a:pt x="12675" y="12584"/>
                  <a:pt x="12700" y="12576"/>
                </a:cubicBezTo>
              </a:path>
              <a:path w="4268" h="3597">
                <a:moveTo>
                  <a:pt x="13171" y="12055"/>
                </a:moveTo>
                <a:cubicBezTo>
                  <a:pt x="13162" y="12165"/>
                  <a:pt x="13132" y="12267"/>
                  <a:pt x="13122" y="12378"/>
                </a:cubicBezTo>
                <a:cubicBezTo>
                  <a:pt x="13110" y="12505"/>
                  <a:pt x="13097" y="12621"/>
                  <a:pt x="13097" y="12750"/>
                </a:cubicBezTo>
                <a:cubicBezTo>
                  <a:pt x="13097" y="12808"/>
                  <a:pt x="13096" y="13041"/>
                  <a:pt x="13146" y="13072"/>
                </a:cubicBezTo>
                <a:cubicBezTo>
                  <a:pt x="13154" y="13064"/>
                  <a:pt x="13163" y="13055"/>
                  <a:pt x="13171" y="13047"/>
                </a:cubicBezTo>
              </a:path>
              <a:path w="4268" h="3597">
                <a:moveTo>
                  <a:pt x="13519" y="12080"/>
                </a:moveTo>
                <a:cubicBezTo>
                  <a:pt x="13570" y="12158"/>
                  <a:pt x="13568" y="12211"/>
                  <a:pt x="13568" y="12303"/>
                </a:cubicBezTo>
                <a:cubicBezTo>
                  <a:pt x="13568" y="12429"/>
                  <a:pt x="13543" y="12546"/>
                  <a:pt x="13543" y="12675"/>
                </a:cubicBezTo>
                <a:cubicBezTo>
                  <a:pt x="13543" y="12788"/>
                  <a:pt x="13535" y="12891"/>
                  <a:pt x="13519" y="12998"/>
                </a:cubicBezTo>
                <a:cubicBezTo>
                  <a:pt x="13511" y="13052"/>
                  <a:pt x="13519" y="13081"/>
                  <a:pt x="13543" y="13122"/>
                </a:cubicBezTo>
              </a:path>
              <a:path w="4268" h="3597">
                <a:moveTo>
                  <a:pt x="13767" y="12452"/>
                </a:moveTo>
                <a:cubicBezTo>
                  <a:pt x="13825" y="12394"/>
                  <a:pt x="13906" y="12277"/>
                  <a:pt x="13990" y="12254"/>
                </a:cubicBezTo>
                <a:cubicBezTo>
                  <a:pt x="14053" y="12237"/>
                  <a:pt x="14156" y="12246"/>
                  <a:pt x="14213" y="12278"/>
                </a:cubicBezTo>
                <a:cubicBezTo>
                  <a:pt x="14291" y="12322"/>
                  <a:pt x="14352" y="12389"/>
                  <a:pt x="14288" y="12477"/>
                </a:cubicBezTo>
                <a:cubicBezTo>
                  <a:pt x="14241" y="12541"/>
                  <a:pt x="14171" y="12576"/>
                  <a:pt x="14114" y="12626"/>
                </a:cubicBezTo>
                <a:cubicBezTo>
                  <a:pt x="14079" y="12657"/>
                  <a:pt x="14047" y="12692"/>
                  <a:pt x="14015" y="12725"/>
                </a:cubicBezTo>
                <a:cubicBezTo>
                  <a:pt x="14066" y="12751"/>
                  <a:pt x="14081" y="12712"/>
                  <a:pt x="14139" y="12700"/>
                </a:cubicBezTo>
                <a:cubicBezTo>
                  <a:pt x="14198" y="12688"/>
                  <a:pt x="14294" y="12704"/>
                  <a:pt x="14337" y="12750"/>
                </a:cubicBezTo>
                <a:cubicBezTo>
                  <a:pt x="14400" y="12817"/>
                  <a:pt x="14430" y="12937"/>
                  <a:pt x="14436" y="13022"/>
                </a:cubicBezTo>
                <a:cubicBezTo>
                  <a:pt x="14444" y="13131"/>
                  <a:pt x="14409" y="13174"/>
                  <a:pt x="14337" y="13246"/>
                </a:cubicBezTo>
                <a:cubicBezTo>
                  <a:pt x="14276" y="13307"/>
                  <a:pt x="14107" y="13358"/>
                  <a:pt x="14015" y="13320"/>
                </a:cubicBezTo>
                <a:cubicBezTo>
                  <a:pt x="13920" y="13281"/>
                  <a:pt x="13807" y="13169"/>
                  <a:pt x="13742" y="13097"/>
                </a:cubicBezTo>
              </a:path>
              <a:path w="4268" h="3597">
                <a:moveTo>
                  <a:pt x="11782" y="11385"/>
                </a:moveTo>
                <a:cubicBezTo>
                  <a:pt x="11529" y="11402"/>
                  <a:pt x="11410" y="11396"/>
                  <a:pt x="11187" y="11485"/>
                </a:cubicBezTo>
                <a:cubicBezTo>
                  <a:pt x="11079" y="11528"/>
                  <a:pt x="10977" y="11586"/>
                  <a:pt x="10914" y="11683"/>
                </a:cubicBezTo>
                <a:cubicBezTo>
                  <a:pt x="10840" y="11796"/>
                  <a:pt x="10877" y="11833"/>
                  <a:pt x="10914" y="11931"/>
                </a:cubicBezTo>
                <a:cubicBezTo>
                  <a:pt x="10979" y="12104"/>
                  <a:pt x="11107" y="12167"/>
                  <a:pt x="11212" y="12303"/>
                </a:cubicBezTo>
                <a:cubicBezTo>
                  <a:pt x="11271" y="12379"/>
                  <a:pt x="11342" y="12447"/>
                  <a:pt x="11286" y="12551"/>
                </a:cubicBezTo>
                <a:cubicBezTo>
                  <a:pt x="11227" y="12660"/>
                  <a:pt x="11088" y="12701"/>
                  <a:pt x="11013" y="12774"/>
                </a:cubicBezTo>
                <a:cubicBezTo>
                  <a:pt x="10925" y="12860"/>
                  <a:pt x="10898" y="12923"/>
                  <a:pt x="10914" y="13047"/>
                </a:cubicBezTo>
                <a:cubicBezTo>
                  <a:pt x="10931" y="13179"/>
                  <a:pt x="11012" y="13208"/>
                  <a:pt x="11112" y="13295"/>
                </a:cubicBezTo>
                <a:cubicBezTo>
                  <a:pt x="11249" y="13415"/>
                  <a:pt x="11425" y="13484"/>
                  <a:pt x="11584" y="13568"/>
                </a:cubicBezTo>
                <a:cubicBezTo>
                  <a:pt x="11713" y="13636"/>
                  <a:pt x="11845" y="13669"/>
                  <a:pt x="11981" y="13717"/>
                </a:cubicBezTo>
                <a:cubicBezTo>
                  <a:pt x="12129" y="13769"/>
                  <a:pt x="12110" y="13793"/>
                  <a:pt x="12204" y="13866"/>
                </a:cubicBezTo>
                <a:cubicBezTo>
                  <a:pt x="12270" y="13918"/>
                  <a:pt x="12318" y="13957"/>
                  <a:pt x="12402" y="13990"/>
                </a:cubicBezTo>
                <a:cubicBezTo>
                  <a:pt x="12544" y="14046"/>
                  <a:pt x="12701" y="14083"/>
                  <a:pt x="12849" y="14114"/>
                </a:cubicBezTo>
                <a:cubicBezTo>
                  <a:pt x="13099" y="14166"/>
                  <a:pt x="13276" y="14175"/>
                  <a:pt x="13519" y="14114"/>
                </a:cubicBezTo>
                <a:cubicBezTo>
                  <a:pt x="13622" y="14088"/>
                  <a:pt x="13728" y="14076"/>
                  <a:pt x="13791" y="14015"/>
                </a:cubicBezTo>
                <a:cubicBezTo>
                  <a:pt x="13889" y="13920"/>
                  <a:pt x="13884" y="13881"/>
                  <a:pt x="14039" y="13841"/>
                </a:cubicBezTo>
                <a:cubicBezTo>
                  <a:pt x="14234" y="13790"/>
                  <a:pt x="14443" y="13799"/>
                  <a:pt x="14635" y="13717"/>
                </a:cubicBezTo>
                <a:cubicBezTo>
                  <a:pt x="14756" y="13665"/>
                  <a:pt x="14883" y="13548"/>
                  <a:pt x="14957" y="13444"/>
                </a:cubicBezTo>
                <a:cubicBezTo>
                  <a:pt x="15076" y="13277"/>
                  <a:pt x="15103" y="13192"/>
                  <a:pt x="15032" y="12998"/>
                </a:cubicBezTo>
                <a:cubicBezTo>
                  <a:pt x="15012" y="12945"/>
                  <a:pt x="14959" y="12878"/>
                  <a:pt x="14932" y="12824"/>
                </a:cubicBezTo>
                <a:cubicBezTo>
                  <a:pt x="14977" y="12799"/>
                  <a:pt x="15077" y="12804"/>
                  <a:pt x="15106" y="12750"/>
                </a:cubicBezTo>
                <a:cubicBezTo>
                  <a:pt x="15151" y="12667"/>
                  <a:pt x="15145" y="12509"/>
                  <a:pt x="15106" y="12427"/>
                </a:cubicBezTo>
                <a:cubicBezTo>
                  <a:pt x="15039" y="12286"/>
                  <a:pt x="14822" y="12139"/>
                  <a:pt x="14684" y="12080"/>
                </a:cubicBezTo>
                <a:cubicBezTo>
                  <a:pt x="14534" y="12016"/>
                  <a:pt x="14368" y="11950"/>
                  <a:pt x="14213" y="11906"/>
                </a:cubicBezTo>
                <a:cubicBezTo>
                  <a:pt x="14154" y="11890"/>
                  <a:pt x="14066" y="11898"/>
                  <a:pt x="14015" y="11857"/>
                </a:cubicBezTo>
                <a:cubicBezTo>
                  <a:pt x="13941" y="11796"/>
                  <a:pt x="13910" y="11648"/>
                  <a:pt x="13841" y="11584"/>
                </a:cubicBezTo>
                <a:cubicBezTo>
                  <a:pt x="13601" y="11361"/>
                  <a:pt x="13283" y="11328"/>
                  <a:pt x="12973" y="11311"/>
                </a:cubicBezTo>
                <a:cubicBezTo>
                  <a:pt x="12812" y="11302"/>
                  <a:pt x="12521" y="11266"/>
                  <a:pt x="12378" y="11336"/>
                </a:cubicBezTo>
                <a:cubicBezTo>
                  <a:pt x="12257" y="11395"/>
                  <a:pt x="12195" y="11472"/>
                  <a:pt x="12055" y="11509"/>
                </a:cubicBezTo>
                <a:cubicBezTo>
                  <a:pt x="11945" y="11538"/>
                  <a:pt x="11791" y="11549"/>
                  <a:pt x="11683" y="11509"/>
                </a:cubicBezTo>
                <a:cubicBezTo>
                  <a:pt x="11600" y="11482"/>
                  <a:pt x="11569" y="11467"/>
                  <a:pt x="11534" y="114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2514600" y="685800"/>
          <a:ext cx="4191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85800"/>
                    <a:ext cx="4191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Ink 3"/>
          <p:cNvSpPr/>
          <p:nvPr/>
        </p:nvSpPr>
        <p:spPr>
          <a:xfrm>
            <a:off x="4705200" y="1724040"/>
            <a:ext cx="598680" cy="258840"/>
          </a:xfrm>
          <a:custGeom>
            <a:avLst/>
            <a:gdLst/>
            <a:ahLst/>
            <a:rect l="l" t="t" r="r" b="b"/>
            <a:pathLst>
              <a:path w="1663" h="721">
                <a:moveTo>
                  <a:pt x="13370" y="4787"/>
                </a:moveTo>
                <a:cubicBezTo>
                  <a:pt x="13406" y="4833"/>
                  <a:pt x="13439" y="4903"/>
                  <a:pt x="13444" y="4961"/>
                </a:cubicBezTo>
                <a:cubicBezTo>
                  <a:pt x="13454" y="5074"/>
                  <a:pt x="13453" y="5209"/>
                  <a:pt x="13469" y="5308"/>
                </a:cubicBezTo>
                <a:cubicBezTo>
                  <a:pt x="13478" y="5363"/>
                  <a:pt x="13469" y="5391"/>
                  <a:pt x="13444" y="5432"/>
                </a:cubicBezTo>
              </a:path>
              <a:path w="1663" h="721">
                <a:moveTo>
                  <a:pt x="13072" y="5159"/>
                </a:moveTo>
                <a:cubicBezTo>
                  <a:pt x="13203" y="5180"/>
                  <a:pt x="13338" y="5196"/>
                  <a:pt x="13469" y="5209"/>
                </a:cubicBezTo>
                <a:cubicBezTo>
                  <a:pt x="13558" y="5218"/>
                  <a:pt x="13633" y="5204"/>
                  <a:pt x="13717" y="5184"/>
                </a:cubicBezTo>
              </a:path>
              <a:path w="1663" h="721">
                <a:moveTo>
                  <a:pt x="14139" y="4911"/>
                </a:moveTo>
                <a:cubicBezTo>
                  <a:pt x="14209" y="4999"/>
                  <a:pt x="14245" y="5126"/>
                  <a:pt x="14312" y="5209"/>
                </a:cubicBezTo>
                <a:cubicBezTo>
                  <a:pt x="14380" y="5292"/>
                  <a:pt x="14488" y="5403"/>
                  <a:pt x="14585" y="5457"/>
                </a:cubicBezTo>
                <a:cubicBezTo>
                  <a:pt x="14640" y="5488"/>
                  <a:pt x="14674" y="5499"/>
                  <a:pt x="14734" y="5507"/>
                </a:cubicBezTo>
              </a:path>
              <a:path w="1663" h="721">
                <a:moveTo>
                  <a:pt x="14585" y="4936"/>
                </a:moveTo>
                <a:cubicBezTo>
                  <a:pt x="14461" y="5077"/>
                  <a:pt x="14346" y="5227"/>
                  <a:pt x="14213" y="5358"/>
                </a:cubicBezTo>
                <a:cubicBezTo>
                  <a:pt x="14145" y="5426"/>
                  <a:pt x="14143" y="5423"/>
                  <a:pt x="14163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4"/>
          <p:cNvSpPr/>
          <p:nvPr/>
        </p:nvSpPr>
        <p:spPr>
          <a:xfrm>
            <a:off x="5965920" y="1697040"/>
            <a:ext cx="4809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6842" y="4762"/>
                </a:moveTo>
                <a:cubicBezTo>
                  <a:pt x="16848" y="4884"/>
                  <a:pt x="16841" y="5039"/>
                  <a:pt x="16867" y="5159"/>
                </a:cubicBezTo>
                <a:cubicBezTo>
                  <a:pt x="16891" y="5207"/>
                  <a:pt x="16899" y="5222"/>
                  <a:pt x="16892" y="5259"/>
                </a:cubicBezTo>
              </a:path>
              <a:path w="1340" h="671">
                <a:moveTo>
                  <a:pt x="16570" y="4936"/>
                </a:moveTo>
                <a:cubicBezTo>
                  <a:pt x="16687" y="4960"/>
                  <a:pt x="16798" y="4982"/>
                  <a:pt x="16917" y="4986"/>
                </a:cubicBezTo>
                <a:cubicBezTo>
                  <a:pt x="16994" y="4989"/>
                  <a:pt x="17064" y="4969"/>
                  <a:pt x="17140" y="4961"/>
                </a:cubicBezTo>
              </a:path>
              <a:path w="1340" h="671">
                <a:moveTo>
                  <a:pt x="17487" y="4713"/>
                </a:moveTo>
                <a:cubicBezTo>
                  <a:pt x="17508" y="4819"/>
                  <a:pt x="17509" y="4990"/>
                  <a:pt x="17562" y="5085"/>
                </a:cubicBezTo>
                <a:cubicBezTo>
                  <a:pt x="17628" y="5203"/>
                  <a:pt x="17722" y="5279"/>
                  <a:pt x="17835" y="5333"/>
                </a:cubicBezTo>
                <a:cubicBezTo>
                  <a:pt x="17878" y="5355"/>
                  <a:pt x="17890" y="5359"/>
                  <a:pt x="17909" y="5383"/>
                </a:cubicBezTo>
              </a:path>
              <a:path w="1340" h="671">
                <a:moveTo>
                  <a:pt x="17909" y="4936"/>
                </a:moveTo>
                <a:cubicBezTo>
                  <a:pt x="17765" y="5057"/>
                  <a:pt x="17571" y="5261"/>
                  <a:pt x="17388" y="5333"/>
                </a:cubicBezTo>
                <a:cubicBezTo>
                  <a:pt x="17330" y="5350"/>
                  <a:pt x="17272" y="5366"/>
                  <a:pt x="17214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5"/>
          <p:cNvSpPr/>
          <p:nvPr/>
        </p:nvSpPr>
        <p:spPr>
          <a:xfrm>
            <a:off x="3438360" y="2125800"/>
            <a:ext cx="3214800" cy="723600"/>
          </a:xfrm>
          <a:custGeom>
            <a:avLst/>
            <a:gdLst/>
            <a:ahLst/>
            <a:rect l="l" t="t" r="r" b="b"/>
            <a:pathLst>
              <a:path w="8930" h="2010">
                <a:moveTo>
                  <a:pt x="9550" y="6871"/>
                </a:moveTo>
                <a:cubicBezTo>
                  <a:pt x="9626" y="6861"/>
                  <a:pt x="9664" y="6848"/>
                  <a:pt x="9748" y="6871"/>
                </a:cubicBezTo>
                <a:cubicBezTo>
                  <a:pt x="9873" y="6905"/>
                  <a:pt x="9914" y="6960"/>
                  <a:pt x="9971" y="7069"/>
                </a:cubicBezTo>
                <a:cubicBezTo>
                  <a:pt x="10038" y="7195"/>
                  <a:pt x="10042" y="7275"/>
                  <a:pt x="10046" y="7417"/>
                </a:cubicBezTo>
                <a:cubicBezTo>
                  <a:pt x="10048" y="7516"/>
                  <a:pt x="10046" y="7615"/>
                  <a:pt x="10046" y="7714"/>
                </a:cubicBezTo>
                <a:cubicBezTo>
                  <a:pt x="10056" y="7625"/>
                  <a:pt x="10084" y="7555"/>
                  <a:pt x="10096" y="7466"/>
                </a:cubicBezTo>
                <a:cubicBezTo>
                  <a:pt x="10112" y="7345"/>
                  <a:pt x="10136" y="7213"/>
                  <a:pt x="10145" y="7094"/>
                </a:cubicBezTo>
                <a:cubicBezTo>
                  <a:pt x="10155" y="6964"/>
                  <a:pt x="10159" y="6812"/>
                  <a:pt x="10170" y="6697"/>
                </a:cubicBezTo>
                <a:cubicBezTo>
                  <a:pt x="10179" y="6606"/>
                  <a:pt x="10148" y="6568"/>
                  <a:pt x="10220" y="6499"/>
                </a:cubicBezTo>
                <a:cubicBezTo>
                  <a:pt x="10281" y="6441"/>
                  <a:pt x="10339" y="6452"/>
                  <a:pt x="10418" y="6449"/>
                </a:cubicBezTo>
                <a:cubicBezTo>
                  <a:pt x="11106" y="6423"/>
                  <a:pt x="11820" y="6426"/>
                  <a:pt x="12502" y="6474"/>
                </a:cubicBezTo>
                <a:cubicBezTo>
                  <a:pt x="12652" y="6485"/>
                  <a:pt x="12715" y="6431"/>
                  <a:pt x="12849" y="6499"/>
                </a:cubicBezTo>
              </a:path>
              <a:path w="8930" h="2010">
                <a:moveTo>
                  <a:pt x="10468" y="6896"/>
                </a:moveTo>
                <a:cubicBezTo>
                  <a:pt x="10520" y="6984"/>
                  <a:pt x="10563" y="7082"/>
                  <a:pt x="10616" y="7169"/>
                </a:cubicBezTo>
                <a:cubicBezTo>
                  <a:pt x="10672" y="7261"/>
                  <a:pt x="10720" y="7346"/>
                  <a:pt x="10765" y="7441"/>
                </a:cubicBezTo>
                <a:cubicBezTo>
                  <a:pt x="10803" y="7521"/>
                  <a:pt x="10883" y="7597"/>
                  <a:pt x="10939" y="7665"/>
                </a:cubicBezTo>
                <a:cubicBezTo>
                  <a:pt x="10996" y="7735"/>
                  <a:pt x="10949" y="7631"/>
                  <a:pt x="10939" y="7615"/>
                </a:cubicBezTo>
              </a:path>
              <a:path w="8930" h="2010">
                <a:moveTo>
                  <a:pt x="10840" y="6921"/>
                </a:moveTo>
                <a:cubicBezTo>
                  <a:pt x="10775" y="7020"/>
                  <a:pt x="10730" y="7147"/>
                  <a:pt x="10666" y="7243"/>
                </a:cubicBezTo>
                <a:cubicBezTo>
                  <a:pt x="10611" y="7325"/>
                  <a:pt x="10542" y="7406"/>
                  <a:pt x="10492" y="7491"/>
                </a:cubicBezTo>
                <a:cubicBezTo>
                  <a:pt x="10465" y="7537"/>
                  <a:pt x="10340" y="7624"/>
                  <a:pt x="10393" y="7615"/>
                </a:cubicBezTo>
                <a:cubicBezTo>
                  <a:pt x="10410" y="7607"/>
                  <a:pt x="10426" y="7598"/>
                  <a:pt x="10443" y="7590"/>
                </a:cubicBezTo>
              </a:path>
              <a:path w="8930" h="2010">
                <a:moveTo>
                  <a:pt x="11261" y="6921"/>
                </a:moveTo>
                <a:cubicBezTo>
                  <a:pt x="11255" y="7020"/>
                  <a:pt x="11237" y="7096"/>
                  <a:pt x="11237" y="7193"/>
                </a:cubicBezTo>
                <a:cubicBezTo>
                  <a:pt x="11237" y="7252"/>
                  <a:pt x="11247" y="7387"/>
                  <a:pt x="11261" y="7441"/>
                </a:cubicBezTo>
                <a:cubicBezTo>
                  <a:pt x="11284" y="7464"/>
                  <a:pt x="11295" y="7472"/>
                  <a:pt x="11261" y="7466"/>
                </a:cubicBezTo>
              </a:path>
              <a:path w="8930" h="2010">
                <a:moveTo>
                  <a:pt x="10964" y="7218"/>
                </a:moveTo>
                <a:cubicBezTo>
                  <a:pt x="11053" y="7237"/>
                  <a:pt x="11152" y="7222"/>
                  <a:pt x="11237" y="7243"/>
                </a:cubicBezTo>
                <a:cubicBezTo>
                  <a:pt x="11326" y="7264"/>
                  <a:pt x="11367" y="7274"/>
                  <a:pt x="11460" y="7243"/>
                </a:cubicBezTo>
              </a:path>
              <a:path w="8930" h="2010">
                <a:moveTo>
                  <a:pt x="11881" y="6821"/>
                </a:moveTo>
                <a:cubicBezTo>
                  <a:pt x="11909" y="6905"/>
                  <a:pt x="11906" y="6978"/>
                  <a:pt x="11906" y="7069"/>
                </a:cubicBezTo>
                <a:cubicBezTo>
                  <a:pt x="11906" y="7223"/>
                  <a:pt x="11917" y="7367"/>
                  <a:pt x="11931" y="7516"/>
                </a:cubicBezTo>
                <a:cubicBezTo>
                  <a:pt x="11940" y="7609"/>
                  <a:pt x="11906" y="7621"/>
                  <a:pt x="11981" y="7640"/>
                </a:cubicBezTo>
              </a:path>
              <a:path w="8930" h="2010">
                <a:moveTo>
                  <a:pt x="13816" y="7094"/>
                </a:moveTo>
                <a:cubicBezTo>
                  <a:pt x="13893" y="7104"/>
                  <a:pt x="13957" y="7119"/>
                  <a:pt x="14039" y="7119"/>
                </a:cubicBezTo>
                <a:cubicBezTo>
                  <a:pt x="14133" y="7119"/>
                  <a:pt x="14218" y="7144"/>
                  <a:pt x="14312" y="7144"/>
                </a:cubicBezTo>
                <a:cubicBezTo>
                  <a:pt x="14320" y="7144"/>
                  <a:pt x="14329" y="7144"/>
                  <a:pt x="14337" y="7144"/>
                </a:cubicBezTo>
              </a:path>
              <a:path w="8930" h="2010">
                <a:moveTo>
                  <a:pt x="13915" y="7342"/>
                </a:moveTo>
                <a:cubicBezTo>
                  <a:pt x="14036" y="7391"/>
                  <a:pt x="14107" y="7392"/>
                  <a:pt x="14238" y="7392"/>
                </a:cubicBezTo>
                <a:cubicBezTo>
                  <a:pt x="14255" y="7392"/>
                  <a:pt x="14271" y="7392"/>
                  <a:pt x="14288" y="7392"/>
                </a:cubicBezTo>
              </a:path>
              <a:path w="8930" h="2010">
                <a:moveTo>
                  <a:pt x="15180" y="6921"/>
                </a:moveTo>
                <a:cubicBezTo>
                  <a:pt x="15223" y="7011"/>
                  <a:pt x="15252" y="7134"/>
                  <a:pt x="15304" y="7218"/>
                </a:cubicBezTo>
                <a:cubicBezTo>
                  <a:pt x="15368" y="7322"/>
                  <a:pt x="15423" y="7447"/>
                  <a:pt x="15503" y="7541"/>
                </a:cubicBezTo>
                <a:cubicBezTo>
                  <a:pt x="15575" y="7626"/>
                  <a:pt x="15647" y="7710"/>
                  <a:pt x="15726" y="7789"/>
                </a:cubicBezTo>
                <a:cubicBezTo>
                  <a:pt x="15771" y="7834"/>
                  <a:pt x="15869" y="7911"/>
                  <a:pt x="15925" y="7838"/>
                </a:cubicBezTo>
                <a:cubicBezTo>
                  <a:pt x="15933" y="7822"/>
                  <a:pt x="15941" y="7805"/>
                  <a:pt x="15949" y="7789"/>
                </a:cubicBezTo>
              </a:path>
              <a:path w="8930" h="2010">
                <a:moveTo>
                  <a:pt x="15776" y="6921"/>
                </a:moveTo>
                <a:cubicBezTo>
                  <a:pt x="15714" y="6991"/>
                  <a:pt x="15646" y="7062"/>
                  <a:pt x="15602" y="7144"/>
                </a:cubicBezTo>
                <a:cubicBezTo>
                  <a:pt x="15545" y="7251"/>
                  <a:pt x="15472" y="7339"/>
                  <a:pt x="15404" y="7441"/>
                </a:cubicBezTo>
                <a:cubicBezTo>
                  <a:pt x="15346" y="7529"/>
                  <a:pt x="15281" y="7576"/>
                  <a:pt x="15230" y="7665"/>
                </a:cubicBezTo>
                <a:cubicBezTo>
                  <a:pt x="15200" y="7717"/>
                  <a:pt x="15115" y="7755"/>
                  <a:pt x="15131" y="7813"/>
                </a:cubicBezTo>
                <a:cubicBezTo>
                  <a:pt x="15139" y="7813"/>
                  <a:pt x="15148" y="7813"/>
                  <a:pt x="15156" y="7813"/>
                </a:cubicBezTo>
              </a:path>
              <a:path w="8930" h="2010">
                <a:moveTo>
                  <a:pt x="16321" y="6921"/>
                </a:moveTo>
                <a:cubicBezTo>
                  <a:pt x="16287" y="7052"/>
                  <a:pt x="16272" y="7157"/>
                  <a:pt x="16272" y="7293"/>
                </a:cubicBezTo>
                <a:cubicBezTo>
                  <a:pt x="16272" y="7374"/>
                  <a:pt x="16285" y="7441"/>
                  <a:pt x="16297" y="7516"/>
                </a:cubicBezTo>
                <a:cubicBezTo>
                  <a:pt x="16297" y="7557"/>
                  <a:pt x="16297" y="7565"/>
                  <a:pt x="16297" y="7590"/>
                </a:cubicBezTo>
              </a:path>
              <a:path w="8930" h="2010">
                <a:moveTo>
                  <a:pt x="15875" y="7268"/>
                </a:moveTo>
                <a:cubicBezTo>
                  <a:pt x="16082" y="7268"/>
                  <a:pt x="16288" y="7268"/>
                  <a:pt x="16495" y="7268"/>
                </a:cubicBezTo>
              </a:path>
              <a:path w="8930" h="2010">
                <a:moveTo>
                  <a:pt x="17165" y="6945"/>
                </a:moveTo>
                <a:cubicBezTo>
                  <a:pt x="17157" y="7065"/>
                  <a:pt x="17140" y="7171"/>
                  <a:pt x="17140" y="7293"/>
                </a:cubicBezTo>
                <a:cubicBezTo>
                  <a:pt x="17140" y="7435"/>
                  <a:pt x="17143" y="7557"/>
                  <a:pt x="17165" y="7689"/>
                </a:cubicBezTo>
                <a:cubicBezTo>
                  <a:pt x="17176" y="7755"/>
                  <a:pt x="17185" y="7823"/>
                  <a:pt x="17190" y="7888"/>
                </a:cubicBezTo>
                <a:cubicBezTo>
                  <a:pt x="17190" y="7896"/>
                  <a:pt x="17190" y="7905"/>
                  <a:pt x="17190" y="7913"/>
                </a:cubicBezTo>
              </a:path>
              <a:path w="8930" h="2010">
                <a:moveTo>
                  <a:pt x="12898" y="5978"/>
                </a:moveTo>
                <a:cubicBezTo>
                  <a:pt x="12963" y="5926"/>
                  <a:pt x="12989" y="5908"/>
                  <a:pt x="13072" y="5904"/>
                </a:cubicBezTo>
                <a:cubicBezTo>
                  <a:pt x="13130" y="5901"/>
                  <a:pt x="13187" y="5934"/>
                  <a:pt x="13171" y="6003"/>
                </a:cubicBezTo>
                <a:cubicBezTo>
                  <a:pt x="13154" y="6076"/>
                  <a:pt x="13096" y="6149"/>
                  <a:pt x="13047" y="6201"/>
                </a:cubicBezTo>
                <a:cubicBezTo>
                  <a:pt x="12998" y="6254"/>
                  <a:pt x="12931" y="6278"/>
                  <a:pt x="12973" y="6350"/>
                </a:cubicBezTo>
                <a:cubicBezTo>
                  <a:pt x="13013" y="6419"/>
                  <a:pt x="13106" y="6400"/>
                  <a:pt x="13171" y="6400"/>
                </a:cubicBezTo>
                <a:cubicBezTo>
                  <a:pt x="13237" y="6400"/>
                  <a:pt x="13304" y="6400"/>
                  <a:pt x="13370" y="6400"/>
                </a:cubicBezTo>
              </a:path>
              <a:path w="8930" h="2010">
                <a:moveTo>
                  <a:pt x="14784" y="6548"/>
                </a:moveTo>
                <a:cubicBezTo>
                  <a:pt x="14739" y="6646"/>
                  <a:pt x="14695" y="6744"/>
                  <a:pt x="14660" y="6846"/>
                </a:cubicBezTo>
                <a:cubicBezTo>
                  <a:pt x="14609" y="6994"/>
                  <a:pt x="14575" y="7092"/>
                  <a:pt x="14585" y="7243"/>
                </a:cubicBezTo>
                <a:cubicBezTo>
                  <a:pt x="14591" y="7339"/>
                  <a:pt x="14610" y="7430"/>
                  <a:pt x="14660" y="7516"/>
                </a:cubicBezTo>
                <a:cubicBezTo>
                  <a:pt x="14729" y="7636"/>
                  <a:pt x="14800" y="7704"/>
                  <a:pt x="14908" y="7789"/>
                </a:cubicBezTo>
              </a:path>
              <a:path w="8930" h="2010">
                <a:moveTo>
                  <a:pt x="17388" y="6375"/>
                </a:moveTo>
                <a:cubicBezTo>
                  <a:pt x="17546" y="6424"/>
                  <a:pt x="17492" y="6436"/>
                  <a:pt x="17562" y="6573"/>
                </a:cubicBezTo>
                <a:cubicBezTo>
                  <a:pt x="17622" y="6689"/>
                  <a:pt x="17672" y="6811"/>
                  <a:pt x="17686" y="6945"/>
                </a:cubicBezTo>
                <a:cubicBezTo>
                  <a:pt x="17702" y="7100"/>
                  <a:pt x="17742" y="7285"/>
                  <a:pt x="17735" y="7441"/>
                </a:cubicBezTo>
                <a:cubicBezTo>
                  <a:pt x="17732" y="7499"/>
                  <a:pt x="17714" y="7665"/>
                  <a:pt x="17686" y="7714"/>
                </a:cubicBezTo>
                <a:cubicBezTo>
                  <a:pt x="17648" y="7779"/>
                  <a:pt x="17590" y="7815"/>
                  <a:pt x="17537" y="7863"/>
                </a:cubicBezTo>
                <a:cubicBezTo>
                  <a:pt x="17463" y="7930"/>
                  <a:pt x="17464" y="7895"/>
                  <a:pt x="17413" y="7863"/>
                </a:cubicBezTo>
              </a:path>
              <a:path w="8930" h="2010">
                <a:moveTo>
                  <a:pt x="17785" y="5953"/>
                </a:moveTo>
                <a:cubicBezTo>
                  <a:pt x="17863" y="5911"/>
                  <a:pt x="17937" y="5880"/>
                  <a:pt x="18033" y="5904"/>
                </a:cubicBezTo>
                <a:cubicBezTo>
                  <a:pt x="18167" y="5938"/>
                  <a:pt x="18129" y="5972"/>
                  <a:pt x="18107" y="6052"/>
                </a:cubicBezTo>
                <a:cubicBezTo>
                  <a:pt x="18089" y="6117"/>
                  <a:pt x="18075" y="6156"/>
                  <a:pt x="18008" y="6201"/>
                </a:cubicBezTo>
                <a:cubicBezTo>
                  <a:pt x="17915" y="6263"/>
                  <a:pt x="17963" y="6275"/>
                  <a:pt x="18033" y="6300"/>
                </a:cubicBezTo>
                <a:cubicBezTo>
                  <a:pt x="18125" y="6332"/>
                  <a:pt x="18211" y="6307"/>
                  <a:pt x="18306" y="6325"/>
                </a:cubicBezTo>
                <a:cubicBezTo>
                  <a:pt x="18373" y="6338"/>
                  <a:pt x="18452" y="6345"/>
                  <a:pt x="18479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6"/>
          <p:cNvSpPr/>
          <p:nvPr/>
        </p:nvSpPr>
        <p:spPr>
          <a:xfrm>
            <a:off x="3795840" y="3125880"/>
            <a:ext cx="633240" cy="419040"/>
          </a:xfrm>
          <a:custGeom>
            <a:avLst/>
            <a:gdLst/>
            <a:ahLst/>
            <a:rect l="l" t="t" r="r" b="b"/>
            <a:pathLst>
              <a:path w="1762" h="1166">
                <a:moveTo>
                  <a:pt x="10542" y="8682"/>
                </a:moveTo>
                <a:cubicBezTo>
                  <a:pt x="10559" y="8682"/>
                  <a:pt x="10575" y="8682"/>
                  <a:pt x="10592" y="8682"/>
                </a:cubicBezTo>
                <a:cubicBezTo>
                  <a:pt x="10601" y="8753"/>
                  <a:pt x="10630" y="8841"/>
                  <a:pt x="10666" y="8905"/>
                </a:cubicBezTo>
                <a:cubicBezTo>
                  <a:pt x="10710" y="8983"/>
                  <a:pt x="10728" y="9069"/>
                  <a:pt x="10765" y="9153"/>
                </a:cubicBezTo>
                <a:cubicBezTo>
                  <a:pt x="10810" y="9255"/>
                  <a:pt x="10881" y="9382"/>
                  <a:pt x="10939" y="9475"/>
                </a:cubicBezTo>
                <a:cubicBezTo>
                  <a:pt x="10975" y="9532"/>
                  <a:pt x="11088" y="9741"/>
                  <a:pt x="11162" y="9798"/>
                </a:cubicBezTo>
                <a:cubicBezTo>
                  <a:pt x="11213" y="9837"/>
                  <a:pt x="11240" y="9841"/>
                  <a:pt x="11286" y="9823"/>
                </a:cubicBezTo>
              </a:path>
              <a:path w="1762" h="1166">
                <a:moveTo>
                  <a:pt x="11088" y="8706"/>
                </a:moveTo>
                <a:cubicBezTo>
                  <a:pt x="11002" y="8867"/>
                  <a:pt x="10944" y="9021"/>
                  <a:pt x="10864" y="9178"/>
                </a:cubicBezTo>
                <a:cubicBezTo>
                  <a:pt x="10799" y="9305"/>
                  <a:pt x="10733" y="9423"/>
                  <a:pt x="10666" y="9550"/>
                </a:cubicBezTo>
                <a:cubicBezTo>
                  <a:pt x="10650" y="9580"/>
                  <a:pt x="10531" y="9710"/>
                  <a:pt x="10592" y="9649"/>
                </a:cubicBezTo>
              </a:path>
              <a:path w="1762" h="1166">
                <a:moveTo>
                  <a:pt x="11509" y="8855"/>
                </a:moveTo>
                <a:cubicBezTo>
                  <a:pt x="11522" y="9009"/>
                  <a:pt x="11509" y="9147"/>
                  <a:pt x="11509" y="9302"/>
                </a:cubicBezTo>
                <a:cubicBezTo>
                  <a:pt x="11509" y="9400"/>
                  <a:pt x="11510" y="9490"/>
                  <a:pt x="11534" y="9575"/>
                </a:cubicBezTo>
                <a:cubicBezTo>
                  <a:pt x="11534" y="9583"/>
                  <a:pt x="11534" y="9591"/>
                  <a:pt x="11534" y="9599"/>
                </a:cubicBezTo>
              </a:path>
              <a:path w="1762" h="1166">
                <a:moveTo>
                  <a:pt x="11212" y="9178"/>
                </a:moveTo>
                <a:cubicBezTo>
                  <a:pt x="11327" y="9231"/>
                  <a:pt x="11416" y="9251"/>
                  <a:pt x="11534" y="9277"/>
                </a:cubicBezTo>
                <a:cubicBezTo>
                  <a:pt x="11637" y="9300"/>
                  <a:pt x="11725" y="9302"/>
                  <a:pt x="11832" y="9302"/>
                </a:cubicBezTo>
              </a:path>
              <a:path w="1762" h="1166">
                <a:moveTo>
                  <a:pt x="12278" y="8682"/>
                </a:moveTo>
                <a:cubicBezTo>
                  <a:pt x="12278" y="8867"/>
                  <a:pt x="12272" y="9045"/>
                  <a:pt x="12254" y="9227"/>
                </a:cubicBezTo>
                <a:cubicBezTo>
                  <a:pt x="12239" y="9380"/>
                  <a:pt x="12251" y="9562"/>
                  <a:pt x="12278" y="9699"/>
                </a:cubicBezTo>
                <a:cubicBezTo>
                  <a:pt x="12289" y="9756"/>
                  <a:pt x="12274" y="9774"/>
                  <a:pt x="12303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7"/>
          <p:cNvSpPr/>
          <p:nvPr/>
        </p:nvSpPr>
        <p:spPr>
          <a:xfrm>
            <a:off x="4680000" y="3321000"/>
            <a:ext cx="204840" cy="81000"/>
          </a:xfrm>
          <a:custGeom>
            <a:avLst/>
            <a:gdLst/>
            <a:ahLst/>
            <a:rect l="l" t="t" r="r" b="b"/>
            <a:pathLst>
              <a:path w="571" h="225">
                <a:moveTo>
                  <a:pt x="12998" y="9227"/>
                </a:moveTo>
                <a:cubicBezTo>
                  <a:pt x="13157" y="9227"/>
                  <a:pt x="13276" y="9223"/>
                  <a:pt x="13419" y="9252"/>
                </a:cubicBezTo>
              </a:path>
              <a:path w="571" h="225">
                <a:moveTo>
                  <a:pt x="13047" y="9376"/>
                </a:moveTo>
                <a:cubicBezTo>
                  <a:pt x="13167" y="9411"/>
                  <a:pt x="13299" y="9442"/>
                  <a:pt x="13419" y="9451"/>
                </a:cubicBezTo>
                <a:cubicBezTo>
                  <a:pt x="13469" y="9451"/>
                  <a:pt x="13518" y="9451"/>
                  <a:pt x="13568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8"/>
          <p:cNvSpPr/>
          <p:nvPr/>
        </p:nvSpPr>
        <p:spPr>
          <a:xfrm>
            <a:off x="5106960" y="2874960"/>
            <a:ext cx="1733400" cy="366840"/>
          </a:xfrm>
          <a:custGeom>
            <a:avLst/>
            <a:gdLst/>
            <a:ahLst/>
            <a:rect l="l" t="t" r="r" b="b"/>
            <a:pathLst>
              <a:path w="4813" h="1018">
                <a:moveTo>
                  <a:pt x="14362" y="8161"/>
                </a:moveTo>
                <a:cubicBezTo>
                  <a:pt x="14277" y="8221"/>
                  <a:pt x="14278" y="8286"/>
                  <a:pt x="14238" y="8384"/>
                </a:cubicBezTo>
                <a:cubicBezTo>
                  <a:pt x="14190" y="8501"/>
                  <a:pt x="14174" y="8551"/>
                  <a:pt x="14213" y="8682"/>
                </a:cubicBezTo>
                <a:cubicBezTo>
                  <a:pt x="14235" y="8755"/>
                  <a:pt x="14302" y="8796"/>
                  <a:pt x="14362" y="8830"/>
                </a:cubicBezTo>
              </a:path>
              <a:path w="4813" h="1018">
                <a:moveTo>
                  <a:pt x="14833" y="8409"/>
                </a:moveTo>
                <a:cubicBezTo>
                  <a:pt x="14890" y="8528"/>
                  <a:pt x="14946" y="8670"/>
                  <a:pt x="15056" y="8756"/>
                </a:cubicBezTo>
                <a:cubicBezTo>
                  <a:pt x="15108" y="8797"/>
                  <a:pt x="15165" y="8842"/>
                  <a:pt x="15230" y="8855"/>
                </a:cubicBezTo>
              </a:path>
              <a:path w="4813" h="1018">
                <a:moveTo>
                  <a:pt x="15056" y="8384"/>
                </a:moveTo>
                <a:cubicBezTo>
                  <a:pt x="14984" y="8500"/>
                  <a:pt x="14898" y="8614"/>
                  <a:pt x="14833" y="8731"/>
                </a:cubicBezTo>
                <a:cubicBezTo>
                  <a:pt x="14826" y="8744"/>
                  <a:pt x="14727" y="8864"/>
                  <a:pt x="14759" y="8880"/>
                </a:cubicBezTo>
                <a:cubicBezTo>
                  <a:pt x="14767" y="8872"/>
                  <a:pt x="14776" y="8863"/>
                  <a:pt x="14784" y="8855"/>
                </a:cubicBezTo>
              </a:path>
              <a:path w="4813" h="1018">
                <a:moveTo>
                  <a:pt x="15503" y="8235"/>
                </a:moveTo>
                <a:cubicBezTo>
                  <a:pt x="15520" y="8383"/>
                  <a:pt x="15519" y="8521"/>
                  <a:pt x="15577" y="8657"/>
                </a:cubicBezTo>
                <a:cubicBezTo>
                  <a:pt x="15602" y="8706"/>
                  <a:pt x="15611" y="8723"/>
                  <a:pt x="15627" y="8756"/>
                </a:cubicBezTo>
              </a:path>
              <a:path w="4813" h="1018">
                <a:moveTo>
                  <a:pt x="15255" y="8483"/>
                </a:moveTo>
                <a:cubicBezTo>
                  <a:pt x="15336" y="8518"/>
                  <a:pt x="15433" y="8508"/>
                  <a:pt x="15528" y="8508"/>
                </a:cubicBezTo>
                <a:cubicBezTo>
                  <a:pt x="15628" y="8508"/>
                  <a:pt x="15705" y="8505"/>
                  <a:pt x="15801" y="8483"/>
                </a:cubicBezTo>
              </a:path>
              <a:path w="4813" h="1018">
                <a:moveTo>
                  <a:pt x="16024" y="8161"/>
                </a:moveTo>
                <a:cubicBezTo>
                  <a:pt x="16013" y="8246"/>
                  <a:pt x="15999" y="8318"/>
                  <a:pt x="15999" y="8409"/>
                </a:cubicBezTo>
                <a:cubicBezTo>
                  <a:pt x="15999" y="8537"/>
                  <a:pt x="16001" y="8668"/>
                  <a:pt x="16024" y="8781"/>
                </a:cubicBezTo>
                <a:cubicBezTo>
                  <a:pt x="16024" y="8840"/>
                  <a:pt x="16027" y="8847"/>
                  <a:pt x="16049" y="8756"/>
                </a:cubicBezTo>
              </a:path>
              <a:path w="4813" h="1018">
                <a:moveTo>
                  <a:pt x="16173" y="8012"/>
                </a:moveTo>
                <a:cubicBezTo>
                  <a:pt x="16317" y="8109"/>
                  <a:pt x="16381" y="8177"/>
                  <a:pt x="16421" y="8359"/>
                </a:cubicBezTo>
                <a:cubicBezTo>
                  <a:pt x="16440" y="8445"/>
                  <a:pt x="16423" y="8553"/>
                  <a:pt x="16396" y="8632"/>
                </a:cubicBezTo>
                <a:cubicBezTo>
                  <a:pt x="16359" y="8742"/>
                  <a:pt x="16379" y="8753"/>
                  <a:pt x="16272" y="8806"/>
                </a:cubicBezTo>
                <a:cubicBezTo>
                  <a:pt x="16256" y="8814"/>
                  <a:pt x="16142" y="8893"/>
                  <a:pt x="16123" y="8855"/>
                </a:cubicBezTo>
                <a:cubicBezTo>
                  <a:pt x="16123" y="8839"/>
                  <a:pt x="16123" y="8822"/>
                  <a:pt x="16123" y="8806"/>
                </a:cubicBezTo>
              </a:path>
              <a:path w="4813" h="1018">
                <a:moveTo>
                  <a:pt x="16917" y="8136"/>
                </a:moveTo>
                <a:cubicBezTo>
                  <a:pt x="16871" y="8211"/>
                  <a:pt x="16760" y="8339"/>
                  <a:pt x="16743" y="8434"/>
                </a:cubicBezTo>
                <a:cubicBezTo>
                  <a:pt x="16727" y="8526"/>
                  <a:pt x="16735" y="8648"/>
                  <a:pt x="16768" y="8731"/>
                </a:cubicBezTo>
                <a:cubicBezTo>
                  <a:pt x="16787" y="8779"/>
                  <a:pt x="16884" y="8857"/>
                  <a:pt x="16942" y="8855"/>
                </a:cubicBezTo>
                <a:cubicBezTo>
                  <a:pt x="16991" y="8847"/>
                  <a:pt x="17041" y="8838"/>
                  <a:pt x="17090" y="8830"/>
                </a:cubicBezTo>
              </a:path>
              <a:path w="4813" h="1018">
                <a:moveTo>
                  <a:pt x="17190" y="8235"/>
                </a:moveTo>
                <a:cubicBezTo>
                  <a:pt x="17216" y="8348"/>
                  <a:pt x="17248" y="8441"/>
                  <a:pt x="17314" y="8533"/>
                </a:cubicBezTo>
                <a:cubicBezTo>
                  <a:pt x="17359" y="8596"/>
                  <a:pt x="17502" y="8716"/>
                  <a:pt x="17562" y="8756"/>
                </a:cubicBezTo>
                <a:cubicBezTo>
                  <a:pt x="17607" y="8786"/>
                  <a:pt x="17761" y="8866"/>
                  <a:pt x="17810" y="8855"/>
                </a:cubicBezTo>
                <a:cubicBezTo>
                  <a:pt x="17818" y="8847"/>
                  <a:pt x="17827" y="8838"/>
                  <a:pt x="17835" y="8830"/>
                </a:cubicBezTo>
              </a:path>
              <a:path w="4813" h="1018">
                <a:moveTo>
                  <a:pt x="17611" y="8210"/>
                </a:moveTo>
                <a:cubicBezTo>
                  <a:pt x="17519" y="8340"/>
                  <a:pt x="17399" y="8431"/>
                  <a:pt x="17314" y="8558"/>
                </a:cubicBezTo>
                <a:cubicBezTo>
                  <a:pt x="17268" y="8627"/>
                  <a:pt x="17145" y="8722"/>
                  <a:pt x="17140" y="8806"/>
                </a:cubicBezTo>
                <a:cubicBezTo>
                  <a:pt x="17148" y="8814"/>
                  <a:pt x="17157" y="8822"/>
                  <a:pt x="17165" y="8830"/>
                </a:cubicBezTo>
              </a:path>
              <a:path w="4813" h="1018">
                <a:moveTo>
                  <a:pt x="17934" y="8210"/>
                </a:moveTo>
                <a:cubicBezTo>
                  <a:pt x="17934" y="8356"/>
                  <a:pt x="17882" y="8628"/>
                  <a:pt x="17959" y="8756"/>
                </a:cubicBezTo>
                <a:cubicBezTo>
                  <a:pt x="17981" y="8779"/>
                  <a:pt x="17989" y="8784"/>
                  <a:pt x="17983" y="8806"/>
                </a:cubicBezTo>
              </a:path>
              <a:path w="4813" h="1018">
                <a:moveTo>
                  <a:pt x="17686" y="8533"/>
                </a:moveTo>
                <a:cubicBezTo>
                  <a:pt x="17821" y="8559"/>
                  <a:pt x="17945" y="8558"/>
                  <a:pt x="18083" y="8558"/>
                </a:cubicBezTo>
                <a:cubicBezTo>
                  <a:pt x="18183" y="8558"/>
                  <a:pt x="18217" y="8558"/>
                  <a:pt x="18281" y="8533"/>
                </a:cubicBezTo>
              </a:path>
              <a:path w="4813" h="1018">
                <a:moveTo>
                  <a:pt x="18554" y="8086"/>
                </a:moveTo>
                <a:cubicBezTo>
                  <a:pt x="18493" y="8238"/>
                  <a:pt x="18455" y="8325"/>
                  <a:pt x="18455" y="8483"/>
                </a:cubicBezTo>
                <a:cubicBezTo>
                  <a:pt x="18455" y="8576"/>
                  <a:pt x="18444" y="8676"/>
                  <a:pt x="18479" y="8756"/>
                </a:cubicBezTo>
                <a:cubicBezTo>
                  <a:pt x="18499" y="8797"/>
                  <a:pt x="18497" y="8813"/>
                  <a:pt x="18529" y="8806"/>
                </a:cubicBezTo>
              </a:path>
              <a:path w="4813" h="1018">
                <a:moveTo>
                  <a:pt x="18852" y="7987"/>
                </a:moveTo>
                <a:cubicBezTo>
                  <a:pt x="18939" y="8169"/>
                  <a:pt x="18995" y="8304"/>
                  <a:pt x="19000" y="8508"/>
                </a:cubicBezTo>
                <a:cubicBezTo>
                  <a:pt x="19003" y="8625"/>
                  <a:pt x="19020" y="8873"/>
                  <a:pt x="18951" y="8979"/>
                </a:cubicBezTo>
                <a:cubicBezTo>
                  <a:pt x="18934" y="8987"/>
                  <a:pt x="18918" y="8996"/>
                  <a:pt x="18901" y="90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9"/>
          <p:cNvSpPr/>
          <p:nvPr/>
        </p:nvSpPr>
        <p:spPr>
          <a:xfrm>
            <a:off x="4964040" y="3251160"/>
            <a:ext cx="1216080" cy="428760"/>
          </a:xfrm>
          <a:custGeom>
            <a:avLst/>
            <a:gdLst/>
            <a:ahLst/>
            <a:rect l="l" t="t" r="r" b="b"/>
            <a:pathLst>
              <a:path w="3375" h="1192">
                <a:moveTo>
                  <a:pt x="13791" y="9153"/>
                </a:moveTo>
                <a:cubicBezTo>
                  <a:pt x="13847" y="9265"/>
                  <a:pt x="13882" y="9361"/>
                  <a:pt x="13915" y="9475"/>
                </a:cubicBezTo>
                <a:cubicBezTo>
                  <a:pt x="13941" y="9565"/>
                  <a:pt x="13999" y="9623"/>
                  <a:pt x="14039" y="9699"/>
                </a:cubicBezTo>
                <a:cubicBezTo>
                  <a:pt x="14077" y="9772"/>
                  <a:pt x="14113" y="9854"/>
                  <a:pt x="14163" y="9922"/>
                </a:cubicBezTo>
                <a:cubicBezTo>
                  <a:pt x="14171" y="9933"/>
                  <a:pt x="14287" y="10098"/>
                  <a:pt x="14337" y="10120"/>
                </a:cubicBezTo>
                <a:cubicBezTo>
                  <a:pt x="14345" y="10120"/>
                  <a:pt x="14354" y="10120"/>
                  <a:pt x="14362" y="10120"/>
                </a:cubicBezTo>
              </a:path>
              <a:path w="3375" h="1192">
                <a:moveTo>
                  <a:pt x="14288" y="9203"/>
                </a:moveTo>
                <a:cubicBezTo>
                  <a:pt x="14278" y="9271"/>
                  <a:pt x="14240" y="9290"/>
                  <a:pt x="14213" y="9351"/>
                </a:cubicBezTo>
                <a:cubicBezTo>
                  <a:pt x="14164" y="9459"/>
                  <a:pt x="14115" y="9567"/>
                  <a:pt x="14064" y="9674"/>
                </a:cubicBezTo>
                <a:cubicBezTo>
                  <a:pt x="14031" y="9744"/>
                  <a:pt x="13958" y="9793"/>
                  <a:pt x="13940" y="9872"/>
                </a:cubicBezTo>
                <a:cubicBezTo>
                  <a:pt x="13924" y="9944"/>
                  <a:pt x="13904" y="10029"/>
                  <a:pt x="13866" y="10096"/>
                </a:cubicBezTo>
                <a:cubicBezTo>
                  <a:pt x="13858" y="10104"/>
                  <a:pt x="13849" y="10112"/>
                  <a:pt x="13841" y="10120"/>
                </a:cubicBezTo>
              </a:path>
              <a:path w="3375" h="1192">
                <a:moveTo>
                  <a:pt x="14486" y="9054"/>
                </a:moveTo>
                <a:cubicBezTo>
                  <a:pt x="14565" y="9028"/>
                  <a:pt x="14672" y="8997"/>
                  <a:pt x="14709" y="9103"/>
                </a:cubicBezTo>
                <a:cubicBezTo>
                  <a:pt x="14722" y="9141"/>
                  <a:pt x="14681" y="9225"/>
                  <a:pt x="14660" y="9252"/>
                </a:cubicBezTo>
                <a:cubicBezTo>
                  <a:pt x="14624" y="9298"/>
                  <a:pt x="14557" y="9315"/>
                  <a:pt x="14511" y="9351"/>
                </a:cubicBezTo>
                <a:cubicBezTo>
                  <a:pt x="14566" y="9384"/>
                  <a:pt x="14639" y="9397"/>
                  <a:pt x="14709" y="9401"/>
                </a:cubicBezTo>
                <a:cubicBezTo>
                  <a:pt x="14766" y="9404"/>
                  <a:pt x="14788" y="9403"/>
                  <a:pt x="14833" y="9376"/>
                </a:cubicBezTo>
              </a:path>
              <a:path w="3375" h="1192">
                <a:moveTo>
                  <a:pt x="15230" y="9500"/>
                </a:moveTo>
                <a:cubicBezTo>
                  <a:pt x="15202" y="9584"/>
                  <a:pt x="15205" y="9657"/>
                  <a:pt x="15205" y="9748"/>
                </a:cubicBezTo>
                <a:cubicBezTo>
                  <a:pt x="15205" y="9823"/>
                  <a:pt x="15230" y="9849"/>
                  <a:pt x="15230" y="9922"/>
                </a:cubicBezTo>
              </a:path>
              <a:path w="3375" h="1192">
                <a:moveTo>
                  <a:pt x="15007" y="9699"/>
                </a:moveTo>
                <a:cubicBezTo>
                  <a:pt x="15096" y="9699"/>
                  <a:pt x="15172" y="9687"/>
                  <a:pt x="15255" y="9674"/>
                </a:cubicBezTo>
                <a:cubicBezTo>
                  <a:pt x="15271" y="9674"/>
                  <a:pt x="15288" y="9674"/>
                  <a:pt x="15304" y="9674"/>
                </a:cubicBezTo>
              </a:path>
              <a:path w="3375" h="1192">
                <a:moveTo>
                  <a:pt x="15553" y="9401"/>
                </a:moveTo>
                <a:cubicBezTo>
                  <a:pt x="15632" y="9357"/>
                  <a:pt x="15727" y="9318"/>
                  <a:pt x="15825" y="9351"/>
                </a:cubicBezTo>
                <a:cubicBezTo>
                  <a:pt x="15902" y="9377"/>
                  <a:pt x="15880" y="9453"/>
                  <a:pt x="15875" y="9500"/>
                </a:cubicBezTo>
                <a:cubicBezTo>
                  <a:pt x="15869" y="9555"/>
                  <a:pt x="15847" y="9628"/>
                  <a:pt x="15825" y="9674"/>
                </a:cubicBezTo>
                <a:cubicBezTo>
                  <a:pt x="15782" y="9764"/>
                  <a:pt x="15709" y="9833"/>
                  <a:pt x="15677" y="9922"/>
                </a:cubicBezTo>
                <a:cubicBezTo>
                  <a:pt x="15653" y="9989"/>
                  <a:pt x="15673" y="10012"/>
                  <a:pt x="15726" y="10071"/>
                </a:cubicBezTo>
                <a:cubicBezTo>
                  <a:pt x="15778" y="10129"/>
                  <a:pt x="15844" y="10160"/>
                  <a:pt x="15925" y="10145"/>
                </a:cubicBezTo>
                <a:cubicBezTo>
                  <a:pt x="15941" y="10137"/>
                  <a:pt x="15958" y="10128"/>
                  <a:pt x="15974" y="10120"/>
                </a:cubicBezTo>
              </a:path>
              <a:path w="3375" h="1192">
                <a:moveTo>
                  <a:pt x="16024" y="9624"/>
                </a:moveTo>
                <a:cubicBezTo>
                  <a:pt x="16058" y="9710"/>
                  <a:pt x="16097" y="9748"/>
                  <a:pt x="16148" y="9823"/>
                </a:cubicBezTo>
                <a:cubicBezTo>
                  <a:pt x="16194" y="9891"/>
                  <a:pt x="16231" y="9966"/>
                  <a:pt x="16297" y="10021"/>
                </a:cubicBezTo>
                <a:cubicBezTo>
                  <a:pt x="16378" y="10088"/>
                  <a:pt x="16469" y="10186"/>
                  <a:pt x="16570" y="10220"/>
                </a:cubicBezTo>
                <a:cubicBezTo>
                  <a:pt x="16586" y="10220"/>
                  <a:pt x="16603" y="10220"/>
                  <a:pt x="16619" y="10220"/>
                </a:cubicBezTo>
              </a:path>
              <a:path w="3375" h="1192">
                <a:moveTo>
                  <a:pt x="16446" y="9599"/>
                </a:moveTo>
                <a:cubicBezTo>
                  <a:pt x="16366" y="9673"/>
                  <a:pt x="16276" y="9728"/>
                  <a:pt x="16222" y="9823"/>
                </a:cubicBezTo>
                <a:cubicBezTo>
                  <a:pt x="16185" y="9888"/>
                  <a:pt x="16143" y="9963"/>
                  <a:pt x="16098" y="10021"/>
                </a:cubicBezTo>
                <a:cubicBezTo>
                  <a:pt x="16049" y="10084"/>
                  <a:pt x="16049" y="10071"/>
                  <a:pt x="16049" y="10145"/>
                </a:cubicBezTo>
              </a:path>
              <a:path w="3375" h="1192">
                <a:moveTo>
                  <a:pt x="16942" y="9500"/>
                </a:moveTo>
                <a:cubicBezTo>
                  <a:pt x="16942" y="9631"/>
                  <a:pt x="16951" y="9744"/>
                  <a:pt x="16966" y="9872"/>
                </a:cubicBezTo>
                <a:cubicBezTo>
                  <a:pt x="16977" y="9962"/>
                  <a:pt x="16971" y="9992"/>
                  <a:pt x="17016" y="10071"/>
                </a:cubicBezTo>
              </a:path>
              <a:path w="3375" h="1192">
                <a:moveTo>
                  <a:pt x="16718" y="9699"/>
                </a:moveTo>
                <a:cubicBezTo>
                  <a:pt x="16867" y="9699"/>
                  <a:pt x="17016" y="9699"/>
                  <a:pt x="17165" y="96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0"/>
          <p:cNvSpPr/>
          <p:nvPr/>
        </p:nvSpPr>
        <p:spPr>
          <a:xfrm>
            <a:off x="6367320" y="3384720"/>
            <a:ext cx="34920" cy="312480"/>
          </a:xfrm>
          <a:custGeom>
            <a:avLst/>
            <a:gdLst/>
            <a:ahLst/>
            <a:rect l="l" t="t" r="r" b="b"/>
            <a:pathLst>
              <a:path w="100" h="869">
                <a:moveTo>
                  <a:pt x="17686" y="9401"/>
                </a:moveTo>
                <a:cubicBezTo>
                  <a:pt x="17686" y="9531"/>
                  <a:pt x="17706" y="9647"/>
                  <a:pt x="17711" y="9773"/>
                </a:cubicBezTo>
                <a:cubicBezTo>
                  <a:pt x="17715" y="9883"/>
                  <a:pt x="17748" y="9988"/>
                  <a:pt x="17760" y="10096"/>
                </a:cubicBezTo>
                <a:cubicBezTo>
                  <a:pt x="17760" y="10179"/>
                  <a:pt x="17762" y="10213"/>
                  <a:pt x="17785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11"/>
          <p:cNvSpPr/>
          <p:nvPr/>
        </p:nvSpPr>
        <p:spPr>
          <a:xfrm>
            <a:off x="3419640" y="3589200"/>
            <a:ext cx="982440" cy="285840"/>
          </a:xfrm>
          <a:custGeom>
            <a:avLst/>
            <a:gdLst/>
            <a:ahLst/>
            <a:rect l="l" t="t" r="r" b="b"/>
            <a:pathLst>
              <a:path w="2730" h="795">
                <a:moveTo>
                  <a:pt x="9500" y="10195"/>
                </a:moveTo>
                <a:cubicBezTo>
                  <a:pt x="9590" y="10195"/>
                  <a:pt x="9657" y="10173"/>
                  <a:pt x="9748" y="10170"/>
                </a:cubicBezTo>
                <a:cubicBezTo>
                  <a:pt x="9822" y="10167"/>
                  <a:pt x="9897" y="10170"/>
                  <a:pt x="9971" y="10170"/>
                </a:cubicBezTo>
              </a:path>
              <a:path w="2730" h="795">
                <a:moveTo>
                  <a:pt x="10418" y="9971"/>
                </a:moveTo>
                <a:cubicBezTo>
                  <a:pt x="10480" y="10084"/>
                  <a:pt x="10536" y="10219"/>
                  <a:pt x="10616" y="10319"/>
                </a:cubicBezTo>
                <a:cubicBezTo>
                  <a:pt x="10694" y="10416"/>
                  <a:pt x="10788" y="10502"/>
                  <a:pt x="10864" y="10592"/>
                </a:cubicBezTo>
                <a:cubicBezTo>
                  <a:pt x="10921" y="10660"/>
                  <a:pt x="10926" y="10711"/>
                  <a:pt x="10988" y="10765"/>
                </a:cubicBezTo>
              </a:path>
              <a:path w="2730" h="795">
                <a:moveTo>
                  <a:pt x="10790" y="10195"/>
                </a:moveTo>
                <a:cubicBezTo>
                  <a:pt x="10632" y="10352"/>
                  <a:pt x="10617" y="10387"/>
                  <a:pt x="10517" y="10542"/>
                </a:cubicBezTo>
                <a:cubicBezTo>
                  <a:pt x="10487" y="10589"/>
                  <a:pt x="10436" y="10603"/>
                  <a:pt x="10492" y="10641"/>
                </a:cubicBezTo>
              </a:path>
              <a:path w="2730" h="795">
                <a:moveTo>
                  <a:pt x="11311" y="10368"/>
                </a:moveTo>
                <a:cubicBezTo>
                  <a:pt x="11464" y="10368"/>
                  <a:pt x="11639" y="10392"/>
                  <a:pt x="11782" y="10368"/>
                </a:cubicBezTo>
              </a:path>
              <a:path w="2730" h="795">
                <a:moveTo>
                  <a:pt x="12179" y="10021"/>
                </a:moveTo>
                <a:cubicBezTo>
                  <a:pt x="12179" y="10233"/>
                  <a:pt x="12141" y="10488"/>
                  <a:pt x="12204" y="10691"/>
                </a:cubicBezTo>
                <a:cubicBezTo>
                  <a:pt x="12212" y="10716"/>
                  <a:pt x="12221" y="10740"/>
                  <a:pt x="12229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2"/>
          <p:cNvSpPr/>
          <p:nvPr/>
        </p:nvSpPr>
        <p:spPr>
          <a:xfrm>
            <a:off x="5330880" y="3741840"/>
            <a:ext cx="1036440" cy="312480"/>
          </a:xfrm>
          <a:custGeom>
            <a:avLst/>
            <a:gdLst/>
            <a:ahLst/>
            <a:rect l="l" t="t" r="r" b="b"/>
            <a:pathLst>
              <a:path w="2879" h="869">
                <a:moveTo>
                  <a:pt x="14808" y="10641"/>
                </a:moveTo>
                <a:cubicBezTo>
                  <a:pt x="14914" y="10605"/>
                  <a:pt x="15019" y="10624"/>
                  <a:pt x="15131" y="10641"/>
                </a:cubicBezTo>
                <a:cubicBezTo>
                  <a:pt x="15230" y="10661"/>
                  <a:pt x="15245" y="10669"/>
                  <a:pt x="15304" y="10666"/>
                </a:cubicBezTo>
              </a:path>
              <a:path w="2879" h="869">
                <a:moveTo>
                  <a:pt x="15677" y="10393"/>
                </a:moveTo>
                <a:cubicBezTo>
                  <a:pt x="15746" y="10506"/>
                  <a:pt x="15793" y="10621"/>
                  <a:pt x="15850" y="10740"/>
                </a:cubicBezTo>
                <a:cubicBezTo>
                  <a:pt x="15919" y="10882"/>
                  <a:pt x="16039" y="10998"/>
                  <a:pt x="16148" y="11112"/>
                </a:cubicBezTo>
                <a:cubicBezTo>
                  <a:pt x="16226" y="11191"/>
                  <a:pt x="16256" y="11220"/>
                  <a:pt x="16321" y="11261"/>
                </a:cubicBezTo>
              </a:path>
              <a:path w="2879" h="869">
                <a:moveTo>
                  <a:pt x="16024" y="10468"/>
                </a:moveTo>
                <a:cubicBezTo>
                  <a:pt x="15901" y="10600"/>
                  <a:pt x="15760" y="10725"/>
                  <a:pt x="15652" y="10864"/>
                </a:cubicBezTo>
                <a:cubicBezTo>
                  <a:pt x="15611" y="10917"/>
                  <a:pt x="15624" y="10943"/>
                  <a:pt x="15652" y="10988"/>
                </a:cubicBezTo>
              </a:path>
              <a:path w="2879" h="869">
                <a:moveTo>
                  <a:pt x="16594" y="10740"/>
                </a:moveTo>
                <a:cubicBezTo>
                  <a:pt x="16751" y="10766"/>
                  <a:pt x="16882" y="10790"/>
                  <a:pt x="17041" y="10790"/>
                </a:cubicBezTo>
              </a:path>
              <a:path w="2879" h="869">
                <a:moveTo>
                  <a:pt x="17611" y="10418"/>
                </a:moveTo>
                <a:cubicBezTo>
                  <a:pt x="17618" y="10559"/>
                  <a:pt x="17595" y="10703"/>
                  <a:pt x="17611" y="10840"/>
                </a:cubicBezTo>
                <a:cubicBezTo>
                  <a:pt x="17628" y="10981"/>
                  <a:pt x="17656" y="11120"/>
                  <a:pt x="17686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3"/>
          <p:cNvSpPr/>
          <p:nvPr/>
        </p:nvSpPr>
        <p:spPr>
          <a:xfrm>
            <a:off x="4187880" y="4071960"/>
            <a:ext cx="1805040" cy="696960"/>
          </a:xfrm>
          <a:custGeom>
            <a:avLst/>
            <a:gdLst/>
            <a:ahLst/>
            <a:rect l="l" t="t" r="r" b="b"/>
            <a:pathLst>
              <a:path w="5012" h="1936">
                <a:moveTo>
                  <a:pt x="11956" y="11311"/>
                </a:moveTo>
                <a:cubicBezTo>
                  <a:pt x="11891" y="11357"/>
                  <a:pt x="11863" y="11407"/>
                  <a:pt x="11832" y="11485"/>
                </a:cubicBezTo>
                <a:cubicBezTo>
                  <a:pt x="11785" y="11605"/>
                  <a:pt x="11718" y="11709"/>
                  <a:pt x="11683" y="11832"/>
                </a:cubicBezTo>
                <a:cubicBezTo>
                  <a:pt x="11643" y="11970"/>
                  <a:pt x="11650" y="12094"/>
                  <a:pt x="11658" y="12229"/>
                </a:cubicBezTo>
                <a:cubicBezTo>
                  <a:pt x="11664" y="12344"/>
                  <a:pt x="11645" y="12471"/>
                  <a:pt x="11708" y="12576"/>
                </a:cubicBezTo>
                <a:cubicBezTo>
                  <a:pt x="11772" y="12683"/>
                  <a:pt x="11846" y="12745"/>
                  <a:pt x="11956" y="12774"/>
                </a:cubicBezTo>
                <a:cubicBezTo>
                  <a:pt x="12020" y="12791"/>
                  <a:pt x="12155" y="12797"/>
                  <a:pt x="12204" y="12725"/>
                </a:cubicBezTo>
                <a:cubicBezTo>
                  <a:pt x="12259" y="12645"/>
                  <a:pt x="12258" y="12539"/>
                  <a:pt x="12278" y="12452"/>
                </a:cubicBezTo>
                <a:cubicBezTo>
                  <a:pt x="12315" y="12285"/>
                  <a:pt x="12328" y="12184"/>
                  <a:pt x="12328" y="12005"/>
                </a:cubicBezTo>
                <a:cubicBezTo>
                  <a:pt x="12328" y="11876"/>
                  <a:pt x="12300" y="11782"/>
                  <a:pt x="12278" y="11658"/>
                </a:cubicBezTo>
                <a:cubicBezTo>
                  <a:pt x="12262" y="11567"/>
                  <a:pt x="12256" y="11499"/>
                  <a:pt x="12179" y="11435"/>
                </a:cubicBezTo>
                <a:cubicBezTo>
                  <a:pt x="12107" y="11376"/>
                  <a:pt x="12076" y="11316"/>
                  <a:pt x="11981" y="11311"/>
                </a:cubicBezTo>
                <a:cubicBezTo>
                  <a:pt x="11878" y="11305"/>
                  <a:pt x="11841" y="11319"/>
                  <a:pt x="11807" y="11410"/>
                </a:cubicBezTo>
              </a:path>
              <a:path w="5012" h="1936">
                <a:moveTo>
                  <a:pt x="12427" y="11931"/>
                </a:moveTo>
                <a:cubicBezTo>
                  <a:pt x="12557" y="11931"/>
                  <a:pt x="12674" y="11944"/>
                  <a:pt x="12799" y="11956"/>
                </a:cubicBezTo>
                <a:cubicBezTo>
                  <a:pt x="12832" y="11956"/>
                  <a:pt x="12865" y="11956"/>
                  <a:pt x="12898" y="11956"/>
                </a:cubicBezTo>
              </a:path>
              <a:path w="5012" h="1936">
                <a:moveTo>
                  <a:pt x="12675" y="12179"/>
                </a:moveTo>
                <a:cubicBezTo>
                  <a:pt x="12794" y="12217"/>
                  <a:pt x="12850" y="12229"/>
                  <a:pt x="12973" y="12229"/>
                </a:cubicBezTo>
              </a:path>
              <a:path w="5012" h="1936">
                <a:moveTo>
                  <a:pt x="13519" y="11881"/>
                </a:moveTo>
                <a:cubicBezTo>
                  <a:pt x="13553" y="12086"/>
                  <a:pt x="13570" y="12241"/>
                  <a:pt x="13692" y="12402"/>
                </a:cubicBezTo>
                <a:cubicBezTo>
                  <a:pt x="13792" y="12534"/>
                  <a:pt x="13860" y="12663"/>
                  <a:pt x="13990" y="12774"/>
                </a:cubicBezTo>
                <a:cubicBezTo>
                  <a:pt x="14091" y="12860"/>
                  <a:pt x="14131" y="12933"/>
                  <a:pt x="14263" y="12948"/>
                </a:cubicBezTo>
              </a:path>
              <a:path w="5012" h="1936">
                <a:moveTo>
                  <a:pt x="14089" y="11708"/>
                </a:moveTo>
                <a:cubicBezTo>
                  <a:pt x="14010" y="11826"/>
                  <a:pt x="13958" y="11942"/>
                  <a:pt x="13915" y="12080"/>
                </a:cubicBezTo>
                <a:cubicBezTo>
                  <a:pt x="13877" y="12203"/>
                  <a:pt x="13810" y="12305"/>
                  <a:pt x="13767" y="12427"/>
                </a:cubicBezTo>
                <a:cubicBezTo>
                  <a:pt x="13737" y="12512"/>
                  <a:pt x="13699" y="12592"/>
                  <a:pt x="13667" y="12675"/>
                </a:cubicBezTo>
                <a:cubicBezTo>
                  <a:pt x="13638" y="12750"/>
                  <a:pt x="13619" y="12751"/>
                  <a:pt x="13643" y="12799"/>
                </a:cubicBezTo>
              </a:path>
              <a:path w="5012" h="1936">
                <a:moveTo>
                  <a:pt x="14263" y="11485"/>
                </a:moveTo>
                <a:cubicBezTo>
                  <a:pt x="14333" y="11414"/>
                  <a:pt x="14364" y="11347"/>
                  <a:pt x="14461" y="11385"/>
                </a:cubicBezTo>
                <a:cubicBezTo>
                  <a:pt x="14567" y="11426"/>
                  <a:pt x="14622" y="11472"/>
                  <a:pt x="14635" y="11584"/>
                </a:cubicBezTo>
                <a:cubicBezTo>
                  <a:pt x="14646" y="11679"/>
                  <a:pt x="14584" y="11798"/>
                  <a:pt x="14511" y="11857"/>
                </a:cubicBezTo>
                <a:cubicBezTo>
                  <a:pt x="14466" y="11893"/>
                  <a:pt x="14369" y="11928"/>
                  <a:pt x="14312" y="11906"/>
                </a:cubicBezTo>
                <a:cubicBezTo>
                  <a:pt x="14288" y="11881"/>
                  <a:pt x="14280" y="11873"/>
                  <a:pt x="14263" y="11857"/>
                </a:cubicBezTo>
                <a:cubicBezTo>
                  <a:pt x="14301" y="11752"/>
                  <a:pt x="14299" y="11719"/>
                  <a:pt x="14412" y="11757"/>
                </a:cubicBezTo>
                <a:cubicBezTo>
                  <a:pt x="14475" y="11778"/>
                  <a:pt x="14523" y="11842"/>
                  <a:pt x="14585" y="11857"/>
                </a:cubicBezTo>
                <a:cubicBezTo>
                  <a:pt x="14625" y="11867"/>
                  <a:pt x="14668" y="11873"/>
                  <a:pt x="14709" y="11881"/>
                </a:cubicBezTo>
              </a:path>
              <a:path w="5012" h="1936">
                <a:moveTo>
                  <a:pt x="14957" y="12005"/>
                </a:moveTo>
                <a:cubicBezTo>
                  <a:pt x="14938" y="12178"/>
                  <a:pt x="14935" y="12268"/>
                  <a:pt x="14957" y="12427"/>
                </a:cubicBezTo>
                <a:cubicBezTo>
                  <a:pt x="14969" y="12512"/>
                  <a:pt x="15002" y="12592"/>
                  <a:pt x="15007" y="12675"/>
                </a:cubicBezTo>
                <a:cubicBezTo>
                  <a:pt x="15007" y="12692"/>
                  <a:pt x="15007" y="12708"/>
                  <a:pt x="15007" y="12725"/>
                </a:cubicBezTo>
              </a:path>
              <a:path w="5012" h="1936">
                <a:moveTo>
                  <a:pt x="14759" y="12402"/>
                </a:moveTo>
                <a:cubicBezTo>
                  <a:pt x="14898" y="12402"/>
                  <a:pt x="14999" y="12436"/>
                  <a:pt x="15131" y="12452"/>
                </a:cubicBezTo>
                <a:cubicBezTo>
                  <a:pt x="15222" y="12452"/>
                  <a:pt x="15246" y="12452"/>
                  <a:pt x="15304" y="12452"/>
                </a:cubicBezTo>
              </a:path>
              <a:path w="5012" h="1936">
                <a:moveTo>
                  <a:pt x="15751" y="12030"/>
                </a:moveTo>
                <a:cubicBezTo>
                  <a:pt x="15829" y="12163"/>
                  <a:pt x="15893" y="12293"/>
                  <a:pt x="15974" y="12427"/>
                </a:cubicBezTo>
                <a:cubicBezTo>
                  <a:pt x="16082" y="12606"/>
                  <a:pt x="16203" y="12792"/>
                  <a:pt x="16346" y="12948"/>
                </a:cubicBezTo>
                <a:cubicBezTo>
                  <a:pt x="16459" y="13061"/>
                  <a:pt x="16462" y="13087"/>
                  <a:pt x="16545" y="13122"/>
                </a:cubicBezTo>
              </a:path>
              <a:path w="5012" h="1936">
                <a:moveTo>
                  <a:pt x="16644" y="11931"/>
                </a:moveTo>
                <a:cubicBezTo>
                  <a:pt x="16508" y="12078"/>
                  <a:pt x="16366" y="12200"/>
                  <a:pt x="16222" y="12353"/>
                </a:cubicBezTo>
                <a:cubicBezTo>
                  <a:pt x="16086" y="12499"/>
                  <a:pt x="15916" y="12670"/>
                  <a:pt x="15825" y="12849"/>
                </a:cubicBezTo>
                <a:cubicBezTo>
                  <a:pt x="15761" y="12975"/>
                  <a:pt x="15716" y="13117"/>
                  <a:pt x="15652" y="132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4"/>
          <p:cNvSpPr/>
          <p:nvPr/>
        </p:nvSpPr>
        <p:spPr>
          <a:xfrm>
            <a:off x="4224240" y="4749840"/>
            <a:ext cx="2133720" cy="644400"/>
          </a:xfrm>
          <a:custGeom>
            <a:avLst/>
            <a:gdLst/>
            <a:ahLst/>
            <a:rect l="l" t="t" r="r" b="b"/>
            <a:pathLst>
              <a:path w="5929" h="1787">
                <a:moveTo>
                  <a:pt x="12055" y="13221"/>
                </a:moveTo>
                <a:cubicBezTo>
                  <a:pt x="12013" y="13316"/>
                  <a:pt x="11924" y="13378"/>
                  <a:pt x="11881" y="13494"/>
                </a:cubicBezTo>
                <a:cubicBezTo>
                  <a:pt x="11830" y="13634"/>
                  <a:pt x="11785" y="13774"/>
                  <a:pt x="11757" y="13915"/>
                </a:cubicBezTo>
                <a:cubicBezTo>
                  <a:pt x="11733" y="14033"/>
                  <a:pt x="11725" y="14124"/>
                  <a:pt x="11782" y="14238"/>
                </a:cubicBezTo>
                <a:cubicBezTo>
                  <a:pt x="11825" y="14324"/>
                  <a:pt x="11873" y="14390"/>
                  <a:pt x="11956" y="14436"/>
                </a:cubicBezTo>
                <a:cubicBezTo>
                  <a:pt x="12034" y="14479"/>
                  <a:pt x="12046" y="14459"/>
                  <a:pt x="12105" y="14412"/>
                </a:cubicBezTo>
                <a:cubicBezTo>
                  <a:pt x="12210" y="14329"/>
                  <a:pt x="12249" y="14236"/>
                  <a:pt x="12303" y="14114"/>
                </a:cubicBezTo>
                <a:cubicBezTo>
                  <a:pt x="12354" y="13998"/>
                  <a:pt x="12379" y="13885"/>
                  <a:pt x="12402" y="13767"/>
                </a:cubicBezTo>
                <a:cubicBezTo>
                  <a:pt x="12430" y="13625"/>
                  <a:pt x="12454" y="13483"/>
                  <a:pt x="12378" y="13345"/>
                </a:cubicBezTo>
                <a:cubicBezTo>
                  <a:pt x="12326" y="13251"/>
                  <a:pt x="12177" y="13200"/>
                  <a:pt x="12080" y="13196"/>
                </a:cubicBezTo>
                <a:cubicBezTo>
                  <a:pt x="12031" y="13194"/>
                  <a:pt x="11929" y="13183"/>
                  <a:pt x="11906" y="13246"/>
                </a:cubicBezTo>
                <a:cubicBezTo>
                  <a:pt x="11906" y="13295"/>
                  <a:pt x="11906" y="13312"/>
                  <a:pt x="11906" y="13345"/>
                </a:cubicBezTo>
              </a:path>
              <a:path w="5929" h="1787">
                <a:moveTo>
                  <a:pt x="12700" y="13593"/>
                </a:moveTo>
                <a:cubicBezTo>
                  <a:pt x="12815" y="13624"/>
                  <a:pt x="12903" y="13643"/>
                  <a:pt x="13022" y="13643"/>
                </a:cubicBezTo>
                <a:cubicBezTo>
                  <a:pt x="13039" y="13643"/>
                  <a:pt x="13055" y="13643"/>
                  <a:pt x="13072" y="13643"/>
                </a:cubicBezTo>
              </a:path>
              <a:path w="5929" h="1787">
                <a:moveTo>
                  <a:pt x="12849" y="13866"/>
                </a:moveTo>
                <a:cubicBezTo>
                  <a:pt x="13028" y="13963"/>
                  <a:pt x="13078" y="13990"/>
                  <a:pt x="13271" y="13990"/>
                </a:cubicBezTo>
              </a:path>
              <a:path w="5929" h="1787">
                <a:moveTo>
                  <a:pt x="13717" y="13519"/>
                </a:moveTo>
                <a:cubicBezTo>
                  <a:pt x="13747" y="13621"/>
                  <a:pt x="13777" y="13753"/>
                  <a:pt x="13841" y="13841"/>
                </a:cubicBezTo>
                <a:cubicBezTo>
                  <a:pt x="13926" y="13957"/>
                  <a:pt x="14009" y="14065"/>
                  <a:pt x="14089" y="14188"/>
                </a:cubicBezTo>
                <a:cubicBezTo>
                  <a:pt x="14173" y="14316"/>
                  <a:pt x="14270" y="14438"/>
                  <a:pt x="14362" y="14560"/>
                </a:cubicBezTo>
                <a:cubicBezTo>
                  <a:pt x="14394" y="14603"/>
                  <a:pt x="14470" y="14590"/>
                  <a:pt x="14486" y="14536"/>
                </a:cubicBezTo>
                <a:cubicBezTo>
                  <a:pt x="14486" y="14519"/>
                  <a:pt x="14486" y="14503"/>
                  <a:pt x="14486" y="14486"/>
                </a:cubicBezTo>
              </a:path>
              <a:path w="5929" h="1787">
                <a:moveTo>
                  <a:pt x="14163" y="13469"/>
                </a:moveTo>
                <a:cubicBezTo>
                  <a:pt x="14114" y="13569"/>
                  <a:pt x="14048" y="13635"/>
                  <a:pt x="13990" y="13717"/>
                </a:cubicBezTo>
                <a:cubicBezTo>
                  <a:pt x="13919" y="13818"/>
                  <a:pt x="13874" y="13919"/>
                  <a:pt x="13791" y="14015"/>
                </a:cubicBezTo>
                <a:cubicBezTo>
                  <a:pt x="13726" y="14090"/>
                  <a:pt x="13668" y="14119"/>
                  <a:pt x="13618" y="14213"/>
                </a:cubicBezTo>
                <a:cubicBezTo>
                  <a:pt x="13584" y="14277"/>
                  <a:pt x="13568" y="14315"/>
                  <a:pt x="13568" y="14387"/>
                </a:cubicBezTo>
              </a:path>
              <a:path w="5929" h="1787">
                <a:moveTo>
                  <a:pt x="14759" y="13196"/>
                </a:moveTo>
                <a:cubicBezTo>
                  <a:pt x="14735" y="13314"/>
                  <a:pt x="14709" y="13428"/>
                  <a:pt x="14684" y="13543"/>
                </a:cubicBezTo>
                <a:cubicBezTo>
                  <a:pt x="14662" y="13646"/>
                  <a:pt x="14631" y="13741"/>
                  <a:pt x="14610" y="13841"/>
                </a:cubicBezTo>
                <a:cubicBezTo>
                  <a:pt x="14587" y="13951"/>
                  <a:pt x="14604" y="14051"/>
                  <a:pt x="14635" y="14163"/>
                </a:cubicBezTo>
                <a:cubicBezTo>
                  <a:pt x="14672" y="14295"/>
                  <a:pt x="14680" y="14434"/>
                  <a:pt x="14734" y="14560"/>
                </a:cubicBezTo>
                <a:cubicBezTo>
                  <a:pt x="14756" y="14612"/>
                  <a:pt x="14758" y="14634"/>
                  <a:pt x="14808" y="14660"/>
                </a:cubicBezTo>
              </a:path>
              <a:path w="5929" h="1787">
                <a:moveTo>
                  <a:pt x="15180" y="13742"/>
                </a:moveTo>
                <a:cubicBezTo>
                  <a:pt x="15225" y="13808"/>
                  <a:pt x="15264" y="13892"/>
                  <a:pt x="15304" y="13965"/>
                </a:cubicBezTo>
                <a:cubicBezTo>
                  <a:pt x="15388" y="14119"/>
                  <a:pt x="15523" y="14221"/>
                  <a:pt x="15627" y="14362"/>
                </a:cubicBezTo>
                <a:cubicBezTo>
                  <a:pt x="15693" y="14452"/>
                  <a:pt x="15797" y="14538"/>
                  <a:pt x="15850" y="14635"/>
                </a:cubicBezTo>
                <a:cubicBezTo>
                  <a:pt x="15891" y="14710"/>
                  <a:pt x="15887" y="14708"/>
                  <a:pt x="15949" y="14759"/>
                </a:cubicBezTo>
                <a:cubicBezTo>
                  <a:pt x="15976" y="14713"/>
                  <a:pt x="15974" y="14693"/>
                  <a:pt x="15974" y="14635"/>
                </a:cubicBezTo>
              </a:path>
              <a:path w="5929" h="1787">
                <a:moveTo>
                  <a:pt x="15801" y="13791"/>
                </a:moveTo>
                <a:cubicBezTo>
                  <a:pt x="15738" y="13863"/>
                  <a:pt x="15710" y="13974"/>
                  <a:pt x="15652" y="14039"/>
                </a:cubicBezTo>
                <a:cubicBezTo>
                  <a:pt x="15553" y="14150"/>
                  <a:pt x="15504" y="14223"/>
                  <a:pt x="15453" y="14362"/>
                </a:cubicBezTo>
                <a:cubicBezTo>
                  <a:pt x="15430" y="14425"/>
                  <a:pt x="15369" y="14503"/>
                  <a:pt x="15329" y="14560"/>
                </a:cubicBezTo>
                <a:cubicBezTo>
                  <a:pt x="15287" y="14620"/>
                  <a:pt x="15196" y="14738"/>
                  <a:pt x="15354" y="14560"/>
                </a:cubicBezTo>
              </a:path>
              <a:path w="5929" h="1787">
                <a:moveTo>
                  <a:pt x="16297" y="13866"/>
                </a:moveTo>
                <a:cubicBezTo>
                  <a:pt x="16274" y="13987"/>
                  <a:pt x="16247" y="14091"/>
                  <a:pt x="16247" y="14213"/>
                </a:cubicBezTo>
                <a:cubicBezTo>
                  <a:pt x="16247" y="14308"/>
                  <a:pt x="16272" y="14390"/>
                  <a:pt x="16272" y="14486"/>
                </a:cubicBezTo>
                <a:cubicBezTo>
                  <a:pt x="16272" y="14494"/>
                  <a:pt x="16272" y="14503"/>
                  <a:pt x="16272" y="14511"/>
                </a:cubicBezTo>
              </a:path>
              <a:path w="5929" h="1787">
                <a:moveTo>
                  <a:pt x="15974" y="13915"/>
                </a:moveTo>
                <a:cubicBezTo>
                  <a:pt x="16067" y="13965"/>
                  <a:pt x="16191" y="14047"/>
                  <a:pt x="16297" y="14064"/>
                </a:cubicBezTo>
                <a:cubicBezTo>
                  <a:pt x="16413" y="14064"/>
                  <a:pt x="16462" y="14064"/>
                  <a:pt x="16545" y="14064"/>
                </a:cubicBezTo>
              </a:path>
              <a:path w="5929" h="1787">
                <a:moveTo>
                  <a:pt x="17016" y="13717"/>
                </a:moveTo>
                <a:cubicBezTo>
                  <a:pt x="17030" y="13816"/>
                  <a:pt x="17030" y="13910"/>
                  <a:pt x="17016" y="14015"/>
                </a:cubicBezTo>
                <a:cubicBezTo>
                  <a:pt x="16997" y="14151"/>
                  <a:pt x="16991" y="14274"/>
                  <a:pt x="16991" y="14412"/>
                </a:cubicBezTo>
                <a:cubicBezTo>
                  <a:pt x="16991" y="14519"/>
                  <a:pt x="16991" y="14627"/>
                  <a:pt x="16991" y="14734"/>
                </a:cubicBezTo>
              </a:path>
              <a:path w="5929" h="1787">
                <a:moveTo>
                  <a:pt x="17338" y="13320"/>
                </a:moveTo>
                <a:cubicBezTo>
                  <a:pt x="17491" y="13545"/>
                  <a:pt x="17540" y="13671"/>
                  <a:pt x="17587" y="13940"/>
                </a:cubicBezTo>
                <a:cubicBezTo>
                  <a:pt x="17625" y="14160"/>
                  <a:pt x="17684" y="14389"/>
                  <a:pt x="17636" y="14610"/>
                </a:cubicBezTo>
                <a:cubicBezTo>
                  <a:pt x="17574" y="14818"/>
                  <a:pt x="17565" y="14862"/>
                  <a:pt x="17512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5"/>
          <p:cNvSpPr/>
          <p:nvPr/>
        </p:nvSpPr>
        <p:spPr>
          <a:xfrm>
            <a:off x="3963960" y="5126040"/>
            <a:ext cx="2224080" cy="1251000"/>
          </a:xfrm>
          <a:custGeom>
            <a:avLst/>
            <a:gdLst/>
            <a:ahLst/>
            <a:rect l="l" t="t" r="r" b="b"/>
            <a:pathLst>
              <a:path w="6178" h="3474">
                <a:moveTo>
                  <a:pt x="11509" y="14833"/>
                </a:moveTo>
                <a:cubicBezTo>
                  <a:pt x="11539" y="14938"/>
                  <a:pt x="11582" y="15035"/>
                  <a:pt x="11633" y="15131"/>
                </a:cubicBezTo>
                <a:cubicBezTo>
                  <a:pt x="11708" y="15271"/>
                  <a:pt x="11783" y="15414"/>
                  <a:pt x="11857" y="15553"/>
                </a:cubicBezTo>
                <a:cubicBezTo>
                  <a:pt x="11903" y="15639"/>
                  <a:pt x="11946" y="15725"/>
                  <a:pt x="12005" y="15801"/>
                </a:cubicBezTo>
                <a:cubicBezTo>
                  <a:pt x="12030" y="15825"/>
                  <a:pt x="12039" y="15833"/>
                  <a:pt x="12055" y="15850"/>
                </a:cubicBezTo>
              </a:path>
              <a:path w="6178" h="3474">
                <a:moveTo>
                  <a:pt x="11931" y="14734"/>
                </a:moveTo>
                <a:cubicBezTo>
                  <a:pt x="11848" y="14861"/>
                  <a:pt x="11767" y="15009"/>
                  <a:pt x="11683" y="15131"/>
                </a:cubicBezTo>
                <a:cubicBezTo>
                  <a:pt x="11640" y="15193"/>
                  <a:pt x="11536" y="15286"/>
                  <a:pt x="11509" y="15354"/>
                </a:cubicBezTo>
                <a:cubicBezTo>
                  <a:pt x="11479" y="15430"/>
                  <a:pt x="11362" y="15539"/>
                  <a:pt x="11435" y="15577"/>
                </a:cubicBezTo>
                <a:cubicBezTo>
                  <a:pt x="11443" y="15569"/>
                  <a:pt x="11452" y="15561"/>
                  <a:pt x="11460" y="15553"/>
                </a:cubicBezTo>
              </a:path>
              <a:path w="6178" h="3474">
                <a:moveTo>
                  <a:pt x="12105" y="15032"/>
                </a:moveTo>
                <a:cubicBezTo>
                  <a:pt x="12196" y="15009"/>
                  <a:pt x="12222" y="15003"/>
                  <a:pt x="12278" y="14982"/>
                </a:cubicBezTo>
              </a:path>
              <a:path w="6178" h="3474">
                <a:moveTo>
                  <a:pt x="12105" y="15106"/>
                </a:moveTo>
                <a:cubicBezTo>
                  <a:pt x="12138" y="15153"/>
                  <a:pt x="12189" y="15215"/>
                  <a:pt x="12254" y="15230"/>
                </a:cubicBezTo>
                <a:cubicBezTo>
                  <a:pt x="12320" y="15230"/>
                  <a:pt x="12353" y="15230"/>
                  <a:pt x="12402" y="15230"/>
                </a:cubicBezTo>
              </a:path>
              <a:path w="6178" h="3474">
                <a:moveTo>
                  <a:pt x="12824" y="14759"/>
                </a:moveTo>
                <a:cubicBezTo>
                  <a:pt x="12772" y="14804"/>
                  <a:pt x="12731" y="14865"/>
                  <a:pt x="12700" y="14932"/>
                </a:cubicBezTo>
                <a:cubicBezTo>
                  <a:pt x="12646" y="15047"/>
                  <a:pt x="12650" y="15110"/>
                  <a:pt x="12650" y="15230"/>
                </a:cubicBezTo>
                <a:cubicBezTo>
                  <a:pt x="12650" y="15292"/>
                  <a:pt x="12691" y="15401"/>
                  <a:pt x="12725" y="15453"/>
                </a:cubicBezTo>
                <a:cubicBezTo>
                  <a:pt x="12767" y="15517"/>
                  <a:pt x="12844" y="15566"/>
                  <a:pt x="12923" y="15553"/>
                </a:cubicBezTo>
                <a:cubicBezTo>
                  <a:pt x="12985" y="15543"/>
                  <a:pt x="13035" y="15503"/>
                  <a:pt x="13072" y="15453"/>
                </a:cubicBezTo>
                <a:cubicBezTo>
                  <a:pt x="13139" y="15363"/>
                  <a:pt x="13166" y="15290"/>
                  <a:pt x="13171" y="15180"/>
                </a:cubicBezTo>
                <a:cubicBezTo>
                  <a:pt x="13175" y="15086"/>
                  <a:pt x="13178" y="14997"/>
                  <a:pt x="13146" y="14908"/>
                </a:cubicBezTo>
                <a:cubicBezTo>
                  <a:pt x="13113" y="14814"/>
                  <a:pt x="13049" y="14761"/>
                  <a:pt x="12998" y="14684"/>
                </a:cubicBezTo>
                <a:cubicBezTo>
                  <a:pt x="12922" y="14570"/>
                  <a:pt x="12849" y="14655"/>
                  <a:pt x="12799" y="14734"/>
                </a:cubicBezTo>
                <a:cubicBezTo>
                  <a:pt x="12783" y="14759"/>
                  <a:pt x="12766" y="14783"/>
                  <a:pt x="12750" y="14808"/>
                </a:cubicBezTo>
              </a:path>
              <a:path w="6178" h="3474">
                <a:moveTo>
                  <a:pt x="11311" y="14238"/>
                </a:moveTo>
                <a:cubicBezTo>
                  <a:pt x="11311" y="14376"/>
                  <a:pt x="11297" y="14503"/>
                  <a:pt x="11286" y="14635"/>
                </a:cubicBezTo>
                <a:cubicBezTo>
                  <a:pt x="11275" y="14775"/>
                  <a:pt x="11273" y="14917"/>
                  <a:pt x="11261" y="15056"/>
                </a:cubicBezTo>
                <a:cubicBezTo>
                  <a:pt x="11253" y="15154"/>
                  <a:pt x="11248" y="15289"/>
                  <a:pt x="11212" y="15379"/>
                </a:cubicBezTo>
                <a:cubicBezTo>
                  <a:pt x="11190" y="15423"/>
                  <a:pt x="11187" y="15434"/>
                  <a:pt x="11162" y="15453"/>
                </a:cubicBezTo>
                <a:cubicBezTo>
                  <a:pt x="11162" y="15340"/>
                  <a:pt x="11159" y="15240"/>
                  <a:pt x="11187" y="15131"/>
                </a:cubicBezTo>
                <a:cubicBezTo>
                  <a:pt x="11218" y="15007"/>
                  <a:pt x="11250" y="14882"/>
                  <a:pt x="11286" y="14759"/>
                </a:cubicBezTo>
                <a:cubicBezTo>
                  <a:pt x="11312" y="14668"/>
                  <a:pt x="11317" y="14575"/>
                  <a:pt x="11336" y="14486"/>
                </a:cubicBezTo>
                <a:cubicBezTo>
                  <a:pt x="11347" y="14433"/>
                  <a:pt x="11371" y="14339"/>
                  <a:pt x="11435" y="14312"/>
                </a:cubicBezTo>
                <a:cubicBezTo>
                  <a:pt x="11527" y="14273"/>
                  <a:pt x="11614" y="14293"/>
                  <a:pt x="11708" y="14312"/>
                </a:cubicBezTo>
                <a:cubicBezTo>
                  <a:pt x="11835" y="14338"/>
                  <a:pt x="11955" y="14361"/>
                  <a:pt x="12080" y="14387"/>
                </a:cubicBezTo>
                <a:cubicBezTo>
                  <a:pt x="12257" y="14423"/>
                  <a:pt x="12422" y="14394"/>
                  <a:pt x="12601" y="14412"/>
                </a:cubicBezTo>
                <a:cubicBezTo>
                  <a:pt x="12720" y="14424"/>
                  <a:pt x="12825" y="14412"/>
                  <a:pt x="12948" y="14412"/>
                </a:cubicBezTo>
                <a:cubicBezTo>
                  <a:pt x="13033" y="14412"/>
                  <a:pt x="13093" y="14370"/>
                  <a:pt x="13171" y="14362"/>
                </a:cubicBezTo>
                <a:cubicBezTo>
                  <a:pt x="13225" y="14356"/>
                  <a:pt x="13310" y="14362"/>
                  <a:pt x="13345" y="14412"/>
                </a:cubicBezTo>
                <a:cubicBezTo>
                  <a:pt x="13376" y="14457"/>
                  <a:pt x="13393" y="14606"/>
                  <a:pt x="13395" y="14660"/>
                </a:cubicBezTo>
                <a:cubicBezTo>
                  <a:pt x="13399" y="14760"/>
                  <a:pt x="13401" y="14860"/>
                  <a:pt x="13419" y="14957"/>
                </a:cubicBezTo>
                <a:cubicBezTo>
                  <a:pt x="13451" y="15133"/>
                  <a:pt x="13508" y="15303"/>
                  <a:pt x="13543" y="15478"/>
                </a:cubicBezTo>
                <a:cubicBezTo>
                  <a:pt x="13556" y="15545"/>
                  <a:pt x="13588" y="15643"/>
                  <a:pt x="13593" y="15701"/>
                </a:cubicBezTo>
                <a:cubicBezTo>
                  <a:pt x="13597" y="15750"/>
                  <a:pt x="13590" y="15801"/>
                  <a:pt x="13593" y="15850"/>
                </a:cubicBezTo>
                <a:cubicBezTo>
                  <a:pt x="13529" y="15822"/>
                  <a:pt x="13462" y="15803"/>
                  <a:pt x="13395" y="15776"/>
                </a:cubicBezTo>
                <a:cubicBezTo>
                  <a:pt x="13320" y="15746"/>
                  <a:pt x="13250" y="15711"/>
                  <a:pt x="13171" y="15701"/>
                </a:cubicBezTo>
                <a:cubicBezTo>
                  <a:pt x="13047" y="15685"/>
                  <a:pt x="12923" y="15692"/>
                  <a:pt x="12799" y="15677"/>
                </a:cubicBezTo>
                <a:cubicBezTo>
                  <a:pt x="12657" y="15660"/>
                  <a:pt x="12522" y="15630"/>
                  <a:pt x="12378" y="15627"/>
                </a:cubicBezTo>
                <a:cubicBezTo>
                  <a:pt x="12179" y="15622"/>
                  <a:pt x="11982" y="15602"/>
                  <a:pt x="11782" y="15602"/>
                </a:cubicBezTo>
                <a:cubicBezTo>
                  <a:pt x="11629" y="15602"/>
                  <a:pt x="11485" y="15614"/>
                  <a:pt x="11336" y="15627"/>
                </a:cubicBezTo>
                <a:cubicBezTo>
                  <a:pt x="11273" y="15632"/>
                  <a:pt x="11186" y="15648"/>
                  <a:pt x="11137" y="15652"/>
                </a:cubicBezTo>
                <a:cubicBezTo>
                  <a:pt x="11076" y="15657"/>
                  <a:pt x="10934" y="15703"/>
                  <a:pt x="11088" y="15652"/>
                </a:cubicBezTo>
              </a:path>
              <a:path w="6178" h="3474">
                <a:moveTo>
                  <a:pt x="14486" y="14784"/>
                </a:moveTo>
                <a:cubicBezTo>
                  <a:pt x="14535" y="14818"/>
                  <a:pt x="14633" y="14898"/>
                  <a:pt x="14660" y="14957"/>
                </a:cubicBezTo>
                <a:cubicBezTo>
                  <a:pt x="14726" y="15101"/>
                  <a:pt x="14801" y="15213"/>
                  <a:pt x="14883" y="15354"/>
                </a:cubicBezTo>
                <a:cubicBezTo>
                  <a:pt x="14946" y="15461"/>
                  <a:pt x="14993" y="15539"/>
                  <a:pt x="15081" y="15627"/>
                </a:cubicBezTo>
                <a:cubicBezTo>
                  <a:pt x="15089" y="15635"/>
                  <a:pt x="15098" y="15644"/>
                  <a:pt x="15106" y="15652"/>
                </a:cubicBezTo>
              </a:path>
              <a:path w="6178" h="3474">
                <a:moveTo>
                  <a:pt x="14932" y="14759"/>
                </a:moveTo>
                <a:cubicBezTo>
                  <a:pt x="14874" y="14825"/>
                  <a:pt x="14815" y="14889"/>
                  <a:pt x="14759" y="14957"/>
                </a:cubicBezTo>
                <a:cubicBezTo>
                  <a:pt x="14690" y="15040"/>
                  <a:pt x="14586" y="15094"/>
                  <a:pt x="14536" y="15180"/>
                </a:cubicBezTo>
                <a:cubicBezTo>
                  <a:pt x="14497" y="15246"/>
                  <a:pt x="14444" y="15281"/>
                  <a:pt x="14387" y="15329"/>
                </a:cubicBezTo>
                <a:cubicBezTo>
                  <a:pt x="14364" y="15352"/>
                  <a:pt x="14353" y="15360"/>
                  <a:pt x="14387" y="15354"/>
                </a:cubicBezTo>
              </a:path>
              <a:path w="6178" h="3474">
                <a:moveTo>
                  <a:pt x="15280" y="14784"/>
                </a:moveTo>
                <a:cubicBezTo>
                  <a:pt x="15331" y="14954"/>
                  <a:pt x="15311" y="14968"/>
                  <a:pt x="15304" y="15131"/>
                </a:cubicBezTo>
                <a:cubicBezTo>
                  <a:pt x="15299" y="15260"/>
                  <a:pt x="15307" y="15380"/>
                  <a:pt x="15280" y="15503"/>
                </a:cubicBezTo>
                <a:cubicBezTo>
                  <a:pt x="15280" y="15511"/>
                  <a:pt x="15280" y="15520"/>
                  <a:pt x="15280" y="15528"/>
                </a:cubicBezTo>
              </a:path>
              <a:path w="6178" h="3474">
                <a:moveTo>
                  <a:pt x="15056" y="15106"/>
                </a:moveTo>
                <a:cubicBezTo>
                  <a:pt x="15141" y="15078"/>
                  <a:pt x="15190" y="15141"/>
                  <a:pt x="15280" y="15156"/>
                </a:cubicBezTo>
                <a:cubicBezTo>
                  <a:pt x="15356" y="15156"/>
                  <a:pt x="15382" y="15156"/>
                  <a:pt x="15429" y="15180"/>
                </a:cubicBezTo>
              </a:path>
              <a:path w="6178" h="3474">
                <a:moveTo>
                  <a:pt x="15825" y="14908"/>
                </a:moveTo>
                <a:cubicBezTo>
                  <a:pt x="15807" y="14990"/>
                  <a:pt x="15772" y="15071"/>
                  <a:pt x="15751" y="15156"/>
                </a:cubicBezTo>
                <a:cubicBezTo>
                  <a:pt x="15727" y="15252"/>
                  <a:pt x="15719" y="15334"/>
                  <a:pt x="15701" y="15429"/>
                </a:cubicBezTo>
                <a:cubicBezTo>
                  <a:pt x="15684" y="15518"/>
                  <a:pt x="15677" y="15584"/>
                  <a:pt x="15677" y="15677"/>
                </a:cubicBezTo>
              </a:path>
              <a:path w="6178" h="3474">
                <a:moveTo>
                  <a:pt x="16024" y="15205"/>
                </a:moveTo>
                <a:cubicBezTo>
                  <a:pt x="16148" y="15210"/>
                  <a:pt x="16193" y="15217"/>
                  <a:pt x="16297" y="15230"/>
                </a:cubicBezTo>
              </a:path>
              <a:path w="6178" h="3474">
                <a:moveTo>
                  <a:pt x="16024" y="15304"/>
                </a:moveTo>
                <a:cubicBezTo>
                  <a:pt x="16098" y="15359"/>
                  <a:pt x="16172" y="15402"/>
                  <a:pt x="16247" y="15453"/>
                </a:cubicBezTo>
                <a:cubicBezTo>
                  <a:pt x="16255" y="15461"/>
                  <a:pt x="16264" y="15470"/>
                  <a:pt x="16272" y="15478"/>
                </a:cubicBezTo>
              </a:path>
              <a:path w="6178" h="3474">
                <a:moveTo>
                  <a:pt x="16793" y="15180"/>
                </a:moveTo>
                <a:cubicBezTo>
                  <a:pt x="16716" y="15235"/>
                  <a:pt x="16651" y="15260"/>
                  <a:pt x="16594" y="15329"/>
                </a:cubicBezTo>
                <a:cubicBezTo>
                  <a:pt x="16560" y="15371"/>
                  <a:pt x="16537" y="15471"/>
                  <a:pt x="16545" y="15528"/>
                </a:cubicBezTo>
                <a:cubicBezTo>
                  <a:pt x="16555" y="15603"/>
                  <a:pt x="16569" y="15713"/>
                  <a:pt x="16619" y="15776"/>
                </a:cubicBezTo>
                <a:cubicBezTo>
                  <a:pt x="16689" y="15865"/>
                  <a:pt x="16776" y="15856"/>
                  <a:pt x="16867" y="15825"/>
                </a:cubicBezTo>
                <a:cubicBezTo>
                  <a:pt x="16959" y="15794"/>
                  <a:pt x="16999" y="15760"/>
                  <a:pt x="17066" y="15701"/>
                </a:cubicBezTo>
                <a:cubicBezTo>
                  <a:pt x="17133" y="15642"/>
                  <a:pt x="17177" y="15517"/>
                  <a:pt x="17190" y="15429"/>
                </a:cubicBezTo>
                <a:cubicBezTo>
                  <a:pt x="17200" y="15359"/>
                  <a:pt x="17167" y="15209"/>
                  <a:pt x="17115" y="15156"/>
                </a:cubicBezTo>
                <a:cubicBezTo>
                  <a:pt x="17056" y="15096"/>
                  <a:pt x="16989" y="15068"/>
                  <a:pt x="16917" y="15032"/>
                </a:cubicBezTo>
              </a:path>
              <a:path w="6178" h="3474">
                <a:moveTo>
                  <a:pt x="15131" y="15875"/>
                </a:moveTo>
                <a:cubicBezTo>
                  <a:pt x="15233" y="15921"/>
                  <a:pt x="15330" y="15970"/>
                  <a:pt x="15429" y="16024"/>
                </a:cubicBezTo>
              </a:path>
              <a:path w="6178" h="3474">
                <a:moveTo>
                  <a:pt x="15677" y="15850"/>
                </a:moveTo>
                <a:cubicBezTo>
                  <a:pt x="15663" y="15988"/>
                  <a:pt x="15652" y="16111"/>
                  <a:pt x="15652" y="16247"/>
                </a:cubicBezTo>
                <a:cubicBezTo>
                  <a:pt x="15652" y="16308"/>
                  <a:pt x="15643" y="16324"/>
                  <a:pt x="15677" y="16346"/>
                </a:cubicBezTo>
              </a:path>
              <a:path w="6178" h="3474">
                <a:moveTo>
                  <a:pt x="16520" y="16098"/>
                </a:moveTo>
                <a:cubicBezTo>
                  <a:pt x="16670" y="16120"/>
                  <a:pt x="16704" y="16122"/>
                  <a:pt x="16793" y="16148"/>
                </a:cubicBezTo>
              </a:path>
              <a:path w="6178" h="3474">
                <a:moveTo>
                  <a:pt x="17090" y="15949"/>
                </a:moveTo>
                <a:cubicBezTo>
                  <a:pt x="17066" y="16079"/>
                  <a:pt x="17060" y="16194"/>
                  <a:pt x="17041" y="16321"/>
                </a:cubicBezTo>
                <a:cubicBezTo>
                  <a:pt x="17024" y="16438"/>
                  <a:pt x="17007" y="16551"/>
                  <a:pt x="16991" y="16669"/>
                </a:cubicBezTo>
              </a:path>
              <a:path w="6178" h="3474">
                <a:moveTo>
                  <a:pt x="14932" y="16421"/>
                </a:moveTo>
                <a:cubicBezTo>
                  <a:pt x="14995" y="16592"/>
                  <a:pt x="15077" y="16763"/>
                  <a:pt x="15180" y="16917"/>
                </a:cubicBezTo>
                <a:cubicBezTo>
                  <a:pt x="15262" y="17039"/>
                  <a:pt x="15299" y="17175"/>
                  <a:pt x="15379" y="17289"/>
                </a:cubicBezTo>
              </a:path>
              <a:path w="6178" h="3474">
                <a:moveTo>
                  <a:pt x="15379" y="16421"/>
                </a:moveTo>
                <a:cubicBezTo>
                  <a:pt x="15289" y="16510"/>
                  <a:pt x="15186" y="16596"/>
                  <a:pt x="15106" y="16694"/>
                </a:cubicBezTo>
                <a:cubicBezTo>
                  <a:pt x="15045" y="16768"/>
                  <a:pt x="14922" y="16885"/>
                  <a:pt x="14883" y="16966"/>
                </a:cubicBezTo>
                <a:cubicBezTo>
                  <a:pt x="14840" y="17056"/>
                  <a:pt x="14852" y="17071"/>
                  <a:pt x="14784" y="17140"/>
                </a:cubicBezTo>
              </a:path>
              <a:path w="6178" h="3474">
                <a:moveTo>
                  <a:pt x="15453" y="16768"/>
                </a:moveTo>
                <a:cubicBezTo>
                  <a:pt x="15551" y="16773"/>
                  <a:pt x="15646" y="16770"/>
                  <a:pt x="15726" y="16818"/>
                </a:cubicBezTo>
              </a:path>
              <a:path w="6178" h="3474">
                <a:moveTo>
                  <a:pt x="15404" y="16966"/>
                </a:moveTo>
                <a:cubicBezTo>
                  <a:pt x="15481" y="17020"/>
                  <a:pt x="15541" y="17053"/>
                  <a:pt x="15627" y="17090"/>
                </a:cubicBezTo>
              </a:path>
              <a:path w="6178" h="3474">
                <a:moveTo>
                  <a:pt x="15999" y="16917"/>
                </a:moveTo>
                <a:cubicBezTo>
                  <a:pt x="16074" y="16950"/>
                  <a:pt x="16143" y="16981"/>
                  <a:pt x="16222" y="16991"/>
                </a:cubicBezTo>
              </a:path>
              <a:path w="6178" h="3474">
                <a:moveTo>
                  <a:pt x="16421" y="16867"/>
                </a:moveTo>
                <a:cubicBezTo>
                  <a:pt x="16421" y="16977"/>
                  <a:pt x="16416" y="17083"/>
                  <a:pt x="16396" y="17190"/>
                </a:cubicBezTo>
                <a:cubicBezTo>
                  <a:pt x="16379" y="17283"/>
                  <a:pt x="16349" y="17376"/>
                  <a:pt x="16321" y="17462"/>
                </a:cubicBezTo>
                <a:cubicBezTo>
                  <a:pt x="16313" y="17487"/>
                  <a:pt x="16305" y="17512"/>
                  <a:pt x="16297" y="17537"/>
                </a:cubicBezTo>
              </a:path>
              <a:path w="6178" h="3474">
                <a:moveTo>
                  <a:pt x="14709" y="15726"/>
                </a:moveTo>
                <a:cubicBezTo>
                  <a:pt x="14689" y="15848"/>
                  <a:pt x="14686" y="15979"/>
                  <a:pt x="14660" y="16098"/>
                </a:cubicBezTo>
                <a:cubicBezTo>
                  <a:pt x="14631" y="16232"/>
                  <a:pt x="14607" y="16361"/>
                  <a:pt x="14585" y="16495"/>
                </a:cubicBezTo>
                <a:cubicBezTo>
                  <a:pt x="14567" y="16605"/>
                  <a:pt x="14526" y="16709"/>
                  <a:pt x="14511" y="16818"/>
                </a:cubicBezTo>
                <a:cubicBezTo>
                  <a:pt x="14511" y="16834"/>
                  <a:pt x="14511" y="16851"/>
                  <a:pt x="14511" y="16867"/>
                </a:cubicBezTo>
                <a:cubicBezTo>
                  <a:pt x="14516" y="16782"/>
                  <a:pt x="14521" y="16703"/>
                  <a:pt x="14536" y="16619"/>
                </a:cubicBezTo>
                <a:cubicBezTo>
                  <a:pt x="14560" y="16486"/>
                  <a:pt x="14615" y="16391"/>
                  <a:pt x="14660" y="16272"/>
                </a:cubicBezTo>
                <a:cubicBezTo>
                  <a:pt x="14688" y="16199"/>
                  <a:pt x="14690" y="16122"/>
                  <a:pt x="14709" y="16049"/>
                </a:cubicBezTo>
                <a:cubicBezTo>
                  <a:pt x="14720" y="16006"/>
                  <a:pt x="14745" y="15932"/>
                  <a:pt x="14808" y="15925"/>
                </a:cubicBezTo>
                <a:cubicBezTo>
                  <a:pt x="14922" y="15913"/>
                  <a:pt x="15029" y="15984"/>
                  <a:pt x="15131" y="16024"/>
                </a:cubicBezTo>
                <a:cubicBezTo>
                  <a:pt x="15284" y="16084"/>
                  <a:pt x="15425" y="16156"/>
                  <a:pt x="15577" y="16222"/>
                </a:cubicBezTo>
                <a:cubicBezTo>
                  <a:pt x="15712" y="16281"/>
                  <a:pt x="15835" y="16329"/>
                  <a:pt x="15974" y="16371"/>
                </a:cubicBezTo>
                <a:cubicBezTo>
                  <a:pt x="16100" y="16409"/>
                  <a:pt x="16221" y="16422"/>
                  <a:pt x="16346" y="16446"/>
                </a:cubicBezTo>
                <a:cubicBezTo>
                  <a:pt x="16423" y="16461"/>
                  <a:pt x="16550" y="16471"/>
                  <a:pt x="16619" y="16495"/>
                </a:cubicBezTo>
                <a:cubicBezTo>
                  <a:pt x="16638" y="16502"/>
                  <a:pt x="16758" y="16577"/>
                  <a:pt x="16768" y="16594"/>
                </a:cubicBezTo>
                <a:cubicBezTo>
                  <a:pt x="16802" y="16650"/>
                  <a:pt x="16812" y="16730"/>
                  <a:pt x="16818" y="16793"/>
                </a:cubicBezTo>
                <a:cubicBezTo>
                  <a:pt x="16837" y="16991"/>
                  <a:pt x="16809" y="17193"/>
                  <a:pt x="16793" y="17388"/>
                </a:cubicBezTo>
                <a:cubicBezTo>
                  <a:pt x="16785" y="17489"/>
                  <a:pt x="16807" y="17567"/>
                  <a:pt x="16818" y="17661"/>
                </a:cubicBezTo>
                <a:cubicBezTo>
                  <a:pt x="16818" y="17678"/>
                  <a:pt x="16818" y="17694"/>
                  <a:pt x="16818" y="17711"/>
                </a:cubicBezTo>
                <a:cubicBezTo>
                  <a:pt x="16733" y="17661"/>
                  <a:pt x="16644" y="17612"/>
                  <a:pt x="16545" y="17587"/>
                </a:cubicBezTo>
                <a:cubicBezTo>
                  <a:pt x="16428" y="17557"/>
                  <a:pt x="16313" y="17534"/>
                  <a:pt x="16197" y="17512"/>
                </a:cubicBezTo>
                <a:cubicBezTo>
                  <a:pt x="15953" y="17466"/>
                  <a:pt x="15656" y="17356"/>
                  <a:pt x="15429" y="17264"/>
                </a:cubicBezTo>
                <a:cubicBezTo>
                  <a:pt x="15309" y="17215"/>
                  <a:pt x="15200" y="17163"/>
                  <a:pt x="15081" y="17115"/>
                </a:cubicBezTo>
                <a:cubicBezTo>
                  <a:pt x="14986" y="17076"/>
                  <a:pt x="14875" y="17038"/>
                  <a:pt x="14784" y="16991"/>
                </a:cubicBezTo>
                <a:cubicBezTo>
                  <a:pt x="14717" y="16956"/>
                  <a:pt x="14684" y="16932"/>
                  <a:pt x="14610" y="16917"/>
                </a:cubicBezTo>
                <a:cubicBezTo>
                  <a:pt x="14579" y="16911"/>
                  <a:pt x="14617" y="16922"/>
                  <a:pt x="14585" y="169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4"/>
          <p:cNvGraphicFramePr/>
          <p:nvPr/>
        </p:nvGraphicFramePr>
        <p:xfrm>
          <a:off x="2286000" y="533520"/>
          <a:ext cx="4762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520"/>
                    <a:ext cx="4762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Ink 3"/>
          <p:cNvSpPr/>
          <p:nvPr/>
        </p:nvSpPr>
        <p:spPr>
          <a:xfrm>
            <a:off x="3081240" y="820800"/>
            <a:ext cx="3517920" cy="3314520"/>
          </a:xfrm>
          <a:custGeom>
            <a:avLst/>
            <a:gdLst/>
            <a:ahLst/>
            <a:rect l="l" t="t" r="r" b="b"/>
            <a:pathLst>
              <a:path w="9774" h="9204">
                <a:moveTo>
                  <a:pt x="10269" y="5383"/>
                </a:moveTo>
                <a:cubicBezTo>
                  <a:pt x="10356" y="5319"/>
                  <a:pt x="10418" y="5308"/>
                  <a:pt x="10517" y="5259"/>
                </a:cubicBezTo>
                <a:cubicBezTo>
                  <a:pt x="10733" y="5151"/>
                  <a:pt x="10920" y="5039"/>
                  <a:pt x="11137" y="4936"/>
                </a:cubicBezTo>
                <a:cubicBezTo>
                  <a:pt x="11414" y="4804"/>
                  <a:pt x="11716" y="4754"/>
                  <a:pt x="12005" y="4663"/>
                </a:cubicBezTo>
                <a:cubicBezTo>
                  <a:pt x="12278" y="4577"/>
                  <a:pt x="12557" y="4474"/>
                  <a:pt x="12824" y="4390"/>
                </a:cubicBezTo>
                <a:cubicBezTo>
                  <a:pt x="13004" y="4333"/>
                  <a:pt x="12912" y="4368"/>
                  <a:pt x="12998" y="4291"/>
                </a:cubicBezTo>
              </a:path>
              <a:path w="9774" h="9204">
                <a:moveTo>
                  <a:pt x="9971" y="3944"/>
                </a:moveTo>
                <a:cubicBezTo>
                  <a:pt x="10184" y="3809"/>
                  <a:pt x="10404" y="3686"/>
                  <a:pt x="10616" y="3547"/>
                </a:cubicBezTo>
                <a:cubicBezTo>
                  <a:pt x="10884" y="3371"/>
                  <a:pt x="11170" y="3236"/>
                  <a:pt x="11460" y="3101"/>
                </a:cubicBezTo>
                <a:cubicBezTo>
                  <a:pt x="11783" y="2951"/>
                  <a:pt x="12116" y="2820"/>
                  <a:pt x="12452" y="2704"/>
                </a:cubicBezTo>
                <a:cubicBezTo>
                  <a:pt x="12804" y="2583"/>
                  <a:pt x="13179" y="2488"/>
                  <a:pt x="13543" y="2406"/>
                </a:cubicBezTo>
                <a:cubicBezTo>
                  <a:pt x="13699" y="2371"/>
                  <a:pt x="13842" y="2341"/>
                  <a:pt x="13990" y="2282"/>
                </a:cubicBezTo>
              </a:path>
              <a:path w="9774" h="9204">
                <a:moveTo>
                  <a:pt x="9351" y="6623"/>
                </a:moveTo>
                <a:cubicBezTo>
                  <a:pt x="9400" y="6634"/>
                  <a:pt x="9485" y="6654"/>
                  <a:pt x="9525" y="6697"/>
                </a:cubicBezTo>
                <a:cubicBezTo>
                  <a:pt x="9575" y="6751"/>
                  <a:pt x="9620" y="6856"/>
                  <a:pt x="9649" y="6921"/>
                </a:cubicBezTo>
                <a:cubicBezTo>
                  <a:pt x="9695" y="7024"/>
                  <a:pt x="9736" y="7130"/>
                  <a:pt x="9748" y="7243"/>
                </a:cubicBezTo>
                <a:cubicBezTo>
                  <a:pt x="9759" y="7344"/>
                  <a:pt x="9758" y="7448"/>
                  <a:pt x="9723" y="7541"/>
                </a:cubicBezTo>
                <a:cubicBezTo>
                  <a:pt x="9738" y="7417"/>
                  <a:pt x="9769" y="7282"/>
                  <a:pt x="9773" y="7144"/>
                </a:cubicBezTo>
                <a:cubicBezTo>
                  <a:pt x="9776" y="7049"/>
                  <a:pt x="9789" y="6959"/>
                  <a:pt x="9798" y="6871"/>
                </a:cubicBezTo>
                <a:cubicBezTo>
                  <a:pt x="9818" y="6677"/>
                  <a:pt x="9798" y="6471"/>
                  <a:pt x="9798" y="6276"/>
                </a:cubicBezTo>
                <a:cubicBezTo>
                  <a:pt x="9925" y="6276"/>
                  <a:pt x="10020" y="6287"/>
                  <a:pt x="10145" y="6300"/>
                </a:cubicBezTo>
                <a:cubicBezTo>
                  <a:pt x="10389" y="6326"/>
                  <a:pt x="10844" y="6367"/>
                  <a:pt x="11063" y="6276"/>
                </a:cubicBezTo>
                <a:cubicBezTo>
                  <a:pt x="11055" y="6276"/>
                  <a:pt x="11046" y="6276"/>
                  <a:pt x="11038" y="6276"/>
                </a:cubicBezTo>
              </a:path>
              <a:path w="9774" h="9204">
                <a:moveTo>
                  <a:pt x="10294" y="6598"/>
                </a:moveTo>
                <a:cubicBezTo>
                  <a:pt x="10333" y="6676"/>
                  <a:pt x="10370" y="6799"/>
                  <a:pt x="10418" y="6871"/>
                </a:cubicBezTo>
                <a:cubicBezTo>
                  <a:pt x="10472" y="6952"/>
                  <a:pt x="10499" y="7029"/>
                  <a:pt x="10542" y="7119"/>
                </a:cubicBezTo>
                <a:cubicBezTo>
                  <a:pt x="10585" y="7210"/>
                  <a:pt x="10652" y="7290"/>
                  <a:pt x="10716" y="7367"/>
                </a:cubicBezTo>
                <a:cubicBezTo>
                  <a:pt x="10724" y="7375"/>
                  <a:pt x="10732" y="7384"/>
                  <a:pt x="10740" y="7392"/>
                </a:cubicBezTo>
              </a:path>
              <a:path w="9774" h="9204">
                <a:moveTo>
                  <a:pt x="10716" y="6648"/>
                </a:moveTo>
                <a:cubicBezTo>
                  <a:pt x="10632" y="6756"/>
                  <a:pt x="10567" y="6863"/>
                  <a:pt x="10492" y="6970"/>
                </a:cubicBezTo>
                <a:cubicBezTo>
                  <a:pt x="10427" y="7063"/>
                  <a:pt x="10326" y="7189"/>
                  <a:pt x="10244" y="7268"/>
                </a:cubicBezTo>
                <a:cubicBezTo>
                  <a:pt x="10207" y="7304"/>
                  <a:pt x="10155" y="7338"/>
                  <a:pt x="10145" y="7317"/>
                </a:cubicBezTo>
              </a:path>
              <a:path w="9774" h="9204">
                <a:moveTo>
                  <a:pt x="11286" y="6846"/>
                </a:moveTo>
                <a:cubicBezTo>
                  <a:pt x="11410" y="6846"/>
                  <a:pt x="11534" y="6846"/>
                  <a:pt x="11658" y="6846"/>
                </a:cubicBezTo>
              </a:path>
              <a:path w="9774" h="9204">
                <a:moveTo>
                  <a:pt x="11460" y="7069"/>
                </a:moveTo>
                <a:cubicBezTo>
                  <a:pt x="11527" y="7103"/>
                  <a:pt x="11602" y="7094"/>
                  <a:pt x="11683" y="7094"/>
                </a:cubicBezTo>
                <a:cubicBezTo>
                  <a:pt x="11774" y="7094"/>
                  <a:pt x="11799" y="7094"/>
                  <a:pt x="11857" y="7094"/>
                </a:cubicBezTo>
              </a:path>
              <a:path w="9774" h="9204">
                <a:moveTo>
                  <a:pt x="12898" y="6400"/>
                </a:moveTo>
                <a:cubicBezTo>
                  <a:pt x="12898" y="6503"/>
                  <a:pt x="12898" y="6624"/>
                  <a:pt x="12874" y="6722"/>
                </a:cubicBezTo>
                <a:cubicBezTo>
                  <a:pt x="12849" y="6828"/>
                  <a:pt x="12828" y="6932"/>
                  <a:pt x="12824" y="7045"/>
                </a:cubicBezTo>
                <a:cubicBezTo>
                  <a:pt x="12819" y="7185"/>
                  <a:pt x="12824" y="7557"/>
                  <a:pt x="12824" y="7417"/>
                </a:cubicBezTo>
              </a:path>
              <a:path w="9774" h="9204">
                <a:moveTo>
                  <a:pt x="13519" y="6772"/>
                </a:moveTo>
                <a:cubicBezTo>
                  <a:pt x="13502" y="6868"/>
                  <a:pt x="13480" y="6974"/>
                  <a:pt x="13469" y="7069"/>
                </a:cubicBezTo>
                <a:cubicBezTo>
                  <a:pt x="13464" y="7116"/>
                  <a:pt x="13499" y="7242"/>
                  <a:pt x="13494" y="7268"/>
                </a:cubicBezTo>
                <a:cubicBezTo>
                  <a:pt x="13486" y="7276"/>
                  <a:pt x="13477" y="7285"/>
                  <a:pt x="13469" y="7293"/>
                </a:cubicBezTo>
              </a:path>
              <a:path w="9774" h="9204">
                <a:moveTo>
                  <a:pt x="13171" y="7045"/>
                </a:moveTo>
                <a:cubicBezTo>
                  <a:pt x="13268" y="7006"/>
                  <a:pt x="13341" y="6995"/>
                  <a:pt x="13444" y="6995"/>
                </a:cubicBezTo>
                <a:cubicBezTo>
                  <a:pt x="13535" y="6995"/>
                  <a:pt x="13626" y="6995"/>
                  <a:pt x="13717" y="6995"/>
                </a:cubicBezTo>
              </a:path>
              <a:path w="9774" h="9204">
                <a:moveTo>
                  <a:pt x="14288" y="6970"/>
                </a:moveTo>
                <a:cubicBezTo>
                  <a:pt x="14282" y="7066"/>
                  <a:pt x="14266" y="7130"/>
                  <a:pt x="14263" y="7218"/>
                </a:cubicBezTo>
                <a:cubicBezTo>
                  <a:pt x="14260" y="7309"/>
                  <a:pt x="14263" y="7400"/>
                  <a:pt x="14263" y="7491"/>
                </a:cubicBezTo>
                <a:cubicBezTo>
                  <a:pt x="14291" y="7400"/>
                  <a:pt x="14288" y="7315"/>
                  <a:pt x="14288" y="7218"/>
                </a:cubicBezTo>
                <a:cubicBezTo>
                  <a:pt x="14288" y="7116"/>
                  <a:pt x="14305" y="7019"/>
                  <a:pt x="14312" y="6921"/>
                </a:cubicBezTo>
                <a:cubicBezTo>
                  <a:pt x="14321" y="6785"/>
                  <a:pt x="14306" y="6644"/>
                  <a:pt x="14337" y="6524"/>
                </a:cubicBezTo>
                <a:cubicBezTo>
                  <a:pt x="14352" y="6466"/>
                  <a:pt x="14359" y="6416"/>
                  <a:pt x="14436" y="6400"/>
                </a:cubicBezTo>
                <a:cubicBezTo>
                  <a:pt x="14514" y="6383"/>
                  <a:pt x="14656" y="6367"/>
                  <a:pt x="14734" y="6375"/>
                </a:cubicBezTo>
                <a:cubicBezTo>
                  <a:pt x="14902" y="6393"/>
                  <a:pt x="15059" y="6400"/>
                  <a:pt x="15230" y="6400"/>
                </a:cubicBezTo>
                <a:cubicBezTo>
                  <a:pt x="15439" y="6400"/>
                  <a:pt x="15643" y="6413"/>
                  <a:pt x="15850" y="6424"/>
                </a:cubicBezTo>
                <a:cubicBezTo>
                  <a:pt x="16081" y="6436"/>
                  <a:pt x="16343" y="6441"/>
                  <a:pt x="16570" y="6400"/>
                </a:cubicBezTo>
                <a:cubicBezTo>
                  <a:pt x="16627" y="6381"/>
                  <a:pt x="16634" y="6372"/>
                  <a:pt x="16669" y="6375"/>
                </a:cubicBezTo>
              </a:path>
              <a:path w="9774" h="9204">
                <a:moveTo>
                  <a:pt x="14684" y="6896"/>
                </a:moveTo>
                <a:cubicBezTo>
                  <a:pt x="14694" y="6972"/>
                  <a:pt x="14704" y="7048"/>
                  <a:pt x="14734" y="7119"/>
                </a:cubicBezTo>
                <a:cubicBezTo>
                  <a:pt x="14766" y="7194"/>
                  <a:pt x="14810" y="7302"/>
                  <a:pt x="14858" y="7367"/>
                </a:cubicBezTo>
                <a:cubicBezTo>
                  <a:pt x="14912" y="7441"/>
                  <a:pt x="14956" y="7473"/>
                  <a:pt x="15032" y="7516"/>
                </a:cubicBezTo>
                <a:cubicBezTo>
                  <a:pt x="15075" y="7538"/>
                  <a:pt x="15087" y="7551"/>
                  <a:pt x="15106" y="7516"/>
                </a:cubicBezTo>
              </a:path>
              <a:path w="9774" h="9204">
                <a:moveTo>
                  <a:pt x="14908" y="6846"/>
                </a:moveTo>
                <a:cubicBezTo>
                  <a:pt x="14856" y="6949"/>
                  <a:pt x="14813" y="7035"/>
                  <a:pt x="14734" y="7119"/>
                </a:cubicBezTo>
                <a:cubicBezTo>
                  <a:pt x="14666" y="7190"/>
                  <a:pt x="14671" y="7280"/>
                  <a:pt x="14610" y="7367"/>
                </a:cubicBezTo>
                <a:cubicBezTo>
                  <a:pt x="14583" y="7405"/>
                  <a:pt x="14531" y="7455"/>
                  <a:pt x="14610" y="7417"/>
                </a:cubicBezTo>
              </a:path>
              <a:path w="9774" h="9204">
                <a:moveTo>
                  <a:pt x="15106" y="7094"/>
                </a:moveTo>
                <a:cubicBezTo>
                  <a:pt x="15224" y="7094"/>
                  <a:pt x="15316" y="7085"/>
                  <a:pt x="15429" y="7069"/>
                </a:cubicBezTo>
                <a:cubicBezTo>
                  <a:pt x="15495" y="7069"/>
                  <a:pt x="15528" y="7069"/>
                  <a:pt x="15577" y="7069"/>
                </a:cubicBezTo>
              </a:path>
              <a:path w="9774" h="9204">
                <a:moveTo>
                  <a:pt x="16024" y="6772"/>
                </a:moveTo>
                <a:cubicBezTo>
                  <a:pt x="16024" y="6888"/>
                  <a:pt x="16004" y="6982"/>
                  <a:pt x="15999" y="7094"/>
                </a:cubicBezTo>
                <a:cubicBezTo>
                  <a:pt x="15995" y="7179"/>
                  <a:pt x="16007" y="7261"/>
                  <a:pt x="16024" y="7342"/>
                </a:cubicBezTo>
                <a:cubicBezTo>
                  <a:pt x="16040" y="7421"/>
                  <a:pt x="16075" y="7471"/>
                  <a:pt x="16098" y="7541"/>
                </a:cubicBezTo>
              </a:path>
              <a:path w="9774" h="9204">
                <a:moveTo>
                  <a:pt x="11063" y="5904"/>
                </a:moveTo>
                <a:cubicBezTo>
                  <a:pt x="11098" y="5845"/>
                  <a:pt x="11100" y="5798"/>
                  <a:pt x="11187" y="5779"/>
                </a:cubicBezTo>
                <a:cubicBezTo>
                  <a:pt x="11242" y="5767"/>
                  <a:pt x="11321" y="5771"/>
                  <a:pt x="11361" y="5804"/>
                </a:cubicBezTo>
                <a:cubicBezTo>
                  <a:pt x="11437" y="5866"/>
                  <a:pt x="11476" y="5898"/>
                  <a:pt x="11435" y="6003"/>
                </a:cubicBezTo>
                <a:cubicBezTo>
                  <a:pt x="11412" y="6063"/>
                  <a:pt x="11378" y="6129"/>
                  <a:pt x="11336" y="6176"/>
                </a:cubicBezTo>
                <a:cubicBezTo>
                  <a:pt x="11273" y="6246"/>
                  <a:pt x="11215" y="6227"/>
                  <a:pt x="11137" y="6201"/>
                </a:cubicBezTo>
                <a:cubicBezTo>
                  <a:pt x="11161" y="6107"/>
                  <a:pt x="11203" y="6081"/>
                  <a:pt x="11311" y="6102"/>
                </a:cubicBezTo>
                <a:cubicBezTo>
                  <a:pt x="11392" y="6118"/>
                  <a:pt x="11459" y="6139"/>
                  <a:pt x="11534" y="6176"/>
                </a:cubicBezTo>
              </a:path>
              <a:path w="9774" h="9204">
                <a:moveTo>
                  <a:pt x="12477" y="6201"/>
                </a:moveTo>
                <a:cubicBezTo>
                  <a:pt x="12424" y="6326"/>
                  <a:pt x="12349" y="6448"/>
                  <a:pt x="12303" y="6573"/>
                </a:cubicBezTo>
                <a:cubicBezTo>
                  <a:pt x="12263" y="6681"/>
                  <a:pt x="12238" y="6806"/>
                  <a:pt x="12254" y="6921"/>
                </a:cubicBezTo>
                <a:cubicBezTo>
                  <a:pt x="12273" y="7058"/>
                  <a:pt x="12306" y="7148"/>
                  <a:pt x="12378" y="7268"/>
                </a:cubicBezTo>
                <a:cubicBezTo>
                  <a:pt x="12438" y="7369"/>
                  <a:pt x="12487" y="7415"/>
                  <a:pt x="12576" y="7491"/>
                </a:cubicBezTo>
              </a:path>
              <a:path w="9774" h="9204">
                <a:moveTo>
                  <a:pt x="16669" y="6102"/>
                </a:moveTo>
                <a:cubicBezTo>
                  <a:pt x="16732" y="6184"/>
                  <a:pt x="16782" y="6292"/>
                  <a:pt x="16793" y="6400"/>
                </a:cubicBezTo>
                <a:cubicBezTo>
                  <a:pt x="16810" y="6564"/>
                  <a:pt x="16876" y="6757"/>
                  <a:pt x="16867" y="6921"/>
                </a:cubicBezTo>
                <a:cubicBezTo>
                  <a:pt x="16860" y="7048"/>
                  <a:pt x="16785" y="7200"/>
                  <a:pt x="16743" y="7317"/>
                </a:cubicBezTo>
                <a:cubicBezTo>
                  <a:pt x="16704" y="7423"/>
                  <a:pt x="16650" y="7441"/>
                  <a:pt x="16570" y="7516"/>
                </a:cubicBezTo>
                <a:cubicBezTo>
                  <a:pt x="16512" y="7570"/>
                  <a:pt x="16453" y="7614"/>
                  <a:pt x="16396" y="7665"/>
                </a:cubicBezTo>
                <a:cubicBezTo>
                  <a:pt x="16374" y="7687"/>
                  <a:pt x="16365" y="7698"/>
                  <a:pt x="16371" y="7665"/>
                </a:cubicBezTo>
              </a:path>
              <a:path w="9774" h="9204">
                <a:moveTo>
                  <a:pt x="17041" y="5730"/>
                </a:moveTo>
                <a:cubicBezTo>
                  <a:pt x="17071" y="5712"/>
                  <a:pt x="17132" y="5665"/>
                  <a:pt x="17165" y="5655"/>
                </a:cubicBezTo>
                <a:cubicBezTo>
                  <a:pt x="17222" y="5638"/>
                  <a:pt x="17316" y="5658"/>
                  <a:pt x="17338" y="5680"/>
                </a:cubicBezTo>
              </a:path>
              <a:path w="9774" h="9204">
                <a:moveTo>
                  <a:pt x="17388" y="5854"/>
                </a:moveTo>
                <a:cubicBezTo>
                  <a:pt x="17263" y="6037"/>
                  <a:pt x="17295" y="5971"/>
                  <a:pt x="17165" y="6077"/>
                </a:cubicBezTo>
                <a:cubicBezTo>
                  <a:pt x="17137" y="6105"/>
                  <a:pt x="17128" y="6119"/>
                  <a:pt x="17140" y="6152"/>
                </a:cubicBezTo>
                <a:cubicBezTo>
                  <a:pt x="17209" y="6180"/>
                  <a:pt x="17283" y="6176"/>
                  <a:pt x="17363" y="6176"/>
                </a:cubicBezTo>
                <a:cubicBezTo>
                  <a:pt x="17453" y="6176"/>
                  <a:pt x="17524" y="6198"/>
                  <a:pt x="17611" y="6201"/>
                </a:cubicBezTo>
                <a:cubicBezTo>
                  <a:pt x="17689" y="6204"/>
                  <a:pt x="17678" y="6211"/>
                  <a:pt x="17735" y="6226"/>
                </a:cubicBezTo>
              </a:path>
              <a:path w="9774" h="9204">
                <a:moveTo>
                  <a:pt x="12105" y="8210"/>
                </a:moveTo>
                <a:cubicBezTo>
                  <a:pt x="12204" y="8117"/>
                  <a:pt x="12264" y="8066"/>
                  <a:pt x="12378" y="8012"/>
                </a:cubicBezTo>
                <a:cubicBezTo>
                  <a:pt x="12463" y="7972"/>
                  <a:pt x="12539" y="7923"/>
                  <a:pt x="12626" y="7888"/>
                </a:cubicBezTo>
                <a:cubicBezTo>
                  <a:pt x="12761" y="7833"/>
                  <a:pt x="12906" y="7818"/>
                  <a:pt x="13047" y="7789"/>
                </a:cubicBezTo>
                <a:cubicBezTo>
                  <a:pt x="13243" y="7749"/>
                  <a:pt x="13444" y="7686"/>
                  <a:pt x="13643" y="7665"/>
                </a:cubicBezTo>
                <a:cubicBezTo>
                  <a:pt x="13849" y="7643"/>
                  <a:pt x="14056" y="7652"/>
                  <a:pt x="14263" y="7640"/>
                </a:cubicBezTo>
                <a:cubicBezTo>
                  <a:pt x="14715" y="7615"/>
                  <a:pt x="15150" y="7624"/>
                  <a:pt x="15602" y="7640"/>
                </a:cubicBezTo>
                <a:cubicBezTo>
                  <a:pt x="15826" y="7648"/>
                  <a:pt x="16049" y="7660"/>
                  <a:pt x="16272" y="7689"/>
                </a:cubicBezTo>
                <a:cubicBezTo>
                  <a:pt x="16519" y="7721"/>
                  <a:pt x="16775" y="7800"/>
                  <a:pt x="17016" y="7863"/>
                </a:cubicBezTo>
                <a:cubicBezTo>
                  <a:pt x="17182" y="7907"/>
                  <a:pt x="17352" y="7974"/>
                  <a:pt x="17512" y="8037"/>
                </a:cubicBezTo>
                <a:cubicBezTo>
                  <a:pt x="17649" y="8091"/>
                  <a:pt x="17781" y="8141"/>
                  <a:pt x="17909" y="8210"/>
                </a:cubicBezTo>
                <a:cubicBezTo>
                  <a:pt x="17990" y="8254"/>
                  <a:pt x="18052" y="8317"/>
                  <a:pt x="18132" y="8359"/>
                </a:cubicBezTo>
                <a:cubicBezTo>
                  <a:pt x="18184" y="8386"/>
                  <a:pt x="18231" y="8420"/>
                  <a:pt x="18281" y="8434"/>
                </a:cubicBezTo>
                <a:cubicBezTo>
                  <a:pt x="18273" y="8426"/>
                  <a:pt x="18264" y="8417"/>
                  <a:pt x="18256" y="8409"/>
                </a:cubicBezTo>
              </a:path>
              <a:path w="9774" h="9204">
                <a:moveTo>
                  <a:pt x="18157" y="8062"/>
                </a:moveTo>
                <a:cubicBezTo>
                  <a:pt x="18223" y="8099"/>
                  <a:pt x="18231" y="8132"/>
                  <a:pt x="18281" y="8186"/>
                </a:cubicBezTo>
                <a:cubicBezTo>
                  <a:pt x="18304" y="8211"/>
                  <a:pt x="18343" y="8297"/>
                  <a:pt x="18331" y="8334"/>
                </a:cubicBezTo>
                <a:cubicBezTo>
                  <a:pt x="18311" y="8394"/>
                  <a:pt x="18175" y="8405"/>
                  <a:pt x="18132" y="8409"/>
                </a:cubicBezTo>
                <a:cubicBezTo>
                  <a:pt x="18056" y="8409"/>
                  <a:pt x="18030" y="8410"/>
                  <a:pt x="17983" y="8434"/>
                </a:cubicBezTo>
              </a:path>
              <a:path w="9774" h="9204">
                <a:moveTo>
                  <a:pt x="8558" y="11063"/>
                </a:moveTo>
                <a:cubicBezTo>
                  <a:pt x="8617" y="11099"/>
                  <a:pt x="8682" y="11088"/>
                  <a:pt x="8756" y="11088"/>
                </a:cubicBezTo>
                <a:cubicBezTo>
                  <a:pt x="8797" y="11088"/>
                  <a:pt x="8839" y="11088"/>
                  <a:pt x="8880" y="11088"/>
                </a:cubicBezTo>
              </a:path>
              <a:path w="9774" h="9204">
                <a:moveTo>
                  <a:pt x="9227" y="10790"/>
                </a:moveTo>
                <a:cubicBezTo>
                  <a:pt x="9256" y="10861"/>
                  <a:pt x="9292" y="10918"/>
                  <a:pt x="9327" y="10988"/>
                </a:cubicBezTo>
                <a:cubicBezTo>
                  <a:pt x="9366" y="11066"/>
                  <a:pt x="9419" y="11225"/>
                  <a:pt x="9475" y="11286"/>
                </a:cubicBezTo>
                <a:cubicBezTo>
                  <a:pt x="9534" y="11351"/>
                  <a:pt x="9604" y="11435"/>
                  <a:pt x="9674" y="11485"/>
                </a:cubicBezTo>
              </a:path>
              <a:path w="9774" h="9204">
                <a:moveTo>
                  <a:pt x="9525" y="10964"/>
                </a:moveTo>
                <a:cubicBezTo>
                  <a:pt x="9408" y="11087"/>
                  <a:pt x="9298" y="11215"/>
                  <a:pt x="9178" y="11336"/>
                </a:cubicBezTo>
                <a:cubicBezTo>
                  <a:pt x="9142" y="11372"/>
                  <a:pt x="9126" y="11415"/>
                  <a:pt x="9103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4"/>
          <p:cNvSpPr/>
          <p:nvPr/>
        </p:nvSpPr>
        <p:spPr>
          <a:xfrm>
            <a:off x="3598920" y="1581120"/>
            <a:ext cx="1384200" cy="446040"/>
          </a:xfrm>
          <a:custGeom>
            <a:avLst/>
            <a:gdLst/>
            <a:ahLst/>
            <a:rect l="l" t="t" r="r" b="b"/>
            <a:pathLst>
              <a:path w="3846" h="1242">
                <a:moveTo>
                  <a:pt x="10319" y="4390"/>
                </a:moveTo>
                <a:cubicBezTo>
                  <a:pt x="10328" y="4460"/>
                  <a:pt x="10344" y="4515"/>
                  <a:pt x="10344" y="4589"/>
                </a:cubicBezTo>
                <a:cubicBezTo>
                  <a:pt x="10344" y="4837"/>
                  <a:pt x="10344" y="5531"/>
                  <a:pt x="10344" y="5283"/>
                </a:cubicBezTo>
              </a:path>
              <a:path w="3846" h="1242">
                <a:moveTo>
                  <a:pt x="9996" y="4887"/>
                </a:moveTo>
                <a:cubicBezTo>
                  <a:pt x="10214" y="4887"/>
                  <a:pt x="10427" y="4884"/>
                  <a:pt x="10641" y="4862"/>
                </a:cubicBezTo>
                <a:cubicBezTo>
                  <a:pt x="10666" y="4862"/>
                  <a:pt x="10691" y="4862"/>
                  <a:pt x="10716" y="4862"/>
                </a:cubicBezTo>
              </a:path>
              <a:path w="3846" h="1242">
                <a:moveTo>
                  <a:pt x="11286" y="4738"/>
                </a:moveTo>
                <a:cubicBezTo>
                  <a:pt x="11286" y="4874"/>
                  <a:pt x="11271" y="5004"/>
                  <a:pt x="11261" y="5135"/>
                </a:cubicBezTo>
                <a:cubicBezTo>
                  <a:pt x="11253" y="5235"/>
                  <a:pt x="11225" y="5384"/>
                  <a:pt x="11237" y="5482"/>
                </a:cubicBezTo>
                <a:cubicBezTo>
                  <a:pt x="11243" y="5534"/>
                  <a:pt x="11252" y="5579"/>
                  <a:pt x="11261" y="5631"/>
                </a:cubicBezTo>
                <a:cubicBezTo>
                  <a:pt x="11261" y="5445"/>
                  <a:pt x="11269" y="5269"/>
                  <a:pt x="11286" y="5085"/>
                </a:cubicBezTo>
                <a:cubicBezTo>
                  <a:pt x="11297" y="4966"/>
                  <a:pt x="11237" y="4741"/>
                  <a:pt x="11311" y="4638"/>
                </a:cubicBezTo>
                <a:cubicBezTo>
                  <a:pt x="11358" y="4572"/>
                  <a:pt x="11444" y="4584"/>
                  <a:pt x="11509" y="4564"/>
                </a:cubicBezTo>
                <a:cubicBezTo>
                  <a:pt x="11635" y="4526"/>
                  <a:pt x="11773" y="4517"/>
                  <a:pt x="11906" y="4514"/>
                </a:cubicBezTo>
                <a:cubicBezTo>
                  <a:pt x="12187" y="4508"/>
                  <a:pt x="12469" y="4477"/>
                  <a:pt x="12750" y="4465"/>
                </a:cubicBezTo>
                <a:cubicBezTo>
                  <a:pt x="13049" y="4452"/>
                  <a:pt x="13347" y="4464"/>
                  <a:pt x="13643" y="4440"/>
                </a:cubicBezTo>
                <a:cubicBezTo>
                  <a:pt x="13710" y="4435"/>
                  <a:pt x="13809" y="4423"/>
                  <a:pt x="13841" y="4415"/>
                </a:cubicBezTo>
              </a:path>
              <a:path w="3846" h="1242">
                <a:moveTo>
                  <a:pt x="11658" y="4837"/>
                </a:moveTo>
                <a:cubicBezTo>
                  <a:pt x="11711" y="4962"/>
                  <a:pt x="11764" y="5074"/>
                  <a:pt x="11832" y="5184"/>
                </a:cubicBezTo>
                <a:cubicBezTo>
                  <a:pt x="11928" y="5340"/>
                  <a:pt x="11943" y="5356"/>
                  <a:pt x="12055" y="5457"/>
                </a:cubicBezTo>
                <a:cubicBezTo>
                  <a:pt x="12083" y="5485"/>
                  <a:pt x="12096" y="5494"/>
                  <a:pt x="12129" y="5482"/>
                </a:cubicBezTo>
              </a:path>
              <a:path w="3846" h="1242">
                <a:moveTo>
                  <a:pt x="12030" y="4887"/>
                </a:moveTo>
                <a:cubicBezTo>
                  <a:pt x="11983" y="5018"/>
                  <a:pt x="11924" y="5101"/>
                  <a:pt x="11857" y="5209"/>
                </a:cubicBezTo>
                <a:cubicBezTo>
                  <a:pt x="11803" y="5296"/>
                  <a:pt x="11730" y="5361"/>
                  <a:pt x="11658" y="5432"/>
                </a:cubicBezTo>
                <a:cubicBezTo>
                  <a:pt x="11576" y="5514"/>
                  <a:pt x="11627" y="5445"/>
                  <a:pt x="11658" y="5383"/>
                </a:cubicBezTo>
              </a:path>
              <a:path w="3846" h="1242">
                <a:moveTo>
                  <a:pt x="12105" y="5085"/>
                </a:moveTo>
                <a:cubicBezTo>
                  <a:pt x="12250" y="5118"/>
                  <a:pt x="12338" y="5135"/>
                  <a:pt x="12477" y="5135"/>
                </a:cubicBezTo>
                <a:cubicBezTo>
                  <a:pt x="12510" y="5135"/>
                  <a:pt x="12543" y="5135"/>
                  <a:pt x="12576" y="5135"/>
                </a:cubicBezTo>
              </a:path>
              <a:path w="3846" h="1242">
                <a:moveTo>
                  <a:pt x="12948" y="4812"/>
                </a:moveTo>
                <a:cubicBezTo>
                  <a:pt x="12938" y="4982"/>
                  <a:pt x="12904" y="5154"/>
                  <a:pt x="12874" y="5308"/>
                </a:cubicBezTo>
                <a:cubicBezTo>
                  <a:pt x="12874" y="5360"/>
                  <a:pt x="12875" y="5378"/>
                  <a:pt x="12898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5"/>
          <p:cNvSpPr/>
          <p:nvPr/>
        </p:nvSpPr>
        <p:spPr>
          <a:xfrm>
            <a:off x="6269040" y="1535040"/>
            <a:ext cx="1401840" cy="474840"/>
          </a:xfrm>
          <a:custGeom>
            <a:avLst/>
            <a:gdLst/>
            <a:ahLst/>
            <a:rect l="l" t="t" r="r" b="b"/>
            <a:pathLst>
              <a:path w="3895" h="1316">
                <a:moveTo>
                  <a:pt x="17760" y="4564"/>
                </a:moveTo>
                <a:cubicBezTo>
                  <a:pt x="17760" y="4685"/>
                  <a:pt x="17740" y="4794"/>
                  <a:pt x="17735" y="4911"/>
                </a:cubicBezTo>
                <a:cubicBezTo>
                  <a:pt x="17731" y="4997"/>
                  <a:pt x="17753" y="5088"/>
                  <a:pt x="17711" y="5159"/>
                </a:cubicBezTo>
              </a:path>
              <a:path w="3895" h="1316">
                <a:moveTo>
                  <a:pt x="17413" y="4887"/>
                </a:moveTo>
                <a:cubicBezTo>
                  <a:pt x="17506" y="4917"/>
                  <a:pt x="17667" y="4887"/>
                  <a:pt x="17785" y="4887"/>
                </a:cubicBezTo>
                <a:cubicBezTo>
                  <a:pt x="17876" y="4887"/>
                  <a:pt x="17917" y="4887"/>
                  <a:pt x="17983" y="4887"/>
                </a:cubicBezTo>
              </a:path>
              <a:path w="3895" h="1316">
                <a:moveTo>
                  <a:pt x="18579" y="4837"/>
                </a:moveTo>
                <a:cubicBezTo>
                  <a:pt x="18574" y="5013"/>
                  <a:pt x="18542" y="5144"/>
                  <a:pt x="18529" y="5308"/>
                </a:cubicBezTo>
                <a:cubicBezTo>
                  <a:pt x="18529" y="5349"/>
                  <a:pt x="18529" y="5391"/>
                  <a:pt x="18529" y="5432"/>
                </a:cubicBezTo>
                <a:cubicBezTo>
                  <a:pt x="18545" y="5340"/>
                  <a:pt x="18536" y="5352"/>
                  <a:pt x="18529" y="5259"/>
                </a:cubicBezTo>
                <a:cubicBezTo>
                  <a:pt x="18519" y="5125"/>
                  <a:pt x="18526" y="4991"/>
                  <a:pt x="18554" y="4862"/>
                </a:cubicBezTo>
                <a:cubicBezTo>
                  <a:pt x="18574" y="4771"/>
                  <a:pt x="18568" y="4647"/>
                  <a:pt x="18604" y="4564"/>
                </a:cubicBezTo>
                <a:cubicBezTo>
                  <a:pt x="18633" y="4498"/>
                  <a:pt x="18670" y="4453"/>
                  <a:pt x="18728" y="4415"/>
                </a:cubicBezTo>
                <a:cubicBezTo>
                  <a:pt x="18825" y="4351"/>
                  <a:pt x="18964" y="4343"/>
                  <a:pt x="19075" y="4341"/>
                </a:cubicBezTo>
                <a:cubicBezTo>
                  <a:pt x="19341" y="4335"/>
                  <a:pt x="19600" y="4316"/>
                  <a:pt x="19869" y="4316"/>
                </a:cubicBezTo>
                <a:cubicBezTo>
                  <a:pt x="20103" y="4316"/>
                  <a:pt x="20330" y="4337"/>
                  <a:pt x="20563" y="4341"/>
                </a:cubicBezTo>
                <a:cubicBezTo>
                  <a:pt x="20748" y="4344"/>
                  <a:pt x="21139" y="4416"/>
                  <a:pt x="21307" y="4316"/>
                </a:cubicBezTo>
                <a:cubicBezTo>
                  <a:pt x="21307" y="4299"/>
                  <a:pt x="21307" y="4283"/>
                  <a:pt x="21307" y="4266"/>
                </a:cubicBezTo>
              </a:path>
              <a:path w="3895" h="1316">
                <a:moveTo>
                  <a:pt x="18876" y="4713"/>
                </a:moveTo>
                <a:cubicBezTo>
                  <a:pt x="18882" y="4839"/>
                  <a:pt x="18896" y="4966"/>
                  <a:pt x="18951" y="5085"/>
                </a:cubicBezTo>
                <a:cubicBezTo>
                  <a:pt x="19011" y="5215"/>
                  <a:pt x="19067" y="5245"/>
                  <a:pt x="19174" y="5333"/>
                </a:cubicBezTo>
                <a:cubicBezTo>
                  <a:pt x="19252" y="5397"/>
                  <a:pt x="19276" y="5431"/>
                  <a:pt x="19372" y="5407"/>
                </a:cubicBezTo>
              </a:path>
              <a:path w="3895" h="1316">
                <a:moveTo>
                  <a:pt x="19174" y="4762"/>
                </a:moveTo>
                <a:cubicBezTo>
                  <a:pt x="19100" y="4910"/>
                  <a:pt x="19038" y="5069"/>
                  <a:pt x="18951" y="5209"/>
                </a:cubicBezTo>
                <a:cubicBezTo>
                  <a:pt x="18903" y="5286"/>
                  <a:pt x="18836" y="5342"/>
                  <a:pt x="18777" y="5407"/>
                </a:cubicBezTo>
                <a:cubicBezTo>
                  <a:pt x="18718" y="5472"/>
                  <a:pt x="18741" y="5459"/>
                  <a:pt x="18752" y="5383"/>
                </a:cubicBezTo>
              </a:path>
              <a:path w="3895" h="1316">
                <a:moveTo>
                  <a:pt x="19199" y="5011"/>
                </a:moveTo>
                <a:cubicBezTo>
                  <a:pt x="19387" y="5011"/>
                  <a:pt x="19560" y="5006"/>
                  <a:pt x="19745" y="4986"/>
                </a:cubicBezTo>
                <a:cubicBezTo>
                  <a:pt x="19761" y="4986"/>
                  <a:pt x="19778" y="4986"/>
                  <a:pt x="19794" y="4986"/>
                </a:cubicBezTo>
              </a:path>
              <a:path w="3895" h="1316">
                <a:moveTo>
                  <a:pt x="20265" y="4762"/>
                </a:moveTo>
                <a:cubicBezTo>
                  <a:pt x="20236" y="4927"/>
                  <a:pt x="20175" y="5136"/>
                  <a:pt x="20166" y="5308"/>
                </a:cubicBezTo>
                <a:cubicBezTo>
                  <a:pt x="20161" y="5398"/>
                  <a:pt x="20166" y="5490"/>
                  <a:pt x="20166" y="55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6"/>
          <p:cNvSpPr/>
          <p:nvPr/>
        </p:nvSpPr>
        <p:spPr>
          <a:xfrm>
            <a:off x="3402000" y="2847960"/>
            <a:ext cx="4214880" cy="679320"/>
          </a:xfrm>
          <a:custGeom>
            <a:avLst/>
            <a:gdLst/>
            <a:ahLst/>
            <a:rect l="l" t="t" r="r" b="b"/>
            <a:pathLst>
              <a:path w="11708" h="1886">
                <a:moveTo>
                  <a:pt x="9500" y="8235"/>
                </a:moveTo>
                <a:cubicBezTo>
                  <a:pt x="9528" y="8312"/>
                  <a:pt x="9562" y="8364"/>
                  <a:pt x="9599" y="8434"/>
                </a:cubicBezTo>
                <a:cubicBezTo>
                  <a:pt x="9654" y="8538"/>
                  <a:pt x="9734" y="8585"/>
                  <a:pt x="9798" y="8682"/>
                </a:cubicBezTo>
                <a:cubicBezTo>
                  <a:pt x="9854" y="8768"/>
                  <a:pt x="9897" y="8851"/>
                  <a:pt x="9971" y="8930"/>
                </a:cubicBezTo>
                <a:cubicBezTo>
                  <a:pt x="10023" y="8986"/>
                  <a:pt x="10064" y="9047"/>
                  <a:pt x="10120" y="9103"/>
                </a:cubicBezTo>
                <a:cubicBezTo>
                  <a:pt x="10165" y="9148"/>
                  <a:pt x="10172" y="9147"/>
                  <a:pt x="10220" y="9128"/>
                </a:cubicBezTo>
              </a:path>
              <a:path w="11708" h="1886">
                <a:moveTo>
                  <a:pt x="10096" y="8161"/>
                </a:moveTo>
                <a:cubicBezTo>
                  <a:pt x="10012" y="8244"/>
                  <a:pt x="9962" y="8317"/>
                  <a:pt x="9897" y="8409"/>
                </a:cubicBezTo>
                <a:cubicBezTo>
                  <a:pt x="9828" y="8506"/>
                  <a:pt x="9775" y="8614"/>
                  <a:pt x="9699" y="8706"/>
                </a:cubicBezTo>
                <a:cubicBezTo>
                  <a:pt x="9642" y="8775"/>
                  <a:pt x="9607" y="8838"/>
                  <a:pt x="9550" y="8905"/>
                </a:cubicBezTo>
                <a:cubicBezTo>
                  <a:pt x="9520" y="8941"/>
                  <a:pt x="9388" y="9025"/>
                  <a:pt x="9500" y="8979"/>
                </a:cubicBezTo>
              </a:path>
              <a:path w="11708" h="1886">
                <a:moveTo>
                  <a:pt x="10244" y="8607"/>
                </a:moveTo>
                <a:cubicBezTo>
                  <a:pt x="10337" y="8617"/>
                  <a:pt x="10423" y="8652"/>
                  <a:pt x="10517" y="8657"/>
                </a:cubicBezTo>
                <a:cubicBezTo>
                  <a:pt x="10588" y="8661"/>
                  <a:pt x="10642" y="8682"/>
                  <a:pt x="10716" y="8682"/>
                </a:cubicBezTo>
              </a:path>
              <a:path w="11708" h="1886">
                <a:moveTo>
                  <a:pt x="10344" y="8781"/>
                </a:moveTo>
                <a:cubicBezTo>
                  <a:pt x="10450" y="8797"/>
                  <a:pt x="10561" y="8825"/>
                  <a:pt x="10666" y="8830"/>
                </a:cubicBezTo>
                <a:cubicBezTo>
                  <a:pt x="10719" y="8833"/>
                  <a:pt x="10722" y="8844"/>
                  <a:pt x="10765" y="8855"/>
                </a:cubicBezTo>
              </a:path>
              <a:path w="11708" h="1886">
                <a:moveTo>
                  <a:pt x="11782" y="8062"/>
                </a:moveTo>
                <a:cubicBezTo>
                  <a:pt x="11730" y="8099"/>
                  <a:pt x="11705" y="8139"/>
                  <a:pt x="11658" y="8186"/>
                </a:cubicBezTo>
                <a:cubicBezTo>
                  <a:pt x="11563" y="8281"/>
                  <a:pt x="11523" y="8349"/>
                  <a:pt x="11460" y="8458"/>
                </a:cubicBezTo>
                <a:cubicBezTo>
                  <a:pt x="11381" y="8595"/>
                  <a:pt x="11320" y="8671"/>
                  <a:pt x="11286" y="8830"/>
                </a:cubicBezTo>
                <a:cubicBezTo>
                  <a:pt x="11259" y="8956"/>
                  <a:pt x="11270" y="9028"/>
                  <a:pt x="11286" y="9153"/>
                </a:cubicBezTo>
                <a:cubicBezTo>
                  <a:pt x="11304" y="9291"/>
                  <a:pt x="11334" y="9288"/>
                  <a:pt x="11460" y="9351"/>
                </a:cubicBezTo>
                <a:cubicBezTo>
                  <a:pt x="11476" y="9359"/>
                  <a:pt x="11493" y="9368"/>
                  <a:pt x="11509" y="9376"/>
                </a:cubicBezTo>
              </a:path>
              <a:path w="11708" h="1886">
                <a:moveTo>
                  <a:pt x="12105" y="8409"/>
                </a:moveTo>
                <a:cubicBezTo>
                  <a:pt x="12120" y="8472"/>
                  <a:pt x="12120" y="8559"/>
                  <a:pt x="12105" y="8632"/>
                </a:cubicBezTo>
                <a:cubicBezTo>
                  <a:pt x="12078" y="8761"/>
                  <a:pt x="12080" y="8900"/>
                  <a:pt x="12055" y="9029"/>
                </a:cubicBezTo>
                <a:cubicBezTo>
                  <a:pt x="12039" y="9112"/>
                  <a:pt x="12006" y="9173"/>
                  <a:pt x="12055" y="9252"/>
                </a:cubicBezTo>
                <a:cubicBezTo>
                  <a:pt x="12063" y="9260"/>
                  <a:pt x="12072" y="9269"/>
                  <a:pt x="12080" y="9277"/>
                </a:cubicBezTo>
              </a:path>
              <a:path w="11708" h="1886">
                <a:moveTo>
                  <a:pt x="12626" y="8533"/>
                </a:moveTo>
                <a:cubicBezTo>
                  <a:pt x="12606" y="8654"/>
                  <a:pt x="12601" y="8758"/>
                  <a:pt x="12601" y="8880"/>
                </a:cubicBezTo>
                <a:cubicBezTo>
                  <a:pt x="12601" y="8988"/>
                  <a:pt x="12601" y="9095"/>
                  <a:pt x="12601" y="9203"/>
                </a:cubicBezTo>
              </a:path>
              <a:path w="11708" h="1886">
                <a:moveTo>
                  <a:pt x="12229" y="8756"/>
                </a:moveTo>
                <a:cubicBezTo>
                  <a:pt x="12436" y="8756"/>
                  <a:pt x="12642" y="8756"/>
                  <a:pt x="12849" y="8756"/>
                </a:cubicBezTo>
              </a:path>
              <a:path w="11708" h="1886">
                <a:moveTo>
                  <a:pt x="13221" y="8756"/>
                </a:moveTo>
                <a:cubicBezTo>
                  <a:pt x="13201" y="8870"/>
                  <a:pt x="13196" y="8964"/>
                  <a:pt x="13196" y="9079"/>
                </a:cubicBezTo>
                <a:cubicBezTo>
                  <a:pt x="13196" y="9145"/>
                  <a:pt x="13196" y="9211"/>
                  <a:pt x="13196" y="9277"/>
                </a:cubicBezTo>
                <a:cubicBezTo>
                  <a:pt x="13203" y="9198"/>
                  <a:pt x="13221" y="9135"/>
                  <a:pt x="13221" y="9054"/>
                </a:cubicBezTo>
                <a:cubicBezTo>
                  <a:pt x="13221" y="8940"/>
                  <a:pt x="13251" y="8865"/>
                  <a:pt x="13271" y="8756"/>
                </a:cubicBezTo>
                <a:cubicBezTo>
                  <a:pt x="13285" y="8680"/>
                  <a:pt x="13295" y="8621"/>
                  <a:pt x="13345" y="8558"/>
                </a:cubicBezTo>
                <a:cubicBezTo>
                  <a:pt x="13396" y="8494"/>
                  <a:pt x="13512" y="8419"/>
                  <a:pt x="13593" y="8409"/>
                </a:cubicBezTo>
                <a:cubicBezTo>
                  <a:pt x="13770" y="8387"/>
                  <a:pt x="13960" y="8384"/>
                  <a:pt x="14139" y="8384"/>
                </a:cubicBezTo>
                <a:cubicBezTo>
                  <a:pt x="14324" y="8384"/>
                  <a:pt x="14500" y="8405"/>
                  <a:pt x="14684" y="8409"/>
                </a:cubicBezTo>
                <a:cubicBezTo>
                  <a:pt x="14957" y="8415"/>
                  <a:pt x="15677" y="8409"/>
                  <a:pt x="15404" y="8409"/>
                </a:cubicBezTo>
              </a:path>
              <a:path w="11708" h="1886">
                <a:moveTo>
                  <a:pt x="13543" y="8607"/>
                </a:moveTo>
                <a:cubicBezTo>
                  <a:pt x="13589" y="8697"/>
                  <a:pt x="13650" y="8789"/>
                  <a:pt x="13692" y="8880"/>
                </a:cubicBezTo>
                <a:cubicBezTo>
                  <a:pt x="13733" y="8968"/>
                  <a:pt x="13765" y="9061"/>
                  <a:pt x="13841" y="9128"/>
                </a:cubicBezTo>
                <a:cubicBezTo>
                  <a:pt x="13887" y="9168"/>
                  <a:pt x="13954" y="9258"/>
                  <a:pt x="14015" y="9277"/>
                </a:cubicBezTo>
                <a:cubicBezTo>
                  <a:pt x="14056" y="9277"/>
                  <a:pt x="14072" y="9285"/>
                  <a:pt x="14064" y="9252"/>
                </a:cubicBezTo>
              </a:path>
              <a:path w="11708" h="1886">
                <a:moveTo>
                  <a:pt x="13791" y="8731"/>
                </a:moveTo>
                <a:cubicBezTo>
                  <a:pt x="13719" y="8898"/>
                  <a:pt x="13687" y="8925"/>
                  <a:pt x="13593" y="9054"/>
                </a:cubicBezTo>
                <a:cubicBezTo>
                  <a:pt x="13590" y="9058"/>
                  <a:pt x="13498" y="9173"/>
                  <a:pt x="13568" y="9103"/>
                </a:cubicBezTo>
              </a:path>
              <a:path w="11708" h="1886">
                <a:moveTo>
                  <a:pt x="14089" y="8905"/>
                </a:moveTo>
                <a:cubicBezTo>
                  <a:pt x="14195" y="8905"/>
                  <a:pt x="14287" y="8920"/>
                  <a:pt x="14387" y="8930"/>
                </a:cubicBezTo>
                <a:cubicBezTo>
                  <a:pt x="14470" y="8938"/>
                  <a:pt x="14530" y="8912"/>
                  <a:pt x="14610" y="8905"/>
                </a:cubicBezTo>
              </a:path>
              <a:path w="11708" h="1886">
                <a:moveTo>
                  <a:pt x="14833" y="8607"/>
                </a:moveTo>
                <a:cubicBezTo>
                  <a:pt x="14826" y="8705"/>
                  <a:pt x="14808" y="8781"/>
                  <a:pt x="14808" y="8880"/>
                </a:cubicBezTo>
                <a:cubicBezTo>
                  <a:pt x="14808" y="8974"/>
                  <a:pt x="14794" y="9036"/>
                  <a:pt x="14808" y="9128"/>
                </a:cubicBezTo>
                <a:cubicBezTo>
                  <a:pt x="14818" y="9192"/>
                  <a:pt x="14818" y="9276"/>
                  <a:pt x="14858" y="9302"/>
                </a:cubicBezTo>
              </a:path>
              <a:path w="11708" h="1886">
                <a:moveTo>
                  <a:pt x="15677" y="8334"/>
                </a:moveTo>
                <a:cubicBezTo>
                  <a:pt x="15715" y="8509"/>
                  <a:pt x="15726" y="8630"/>
                  <a:pt x="15726" y="8806"/>
                </a:cubicBezTo>
                <a:cubicBezTo>
                  <a:pt x="15726" y="8949"/>
                  <a:pt x="15702" y="9054"/>
                  <a:pt x="15627" y="9178"/>
                </a:cubicBezTo>
                <a:cubicBezTo>
                  <a:pt x="15568" y="9275"/>
                  <a:pt x="15477" y="9349"/>
                  <a:pt x="15379" y="9401"/>
                </a:cubicBezTo>
                <a:cubicBezTo>
                  <a:pt x="15294" y="9446"/>
                  <a:pt x="15280" y="9438"/>
                  <a:pt x="15280" y="9351"/>
                </a:cubicBezTo>
              </a:path>
              <a:path w="11708" h="1886">
                <a:moveTo>
                  <a:pt x="16148" y="8210"/>
                </a:moveTo>
                <a:cubicBezTo>
                  <a:pt x="16065" y="8345"/>
                  <a:pt x="16014" y="8464"/>
                  <a:pt x="15949" y="8607"/>
                </a:cubicBezTo>
                <a:cubicBezTo>
                  <a:pt x="15896" y="8724"/>
                  <a:pt x="15834" y="8844"/>
                  <a:pt x="15850" y="8979"/>
                </a:cubicBezTo>
                <a:cubicBezTo>
                  <a:pt x="15863" y="9089"/>
                  <a:pt x="15906" y="9259"/>
                  <a:pt x="15974" y="9351"/>
                </a:cubicBezTo>
                <a:cubicBezTo>
                  <a:pt x="16024" y="9419"/>
                  <a:pt x="16096" y="9441"/>
                  <a:pt x="16173" y="9451"/>
                </a:cubicBezTo>
              </a:path>
              <a:path w="11708" h="1886">
                <a:moveTo>
                  <a:pt x="16743" y="8409"/>
                </a:moveTo>
                <a:cubicBezTo>
                  <a:pt x="16743" y="8540"/>
                  <a:pt x="16728" y="8656"/>
                  <a:pt x="16718" y="8781"/>
                </a:cubicBezTo>
                <a:cubicBezTo>
                  <a:pt x="16708" y="8908"/>
                  <a:pt x="16710" y="9029"/>
                  <a:pt x="16694" y="9153"/>
                </a:cubicBezTo>
                <a:cubicBezTo>
                  <a:pt x="16684" y="9229"/>
                  <a:pt x="16671" y="9392"/>
                  <a:pt x="16718" y="9376"/>
                </a:cubicBezTo>
              </a:path>
              <a:path w="11708" h="1886">
                <a:moveTo>
                  <a:pt x="17363" y="8632"/>
                </a:moveTo>
                <a:cubicBezTo>
                  <a:pt x="17363" y="8799"/>
                  <a:pt x="17335" y="8997"/>
                  <a:pt x="17388" y="9153"/>
                </a:cubicBezTo>
                <a:cubicBezTo>
                  <a:pt x="17411" y="9220"/>
                  <a:pt x="17416" y="9238"/>
                  <a:pt x="17438" y="9277"/>
                </a:cubicBezTo>
              </a:path>
              <a:path w="11708" h="1886">
                <a:moveTo>
                  <a:pt x="17115" y="8954"/>
                </a:moveTo>
                <a:cubicBezTo>
                  <a:pt x="17254" y="8932"/>
                  <a:pt x="17402" y="8955"/>
                  <a:pt x="17537" y="8930"/>
                </a:cubicBezTo>
                <a:cubicBezTo>
                  <a:pt x="17595" y="8913"/>
                  <a:pt x="17653" y="8897"/>
                  <a:pt x="17711" y="8880"/>
                </a:cubicBezTo>
              </a:path>
              <a:path w="11708" h="1886">
                <a:moveTo>
                  <a:pt x="18182" y="8756"/>
                </a:moveTo>
                <a:cubicBezTo>
                  <a:pt x="18163" y="8888"/>
                  <a:pt x="18146" y="9024"/>
                  <a:pt x="18132" y="9153"/>
                </a:cubicBezTo>
                <a:cubicBezTo>
                  <a:pt x="18120" y="9260"/>
                  <a:pt x="18132" y="9399"/>
                  <a:pt x="18157" y="9500"/>
                </a:cubicBezTo>
                <a:cubicBezTo>
                  <a:pt x="18165" y="9517"/>
                  <a:pt x="18174" y="9533"/>
                  <a:pt x="18182" y="9550"/>
                </a:cubicBezTo>
                <a:cubicBezTo>
                  <a:pt x="18160" y="9471"/>
                  <a:pt x="18141" y="9385"/>
                  <a:pt x="18132" y="9302"/>
                </a:cubicBezTo>
                <a:cubicBezTo>
                  <a:pt x="18119" y="9186"/>
                  <a:pt x="18094" y="9070"/>
                  <a:pt x="18083" y="8954"/>
                </a:cubicBezTo>
                <a:cubicBezTo>
                  <a:pt x="18075" y="8869"/>
                  <a:pt x="18044" y="8769"/>
                  <a:pt x="18058" y="8682"/>
                </a:cubicBezTo>
                <a:cubicBezTo>
                  <a:pt x="18072" y="8594"/>
                  <a:pt x="18099" y="8553"/>
                  <a:pt x="18182" y="8508"/>
                </a:cubicBezTo>
                <a:cubicBezTo>
                  <a:pt x="18309" y="8439"/>
                  <a:pt x="18487" y="8443"/>
                  <a:pt x="18628" y="8458"/>
                </a:cubicBezTo>
                <a:cubicBezTo>
                  <a:pt x="18818" y="8478"/>
                  <a:pt x="19008" y="8520"/>
                  <a:pt x="19199" y="8533"/>
                </a:cubicBezTo>
                <a:cubicBezTo>
                  <a:pt x="19405" y="8547"/>
                  <a:pt x="19614" y="8554"/>
                  <a:pt x="19819" y="8558"/>
                </a:cubicBezTo>
                <a:cubicBezTo>
                  <a:pt x="19986" y="8561"/>
                  <a:pt x="20177" y="8567"/>
                  <a:pt x="20340" y="8533"/>
                </a:cubicBezTo>
                <a:cubicBezTo>
                  <a:pt x="20368" y="8527"/>
                  <a:pt x="20498" y="8478"/>
                  <a:pt x="20513" y="8483"/>
                </a:cubicBezTo>
                <a:cubicBezTo>
                  <a:pt x="20547" y="8517"/>
                  <a:pt x="20543" y="8525"/>
                  <a:pt x="20464" y="8508"/>
                </a:cubicBezTo>
              </a:path>
              <a:path w="11708" h="1886">
                <a:moveTo>
                  <a:pt x="18628" y="8930"/>
                </a:moveTo>
                <a:cubicBezTo>
                  <a:pt x="18652" y="9070"/>
                  <a:pt x="18662" y="9164"/>
                  <a:pt x="18752" y="9277"/>
                </a:cubicBezTo>
                <a:cubicBezTo>
                  <a:pt x="18835" y="9381"/>
                  <a:pt x="18902" y="9478"/>
                  <a:pt x="19000" y="9575"/>
                </a:cubicBezTo>
                <a:cubicBezTo>
                  <a:pt x="19078" y="9653"/>
                  <a:pt x="19166" y="9702"/>
                  <a:pt x="19273" y="9723"/>
                </a:cubicBezTo>
              </a:path>
              <a:path w="11708" h="1886">
                <a:moveTo>
                  <a:pt x="19000" y="8806"/>
                </a:moveTo>
                <a:cubicBezTo>
                  <a:pt x="18897" y="8976"/>
                  <a:pt x="18803" y="9134"/>
                  <a:pt x="18703" y="9302"/>
                </a:cubicBezTo>
                <a:cubicBezTo>
                  <a:pt x="18662" y="9371"/>
                  <a:pt x="18640" y="9452"/>
                  <a:pt x="18604" y="9525"/>
                </a:cubicBezTo>
                <a:cubicBezTo>
                  <a:pt x="18578" y="9578"/>
                  <a:pt x="18547" y="9584"/>
                  <a:pt x="18579" y="9599"/>
                </a:cubicBezTo>
              </a:path>
              <a:path w="11708" h="1886">
                <a:moveTo>
                  <a:pt x="18926" y="9302"/>
                </a:moveTo>
                <a:cubicBezTo>
                  <a:pt x="19065" y="9280"/>
                  <a:pt x="19212" y="9279"/>
                  <a:pt x="19348" y="9252"/>
                </a:cubicBezTo>
                <a:cubicBezTo>
                  <a:pt x="19373" y="9244"/>
                  <a:pt x="19397" y="9235"/>
                  <a:pt x="19422" y="9227"/>
                </a:cubicBezTo>
              </a:path>
              <a:path w="11708" h="1886">
                <a:moveTo>
                  <a:pt x="19794" y="8905"/>
                </a:moveTo>
                <a:cubicBezTo>
                  <a:pt x="19774" y="9093"/>
                  <a:pt x="19771" y="9161"/>
                  <a:pt x="19794" y="9327"/>
                </a:cubicBezTo>
                <a:cubicBezTo>
                  <a:pt x="19806" y="9411"/>
                  <a:pt x="19783" y="9457"/>
                  <a:pt x="19844" y="9525"/>
                </a:cubicBezTo>
                <a:cubicBezTo>
                  <a:pt x="19875" y="9560"/>
                  <a:pt x="19899" y="9550"/>
                  <a:pt x="19943" y="9550"/>
                </a:cubicBezTo>
              </a:path>
              <a:path w="11708" h="1886">
                <a:moveTo>
                  <a:pt x="20762" y="7913"/>
                </a:moveTo>
                <a:cubicBezTo>
                  <a:pt x="20961" y="8121"/>
                  <a:pt x="21047" y="8289"/>
                  <a:pt x="21109" y="8582"/>
                </a:cubicBezTo>
                <a:cubicBezTo>
                  <a:pt x="21154" y="8791"/>
                  <a:pt x="21170" y="8993"/>
                  <a:pt x="21134" y="9203"/>
                </a:cubicBezTo>
                <a:cubicBezTo>
                  <a:pt x="21098" y="9414"/>
                  <a:pt x="21025" y="9538"/>
                  <a:pt x="20910" y="9723"/>
                </a:cubicBezTo>
                <a:cubicBezTo>
                  <a:pt x="20894" y="9748"/>
                  <a:pt x="20877" y="9773"/>
                  <a:pt x="20861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7"/>
          <p:cNvSpPr/>
          <p:nvPr/>
        </p:nvSpPr>
        <p:spPr>
          <a:xfrm>
            <a:off x="3197160" y="4276800"/>
            <a:ext cx="1598760" cy="492120"/>
          </a:xfrm>
          <a:custGeom>
            <a:avLst/>
            <a:gdLst/>
            <a:ahLst/>
            <a:rect l="l" t="t" r="r" b="b"/>
            <a:pathLst>
              <a:path w="4441" h="1366">
                <a:moveTo>
                  <a:pt x="9004" y="12204"/>
                </a:moveTo>
                <a:cubicBezTo>
                  <a:pt x="8959" y="12293"/>
                  <a:pt x="8948" y="12356"/>
                  <a:pt x="8930" y="12452"/>
                </a:cubicBezTo>
                <a:cubicBezTo>
                  <a:pt x="8910" y="12565"/>
                  <a:pt x="8908" y="12647"/>
                  <a:pt x="8954" y="12750"/>
                </a:cubicBezTo>
                <a:cubicBezTo>
                  <a:pt x="8984" y="12818"/>
                  <a:pt x="9041" y="12887"/>
                  <a:pt x="9103" y="12923"/>
                </a:cubicBezTo>
                <a:cubicBezTo>
                  <a:pt x="9148" y="12949"/>
                  <a:pt x="9252" y="13002"/>
                  <a:pt x="9302" y="12998"/>
                </a:cubicBezTo>
                <a:cubicBezTo>
                  <a:pt x="9374" y="12992"/>
                  <a:pt x="9487" y="12943"/>
                  <a:pt x="9525" y="12874"/>
                </a:cubicBezTo>
                <a:cubicBezTo>
                  <a:pt x="9581" y="12772"/>
                  <a:pt x="9599" y="12665"/>
                  <a:pt x="9599" y="12551"/>
                </a:cubicBezTo>
                <a:cubicBezTo>
                  <a:pt x="9599" y="12479"/>
                  <a:pt x="9608" y="12341"/>
                  <a:pt x="9575" y="12278"/>
                </a:cubicBezTo>
                <a:cubicBezTo>
                  <a:pt x="9537" y="12207"/>
                  <a:pt x="9469" y="12124"/>
                  <a:pt x="9426" y="12055"/>
                </a:cubicBezTo>
                <a:cubicBezTo>
                  <a:pt x="9396" y="12006"/>
                  <a:pt x="9349" y="11959"/>
                  <a:pt x="9302" y="11931"/>
                </a:cubicBezTo>
                <a:cubicBezTo>
                  <a:pt x="9242" y="11896"/>
                  <a:pt x="9178" y="11854"/>
                  <a:pt x="9103" y="11881"/>
                </a:cubicBezTo>
                <a:cubicBezTo>
                  <a:pt x="9074" y="11892"/>
                  <a:pt x="8993" y="11987"/>
                  <a:pt x="8979" y="12005"/>
                </a:cubicBezTo>
                <a:cubicBezTo>
                  <a:pt x="8932" y="12063"/>
                  <a:pt x="8890" y="12157"/>
                  <a:pt x="8880" y="12229"/>
                </a:cubicBezTo>
                <a:cubicBezTo>
                  <a:pt x="8867" y="12327"/>
                  <a:pt x="8887" y="12392"/>
                  <a:pt x="8930" y="12477"/>
                </a:cubicBezTo>
              </a:path>
              <a:path w="4441" h="1366">
                <a:moveTo>
                  <a:pt x="9872" y="12303"/>
                </a:moveTo>
                <a:cubicBezTo>
                  <a:pt x="9981" y="12332"/>
                  <a:pt x="10082" y="12353"/>
                  <a:pt x="10195" y="12353"/>
                </a:cubicBezTo>
                <a:cubicBezTo>
                  <a:pt x="10203" y="12353"/>
                  <a:pt x="10212" y="12353"/>
                  <a:pt x="10220" y="12353"/>
                </a:cubicBezTo>
              </a:path>
              <a:path w="4441" h="1366">
                <a:moveTo>
                  <a:pt x="9971" y="12576"/>
                </a:moveTo>
                <a:cubicBezTo>
                  <a:pt x="10044" y="12600"/>
                  <a:pt x="10166" y="12656"/>
                  <a:pt x="10244" y="12650"/>
                </a:cubicBezTo>
                <a:cubicBezTo>
                  <a:pt x="10310" y="12629"/>
                  <a:pt x="10325" y="12621"/>
                  <a:pt x="10368" y="12626"/>
                </a:cubicBezTo>
              </a:path>
              <a:path w="4441" h="1366">
                <a:moveTo>
                  <a:pt x="10964" y="11956"/>
                </a:moveTo>
                <a:cubicBezTo>
                  <a:pt x="10964" y="12014"/>
                  <a:pt x="10923" y="12097"/>
                  <a:pt x="10964" y="12055"/>
                </a:cubicBezTo>
                <a:cubicBezTo>
                  <a:pt x="11015" y="12003"/>
                  <a:pt x="11073" y="11984"/>
                  <a:pt x="11137" y="12030"/>
                </a:cubicBezTo>
                <a:cubicBezTo>
                  <a:pt x="11209" y="12082"/>
                  <a:pt x="11272" y="12164"/>
                  <a:pt x="11286" y="12254"/>
                </a:cubicBezTo>
                <a:cubicBezTo>
                  <a:pt x="11308" y="12399"/>
                  <a:pt x="11242" y="12507"/>
                  <a:pt x="11187" y="12626"/>
                </a:cubicBezTo>
                <a:cubicBezTo>
                  <a:pt x="11151" y="12702"/>
                  <a:pt x="11111" y="12772"/>
                  <a:pt x="11038" y="12824"/>
                </a:cubicBezTo>
                <a:cubicBezTo>
                  <a:pt x="10988" y="12860"/>
                  <a:pt x="10902" y="12914"/>
                  <a:pt x="10840" y="12898"/>
                </a:cubicBezTo>
                <a:cubicBezTo>
                  <a:pt x="10782" y="12883"/>
                  <a:pt x="10758" y="12795"/>
                  <a:pt x="10765" y="12750"/>
                </a:cubicBezTo>
                <a:cubicBezTo>
                  <a:pt x="10775" y="12685"/>
                  <a:pt x="10835" y="12582"/>
                  <a:pt x="10914" y="12601"/>
                </a:cubicBezTo>
                <a:cubicBezTo>
                  <a:pt x="10991" y="12619"/>
                  <a:pt x="11019" y="12698"/>
                  <a:pt x="11063" y="12750"/>
                </a:cubicBezTo>
                <a:cubicBezTo>
                  <a:pt x="11117" y="12814"/>
                  <a:pt x="11147" y="12877"/>
                  <a:pt x="11187" y="12948"/>
                </a:cubicBezTo>
                <a:cubicBezTo>
                  <a:pt x="11223" y="13012"/>
                  <a:pt x="11251" y="13077"/>
                  <a:pt x="11311" y="13047"/>
                </a:cubicBezTo>
              </a:path>
              <a:path w="4441" h="1366">
                <a:moveTo>
                  <a:pt x="11584" y="12353"/>
                </a:moveTo>
                <a:cubicBezTo>
                  <a:pt x="11604" y="12454"/>
                  <a:pt x="11602" y="12555"/>
                  <a:pt x="11633" y="12650"/>
                </a:cubicBezTo>
                <a:cubicBezTo>
                  <a:pt x="11661" y="12736"/>
                  <a:pt x="11658" y="12808"/>
                  <a:pt x="11658" y="12898"/>
                </a:cubicBezTo>
                <a:cubicBezTo>
                  <a:pt x="11658" y="12943"/>
                  <a:pt x="11661" y="12956"/>
                  <a:pt x="11633" y="12973"/>
                </a:cubicBezTo>
                <a:cubicBezTo>
                  <a:pt x="11605" y="12880"/>
                  <a:pt x="11584" y="12803"/>
                  <a:pt x="11584" y="12700"/>
                </a:cubicBezTo>
                <a:cubicBezTo>
                  <a:pt x="11584" y="12594"/>
                  <a:pt x="11593" y="12501"/>
                  <a:pt x="11609" y="12402"/>
                </a:cubicBezTo>
                <a:cubicBezTo>
                  <a:pt x="11625" y="12302"/>
                  <a:pt x="11666" y="12217"/>
                  <a:pt x="11708" y="12129"/>
                </a:cubicBezTo>
                <a:cubicBezTo>
                  <a:pt x="11741" y="12061"/>
                  <a:pt x="11810" y="12042"/>
                  <a:pt x="11881" y="12030"/>
                </a:cubicBezTo>
                <a:cubicBezTo>
                  <a:pt x="12020" y="12007"/>
                  <a:pt x="12169" y="12043"/>
                  <a:pt x="12303" y="12055"/>
                </a:cubicBezTo>
                <a:cubicBezTo>
                  <a:pt x="12434" y="12067"/>
                  <a:pt x="12570" y="12069"/>
                  <a:pt x="12700" y="12080"/>
                </a:cubicBezTo>
                <a:cubicBezTo>
                  <a:pt x="12841" y="12092"/>
                  <a:pt x="12978" y="12124"/>
                  <a:pt x="13122" y="12129"/>
                </a:cubicBezTo>
                <a:cubicBezTo>
                  <a:pt x="13239" y="12133"/>
                  <a:pt x="13269" y="12106"/>
                  <a:pt x="13295" y="12080"/>
                </a:cubicBezTo>
              </a:path>
              <a:path w="4441" h="1366">
                <a:moveTo>
                  <a:pt x="11956" y="12254"/>
                </a:moveTo>
                <a:cubicBezTo>
                  <a:pt x="11994" y="12338"/>
                  <a:pt x="12036" y="12419"/>
                  <a:pt x="12080" y="12502"/>
                </a:cubicBezTo>
                <a:cubicBezTo>
                  <a:pt x="12144" y="12623"/>
                  <a:pt x="12223" y="12788"/>
                  <a:pt x="12303" y="12898"/>
                </a:cubicBezTo>
                <a:cubicBezTo>
                  <a:pt x="12364" y="12981"/>
                  <a:pt x="12428" y="13126"/>
                  <a:pt x="12502" y="13196"/>
                </a:cubicBezTo>
                <a:cubicBezTo>
                  <a:pt x="12545" y="13218"/>
                  <a:pt x="12557" y="13222"/>
                  <a:pt x="12576" y="13246"/>
                </a:cubicBezTo>
              </a:path>
              <a:path w="4441" h="1366">
                <a:moveTo>
                  <a:pt x="12378" y="12278"/>
                </a:moveTo>
                <a:cubicBezTo>
                  <a:pt x="12301" y="12396"/>
                  <a:pt x="12256" y="12475"/>
                  <a:pt x="12204" y="12601"/>
                </a:cubicBezTo>
                <a:cubicBezTo>
                  <a:pt x="12159" y="12709"/>
                  <a:pt x="12120" y="12790"/>
                  <a:pt x="12080" y="12898"/>
                </a:cubicBezTo>
                <a:cubicBezTo>
                  <a:pt x="12056" y="12962"/>
                  <a:pt x="12040" y="12956"/>
                  <a:pt x="12030" y="13022"/>
                </a:cubicBezTo>
              </a:path>
              <a:path w="4441" h="1366">
                <a:moveTo>
                  <a:pt x="12452" y="12601"/>
                </a:moveTo>
                <a:cubicBezTo>
                  <a:pt x="12617" y="12601"/>
                  <a:pt x="12768" y="12619"/>
                  <a:pt x="12923" y="12576"/>
                </a:cubicBezTo>
              </a:path>
              <a:path w="4441" h="1366">
                <a:moveTo>
                  <a:pt x="13122" y="12353"/>
                </a:moveTo>
                <a:cubicBezTo>
                  <a:pt x="13102" y="12589"/>
                  <a:pt x="13087" y="12767"/>
                  <a:pt x="13146" y="12998"/>
                </a:cubicBezTo>
                <a:cubicBezTo>
                  <a:pt x="13166" y="13077"/>
                  <a:pt x="13171" y="13139"/>
                  <a:pt x="13171" y="132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8"/>
          <p:cNvSpPr/>
          <p:nvPr/>
        </p:nvSpPr>
        <p:spPr>
          <a:xfrm>
            <a:off x="3125880" y="4653000"/>
            <a:ext cx="1625400" cy="2054160"/>
          </a:xfrm>
          <a:custGeom>
            <a:avLst/>
            <a:gdLst/>
            <a:ahLst/>
            <a:rect l="l" t="t" r="r" b="b"/>
            <a:pathLst>
              <a:path w="4515" h="5706">
                <a:moveTo>
                  <a:pt x="10939" y="13146"/>
                </a:moveTo>
                <a:cubicBezTo>
                  <a:pt x="11055" y="13146"/>
                  <a:pt x="11148" y="13167"/>
                  <a:pt x="11261" y="13171"/>
                </a:cubicBezTo>
                <a:cubicBezTo>
                  <a:pt x="11400" y="13176"/>
                  <a:pt x="11573" y="13218"/>
                  <a:pt x="11708" y="13246"/>
                </a:cubicBezTo>
                <a:cubicBezTo>
                  <a:pt x="11840" y="13274"/>
                  <a:pt x="11968" y="13292"/>
                  <a:pt x="12105" y="13295"/>
                </a:cubicBezTo>
                <a:cubicBezTo>
                  <a:pt x="12234" y="13298"/>
                  <a:pt x="12373" y="13303"/>
                  <a:pt x="12502" y="13320"/>
                </a:cubicBezTo>
                <a:cubicBezTo>
                  <a:pt x="12622" y="13335"/>
                  <a:pt x="12757" y="13345"/>
                  <a:pt x="12874" y="13370"/>
                </a:cubicBezTo>
                <a:cubicBezTo>
                  <a:pt x="12964" y="13389"/>
                  <a:pt x="13029" y="13395"/>
                  <a:pt x="13122" y="13395"/>
                </a:cubicBezTo>
                <a:cubicBezTo>
                  <a:pt x="13163" y="13395"/>
                  <a:pt x="13171" y="13395"/>
                  <a:pt x="13196" y="13395"/>
                </a:cubicBezTo>
              </a:path>
              <a:path w="4515" h="5706">
                <a:moveTo>
                  <a:pt x="11956" y="13568"/>
                </a:moveTo>
                <a:cubicBezTo>
                  <a:pt x="11948" y="13585"/>
                  <a:pt x="11939" y="13601"/>
                  <a:pt x="11931" y="13618"/>
                </a:cubicBezTo>
                <a:cubicBezTo>
                  <a:pt x="11983" y="13587"/>
                  <a:pt x="12024" y="13588"/>
                  <a:pt x="12080" y="13568"/>
                </a:cubicBezTo>
                <a:cubicBezTo>
                  <a:pt x="12142" y="13546"/>
                  <a:pt x="12198" y="13519"/>
                  <a:pt x="12254" y="13568"/>
                </a:cubicBezTo>
                <a:cubicBezTo>
                  <a:pt x="12276" y="13587"/>
                  <a:pt x="12371" y="13685"/>
                  <a:pt x="12378" y="13717"/>
                </a:cubicBezTo>
                <a:cubicBezTo>
                  <a:pt x="12397" y="13805"/>
                  <a:pt x="12355" y="13949"/>
                  <a:pt x="12303" y="14015"/>
                </a:cubicBezTo>
                <a:cubicBezTo>
                  <a:pt x="12265" y="14063"/>
                  <a:pt x="12135" y="14092"/>
                  <a:pt x="12080" y="14114"/>
                </a:cubicBezTo>
                <a:cubicBezTo>
                  <a:pt x="12035" y="14132"/>
                  <a:pt x="11868" y="14207"/>
                  <a:pt x="11807" y="14188"/>
                </a:cubicBezTo>
                <a:cubicBezTo>
                  <a:pt x="11782" y="14163"/>
                  <a:pt x="11774" y="14155"/>
                  <a:pt x="11757" y="14139"/>
                </a:cubicBezTo>
                <a:cubicBezTo>
                  <a:pt x="11812" y="14062"/>
                  <a:pt x="11877" y="14038"/>
                  <a:pt x="11981" y="14064"/>
                </a:cubicBezTo>
                <a:cubicBezTo>
                  <a:pt x="12062" y="14084"/>
                  <a:pt x="12145" y="14168"/>
                  <a:pt x="12204" y="14213"/>
                </a:cubicBezTo>
                <a:cubicBezTo>
                  <a:pt x="12259" y="14255"/>
                  <a:pt x="12268" y="14309"/>
                  <a:pt x="12303" y="14362"/>
                </a:cubicBezTo>
              </a:path>
              <a:path w="4515" h="5706">
                <a:moveTo>
                  <a:pt x="8905" y="12973"/>
                </a:moveTo>
                <a:cubicBezTo>
                  <a:pt x="9066" y="12954"/>
                  <a:pt x="9214" y="12948"/>
                  <a:pt x="9376" y="12948"/>
                </a:cubicBezTo>
                <a:cubicBezTo>
                  <a:pt x="9480" y="12948"/>
                  <a:pt x="9574" y="12926"/>
                  <a:pt x="9674" y="12923"/>
                </a:cubicBezTo>
                <a:cubicBezTo>
                  <a:pt x="9707" y="12923"/>
                  <a:pt x="9740" y="12923"/>
                  <a:pt x="9773" y="12923"/>
                </a:cubicBezTo>
              </a:path>
              <a:path w="4515" h="5706">
                <a:moveTo>
                  <a:pt x="9277" y="13271"/>
                </a:moveTo>
                <a:cubicBezTo>
                  <a:pt x="9307" y="13229"/>
                  <a:pt x="9370" y="13157"/>
                  <a:pt x="9426" y="13146"/>
                </a:cubicBezTo>
                <a:cubicBezTo>
                  <a:pt x="9538" y="13123"/>
                  <a:pt x="9567" y="13144"/>
                  <a:pt x="9624" y="13221"/>
                </a:cubicBezTo>
                <a:cubicBezTo>
                  <a:pt x="9676" y="13290"/>
                  <a:pt x="9646" y="13388"/>
                  <a:pt x="9624" y="13469"/>
                </a:cubicBezTo>
                <a:cubicBezTo>
                  <a:pt x="9594" y="13579"/>
                  <a:pt x="9520" y="13639"/>
                  <a:pt x="9451" y="13717"/>
                </a:cubicBezTo>
                <a:cubicBezTo>
                  <a:pt x="9385" y="13791"/>
                  <a:pt x="9297" y="13834"/>
                  <a:pt x="9203" y="13791"/>
                </a:cubicBezTo>
                <a:cubicBezTo>
                  <a:pt x="9136" y="13760"/>
                  <a:pt x="9146" y="13695"/>
                  <a:pt x="9178" y="13643"/>
                </a:cubicBezTo>
                <a:cubicBezTo>
                  <a:pt x="9226" y="13566"/>
                  <a:pt x="9364" y="13633"/>
                  <a:pt x="9426" y="13643"/>
                </a:cubicBezTo>
                <a:cubicBezTo>
                  <a:pt x="9495" y="13654"/>
                  <a:pt x="9564" y="13676"/>
                  <a:pt x="9624" y="13692"/>
                </a:cubicBezTo>
                <a:cubicBezTo>
                  <a:pt x="9632" y="13692"/>
                  <a:pt x="9641" y="13692"/>
                  <a:pt x="9649" y="13692"/>
                </a:cubicBezTo>
              </a:path>
              <a:path w="4515" h="5706">
                <a:moveTo>
                  <a:pt x="9302" y="14337"/>
                </a:moveTo>
                <a:cubicBezTo>
                  <a:pt x="9237" y="14447"/>
                  <a:pt x="9144" y="14588"/>
                  <a:pt x="9103" y="14709"/>
                </a:cubicBezTo>
                <a:cubicBezTo>
                  <a:pt x="9078" y="14783"/>
                  <a:pt x="9065" y="14903"/>
                  <a:pt x="9079" y="14982"/>
                </a:cubicBezTo>
                <a:cubicBezTo>
                  <a:pt x="9096" y="15078"/>
                  <a:pt x="9181" y="15219"/>
                  <a:pt x="9252" y="15280"/>
                </a:cubicBezTo>
                <a:cubicBezTo>
                  <a:pt x="9321" y="15339"/>
                  <a:pt x="9399" y="15338"/>
                  <a:pt x="9475" y="15304"/>
                </a:cubicBezTo>
                <a:cubicBezTo>
                  <a:pt x="9613" y="15243"/>
                  <a:pt x="9629" y="15166"/>
                  <a:pt x="9674" y="15032"/>
                </a:cubicBezTo>
                <a:cubicBezTo>
                  <a:pt x="9706" y="14938"/>
                  <a:pt x="9732" y="14809"/>
                  <a:pt x="9723" y="14709"/>
                </a:cubicBezTo>
                <a:cubicBezTo>
                  <a:pt x="9712" y="14590"/>
                  <a:pt x="9675" y="14493"/>
                  <a:pt x="9624" y="14387"/>
                </a:cubicBezTo>
                <a:cubicBezTo>
                  <a:pt x="9593" y="14321"/>
                  <a:pt x="9479" y="14238"/>
                  <a:pt x="9401" y="14238"/>
                </a:cubicBezTo>
                <a:cubicBezTo>
                  <a:pt x="9291" y="14238"/>
                  <a:pt x="9284" y="14299"/>
                  <a:pt x="9252" y="14362"/>
                </a:cubicBezTo>
                <a:cubicBezTo>
                  <a:pt x="9212" y="14402"/>
                  <a:pt x="9204" y="14432"/>
                  <a:pt x="9227" y="14486"/>
                </a:cubicBezTo>
              </a:path>
              <a:path w="4515" h="5706">
                <a:moveTo>
                  <a:pt x="9947" y="14759"/>
                </a:moveTo>
                <a:cubicBezTo>
                  <a:pt x="10031" y="14759"/>
                  <a:pt x="10093" y="14752"/>
                  <a:pt x="10170" y="14734"/>
                </a:cubicBezTo>
                <a:cubicBezTo>
                  <a:pt x="10178" y="14734"/>
                  <a:pt x="10187" y="14734"/>
                  <a:pt x="10195" y="14734"/>
                </a:cubicBezTo>
              </a:path>
              <a:path w="4515" h="5706">
                <a:moveTo>
                  <a:pt x="9971" y="14932"/>
                </a:moveTo>
                <a:cubicBezTo>
                  <a:pt x="10091" y="14992"/>
                  <a:pt x="10090" y="15035"/>
                  <a:pt x="10195" y="14982"/>
                </a:cubicBezTo>
              </a:path>
              <a:path w="4515" h="5706">
                <a:moveTo>
                  <a:pt x="10567" y="14660"/>
                </a:moveTo>
                <a:cubicBezTo>
                  <a:pt x="10567" y="14770"/>
                  <a:pt x="10546" y="14873"/>
                  <a:pt x="10542" y="14982"/>
                </a:cubicBezTo>
                <a:cubicBezTo>
                  <a:pt x="10537" y="15138"/>
                  <a:pt x="10566" y="15307"/>
                  <a:pt x="10517" y="15453"/>
                </a:cubicBezTo>
                <a:cubicBezTo>
                  <a:pt x="10517" y="15333"/>
                  <a:pt x="10528" y="15218"/>
                  <a:pt x="10542" y="15106"/>
                </a:cubicBezTo>
                <a:cubicBezTo>
                  <a:pt x="10555" y="15000"/>
                  <a:pt x="10563" y="14890"/>
                  <a:pt x="10567" y="14784"/>
                </a:cubicBezTo>
                <a:cubicBezTo>
                  <a:pt x="10571" y="14686"/>
                  <a:pt x="10566" y="14580"/>
                  <a:pt x="10592" y="14486"/>
                </a:cubicBezTo>
                <a:cubicBezTo>
                  <a:pt x="10617" y="14395"/>
                  <a:pt x="10646" y="14387"/>
                  <a:pt x="10716" y="14362"/>
                </a:cubicBezTo>
                <a:cubicBezTo>
                  <a:pt x="10786" y="14337"/>
                  <a:pt x="10854" y="14337"/>
                  <a:pt x="10939" y="14337"/>
                </a:cubicBezTo>
                <a:cubicBezTo>
                  <a:pt x="11068" y="14337"/>
                  <a:pt x="11184" y="14358"/>
                  <a:pt x="11311" y="14362"/>
                </a:cubicBezTo>
                <a:cubicBezTo>
                  <a:pt x="11439" y="14366"/>
                  <a:pt x="11557" y="14382"/>
                  <a:pt x="11683" y="14387"/>
                </a:cubicBezTo>
                <a:cubicBezTo>
                  <a:pt x="11818" y="14392"/>
                  <a:pt x="11954" y="14370"/>
                  <a:pt x="12080" y="14412"/>
                </a:cubicBezTo>
              </a:path>
              <a:path w="4515" h="5706">
                <a:moveTo>
                  <a:pt x="11038" y="14660"/>
                </a:moveTo>
                <a:cubicBezTo>
                  <a:pt x="11112" y="14856"/>
                  <a:pt x="11187" y="15068"/>
                  <a:pt x="11286" y="15255"/>
                </a:cubicBezTo>
                <a:cubicBezTo>
                  <a:pt x="11337" y="15351"/>
                  <a:pt x="11365" y="15444"/>
                  <a:pt x="11435" y="15528"/>
                </a:cubicBezTo>
              </a:path>
              <a:path w="4515" h="5706">
                <a:moveTo>
                  <a:pt x="11435" y="14734"/>
                </a:moveTo>
                <a:cubicBezTo>
                  <a:pt x="11284" y="14877"/>
                  <a:pt x="11206" y="14966"/>
                  <a:pt x="11088" y="15131"/>
                </a:cubicBezTo>
                <a:cubicBezTo>
                  <a:pt x="11031" y="15211"/>
                  <a:pt x="11002" y="15272"/>
                  <a:pt x="10964" y="15354"/>
                </a:cubicBezTo>
                <a:cubicBezTo>
                  <a:pt x="10941" y="15377"/>
                  <a:pt x="10933" y="15381"/>
                  <a:pt x="10939" y="15404"/>
                </a:cubicBezTo>
              </a:path>
              <a:path w="4515" h="5706">
                <a:moveTo>
                  <a:pt x="11460" y="14957"/>
                </a:moveTo>
                <a:cubicBezTo>
                  <a:pt x="11613" y="15004"/>
                  <a:pt x="11666" y="15046"/>
                  <a:pt x="11807" y="15007"/>
                </a:cubicBezTo>
              </a:path>
              <a:path w="4515" h="5706">
                <a:moveTo>
                  <a:pt x="12055" y="14759"/>
                </a:moveTo>
                <a:cubicBezTo>
                  <a:pt x="12028" y="14922"/>
                  <a:pt x="11971" y="15090"/>
                  <a:pt x="11956" y="15255"/>
                </a:cubicBezTo>
                <a:cubicBezTo>
                  <a:pt x="11945" y="15379"/>
                  <a:pt x="11937" y="15502"/>
                  <a:pt x="11931" y="15627"/>
                </a:cubicBezTo>
              </a:path>
              <a:path w="4515" h="5706">
                <a:moveTo>
                  <a:pt x="9798" y="13841"/>
                </a:moveTo>
                <a:cubicBezTo>
                  <a:pt x="9888" y="13864"/>
                  <a:pt x="9951" y="13874"/>
                  <a:pt x="10021" y="13915"/>
                </a:cubicBezTo>
                <a:cubicBezTo>
                  <a:pt x="9958" y="13965"/>
                  <a:pt x="9885" y="13969"/>
                  <a:pt x="9823" y="14015"/>
                </a:cubicBezTo>
                <a:cubicBezTo>
                  <a:pt x="9793" y="14044"/>
                  <a:pt x="9778" y="14055"/>
                  <a:pt x="9748" y="14064"/>
                </a:cubicBezTo>
                <a:cubicBezTo>
                  <a:pt x="9791" y="14118"/>
                  <a:pt x="9821" y="14171"/>
                  <a:pt x="9897" y="14188"/>
                </a:cubicBezTo>
                <a:cubicBezTo>
                  <a:pt x="9934" y="14196"/>
                  <a:pt x="9983" y="14188"/>
                  <a:pt x="10021" y="14188"/>
                </a:cubicBezTo>
              </a:path>
              <a:path w="4515" h="5706">
                <a:moveTo>
                  <a:pt x="12502" y="14312"/>
                </a:moveTo>
                <a:cubicBezTo>
                  <a:pt x="12564" y="14320"/>
                  <a:pt x="12623" y="14352"/>
                  <a:pt x="12675" y="14362"/>
                </a:cubicBezTo>
                <a:cubicBezTo>
                  <a:pt x="12746" y="14376"/>
                  <a:pt x="12789" y="14390"/>
                  <a:pt x="12849" y="14436"/>
                </a:cubicBezTo>
                <a:cubicBezTo>
                  <a:pt x="12796" y="14478"/>
                  <a:pt x="12736" y="14506"/>
                  <a:pt x="12675" y="14536"/>
                </a:cubicBezTo>
                <a:cubicBezTo>
                  <a:pt x="12659" y="14544"/>
                  <a:pt x="12642" y="14552"/>
                  <a:pt x="12626" y="14560"/>
                </a:cubicBezTo>
                <a:cubicBezTo>
                  <a:pt x="12674" y="14647"/>
                  <a:pt x="12684" y="14618"/>
                  <a:pt x="12750" y="14660"/>
                </a:cubicBezTo>
                <a:cubicBezTo>
                  <a:pt x="12826" y="14709"/>
                  <a:pt x="12897" y="14724"/>
                  <a:pt x="12973" y="14759"/>
                </a:cubicBezTo>
                <a:cubicBezTo>
                  <a:pt x="12981" y="14767"/>
                  <a:pt x="12990" y="14776"/>
                  <a:pt x="12998" y="14784"/>
                </a:cubicBezTo>
              </a:path>
              <a:path w="4515" h="5706">
                <a:moveTo>
                  <a:pt x="9525" y="15627"/>
                </a:moveTo>
                <a:cubicBezTo>
                  <a:pt x="9485" y="15667"/>
                  <a:pt x="9461" y="15709"/>
                  <a:pt x="9426" y="15751"/>
                </a:cubicBezTo>
                <a:cubicBezTo>
                  <a:pt x="9364" y="15826"/>
                  <a:pt x="9320" y="15859"/>
                  <a:pt x="9277" y="15949"/>
                </a:cubicBezTo>
                <a:cubicBezTo>
                  <a:pt x="9236" y="16035"/>
                  <a:pt x="9213" y="16098"/>
                  <a:pt x="9203" y="16197"/>
                </a:cubicBezTo>
                <a:cubicBezTo>
                  <a:pt x="9193" y="16304"/>
                  <a:pt x="9212" y="16396"/>
                  <a:pt x="9252" y="16495"/>
                </a:cubicBezTo>
                <a:cubicBezTo>
                  <a:pt x="9282" y="16568"/>
                  <a:pt x="9297" y="16614"/>
                  <a:pt x="9376" y="16619"/>
                </a:cubicBezTo>
                <a:cubicBezTo>
                  <a:pt x="9514" y="16627"/>
                  <a:pt x="9593" y="16561"/>
                  <a:pt x="9674" y="16470"/>
                </a:cubicBezTo>
                <a:cubicBezTo>
                  <a:pt x="9753" y="16380"/>
                  <a:pt x="9778" y="16334"/>
                  <a:pt x="9823" y="16222"/>
                </a:cubicBezTo>
                <a:cubicBezTo>
                  <a:pt x="9853" y="16148"/>
                  <a:pt x="9892" y="16111"/>
                  <a:pt x="9897" y="16024"/>
                </a:cubicBezTo>
                <a:cubicBezTo>
                  <a:pt x="9901" y="15948"/>
                  <a:pt x="9891" y="15889"/>
                  <a:pt x="9847" y="15825"/>
                </a:cubicBezTo>
                <a:cubicBezTo>
                  <a:pt x="9789" y="15741"/>
                  <a:pt x="9696" y="15706"/>
                  <a:pt x="9599" y="15726"/>
                </a:cubicBezTo>
                <a:cubicBezTo>
                  <a:pt x="9514" y="15744"/>
                  <a:pt x="9427" y="15786"/>
                  <a:pt x="9376" y="15850"/>
                </a:cubicBezTo>
                <a:cubicBezTo>
                  <a:pt x="9351" y="15900"/>
                  <a:pt x="9343" y="15916"/>
                  <a:pt x="9327" y="15949"/>
                </a:cubicBezTo>
              </a:path>
              <a:path w="4515" h="5706">
                <a:moveTo>
                  <a:pt x="10244" y="16073"/>
                </a:moveTo>
                <a:cubicBezTo>
                  <a:pt x="10374" y="16096"/>
                  <a:pt x="10402" y="16082"/>
                  <a:pt x="10517" y="16073"/>
                </a:cubicBezTo>
                <a:cubicBezTo>
                  <a:pt x="10525" y="16073"/>
                  <a:pt x="10534" y="16073"/>
                  <a:pt x="10542" y="16073"/>
                </a:cubicBezTo>
              </a:path>
              <a:path w="4515" h="5706">
                <a:moveTo>
                  <a:pt x="10195" y="16222"/>
                </a:moveTo>
                <a:cubicBezTo>
                  <a:pt x="10300" y="16319"/>
                  <a:pt x="10314" y="16370"/>
                  <a:pt x="10443" y="16321"/>
                </a:cubicBezTo>
              </a:path>
              <a:path w="4515" h="5706">
                <a:moveTo>
                  <a:pt x="10790" y="15949"/>
                </a:moveTo>
                <a:cubicBezTo>
                  <a:pt x="10877" y="16025"/>
                  <a:pt x="10915" y="16065"/>
                  <a:pt x="10964" y="16173"/>
                </a:cubicBezTo>
                <a:cubicBezTo>
                  <a:pt x="11047" y="16358"/>
                  <a:pt x="11087" y="16585"/>
                  <a:pt x="11212" y="16743"/>
                </a:cubicBezTo>
              </a:path>
              <a:path w="4515" h="5706">
                <a:moveTo>
                  <a:pt x="11435" y="15999"/>
                </a:moveTo>
                <a:cubicBezTo>
                  <a:pt x="11319" y="16073"/>
                  <a:pt x="11162" y="16131"/>
                  <a:pt x="11063" y="16222"/>
                </a:cubicBezTo>
                <a:cubicBezTo>
                  <a:pt x="10981" y="16297"/>
                  <a:pt x="10920" y="16375"/>
                  <a:pt x="10840" y="16446"/>
                </a:cubicBezTo>
                <a:cubicBezTo>
                  <a:pt x="10791" y="16490"/>
                  <a:pt x="10777" y="16554"/>
                  <a:pt x="10716" y="16570"/>
                </a:cubicBezTo>
              </a:path>
              <a:path w="4515" h="5706">
                <a:moveTo>
                  <a:pt x="11311" y="16272"/>
                </a:moveTo>
                <a:cubicBezTo>
                  <a:pt x="11475" y="16336"/>
                  <a:pt x="11502" y="16346"/>
                  <a:pt x="11658" y="16346"/>
                </a:cubicBezTo>
              </a:path>
              <a:path w="4515" h="5706">
                <a:moveTo>
                  <a:pt x="12105" y="15974"/>
                </a:moveTo>
                <a:cubicBezTo>
                  <a:pt x="12117" y="16200"/>
                  <a:pt x="12132" y="16442"/>
                  <a:pt x="12105" y="16669"/>
                </a:cubicBezTo>
                <a:cubicBezTo>
                  <a:pt x="12078" y="16776"/>
                  <a:pt x="12068" y="16817"/>
                  <a:pt x="12055" y="16892"/>
                </a:cubicBezTo>
              </a:path>
              <a:path w="4515" h="5706">
                <a:moveTo>
                  <a:pt x="11509" y="16892"/>
                </a:moveTo>
                <a:cubicBezTo>
                  <a:pt x="11509" y="17030"/>
                  <a:pt x="11506" y="17159"/>
                  <a:pt x="11485" y="17289"/>
                </a:cubicBezTo>
                <a:cubicBezTo>
                  <a:pt x="11485" y="17305"/>
                  <a:pt x="11485" y="17322"/>
                  <a:pt x="11485" y="17338"/>
                </a:cubicBezTo>
              </a:path>
              <a:path w="4515" h="5706">
                <a:moveTo>
                  <a:pt x="11286" y="17090"/>
                </a:moveTo>
                <a:cubicBezTo>
                  <a:pt x="11357" y="17161"/>
                  <a:pt x="11436" y="17221"/>
                  <a:pt x="11509" y="17289"/>
                </a:cubicBezTo>
              </a:path>
              <a:path w="4515" h="5706">
                <a:moveTo>
                  <a:pt x="11956" y="17190"/>
                </a:moveTo>
                <a:cubicBezTo>
                  <a:pt x="11929" y="17375"/>
                  <a:pt x="11901" y="17556"/>
                  <a:pt x="11857" y="17735"/>
                </a:cubicBezTo>
              </a:path>
              <a:path w="4515" h="5706">
                <a:moveTo>
                  <a:pt x="8930" y="16619"/>
                </a:moveTo>
                <a:cubicBezTo>
                  <a:pt x="8961" y="16738"/>
                  <a:pt x="8938" y="16798"/>
                  <a:pt x="8905" y="16917"/>
                </a:cubicBezTo>
                <a:cubicBezTo>
                  <a:pt x="8883" y="16997"/>
                  <a:pt x="8863" y="17065"/>
                  <a:pt x="8830" y="17140"/>
                </a:cubicBezTo>
              </a:path>
              <a:path w="4515" h="5706">
                <a:moveTo>
                  <a:pt x="8706" y="16694"/>
                </a:moveTo>
                <a:cubicBezTo>
                  <a:pt x="8783" y="16760"/>
                  <a:pt x="8857" y="16806"/>
                  <a:pt x="8954" y="16842"/>
                </a:cubicBezTo>
                <a:cubicBezTo>
                  <a:pt x="9052" y="16875"/>
                  <a:pt x="9100" y="16887"/>
                  <a:pt x="9178" y="16892"/>
                </a:cubicBezTo>
              </a:path>
              <a:path w="4515" h="5706">
                <a:moveTo>
                  <a:pt x="9525" y="16743"/>
                </a:moveTo>
                <a:cubicBezTo>
                  <a:pt x="9474" y="16927"/>
                  <a:pt x="9434" y="17077"/>
                  <a:pt x="9426" y="17264"/>
                </a:cubicBezTo>
                <a:cubicBezTo>
                  <a:pt x="9426" y="17314"/>
                  <a:pt x="9426" y="17330"/>
                  <a:pt x="9426" y="17363"/>
                </a:cubicBezTo>
              </a:path>
              <a:path w="4515" h="5706">
                <a:moveTo>
                  <a:pt x="9227" y="17859"/>
                </a:moveTo>
                <a:cubicBezTo>
                  <a:pt x="9182" y="18040"/>
                  <a:pt x="9145" y="18226"/>
                  <a:pt x="9103" y="18405"/>
                </a:cubicBezTo>
                <a:cubicBezTo>
                  <a:pt x="9085" y="18484"/>
                  <a:pt x="9079" y="18522"/>
                  <a:pt x="9079" y="18604"/>
                </a:cubicBezTo>
              </a:path>
              <a:path w="4515" h="5706">
                <a:moveTo>
                  <a:pt x="9996" y="17959"/>
                </a:moveTo>
                <a:cubicBezTo>
                  <a:pt x="9893" y="17984"/>
                  <a:pt x="9804" y="18004"/>
                  <a:pt x="9699" y="18008"/>
                </a:cubicBezTo>
                <a:cubicBezTo>
                  <a:pt x="9628" y="18011"/>
                  <a:pt x="9574" y="18033"/>
                  <a:pt x="9500" y="18033"/>
                </a:cubicBezTo>
              </a:path>
              <a:path w="4515" h="5706">
                <a:moveTo>
                  <a:pt x="10021" y="18132"/>
                </a:moveTo>
                <a:cubicBezTo>
                  <a:pt x="9938" y="18149"/>
                  <a:pt x="9841" y="18146"/>
                  <a:pt x="9773" y="18182"/>
                </a:cubicBezTo>
                <a:cubicBezTo>
                  <a:pt x="9716" y="18210"/>
                  <a:pt x="9693" y="18221"/>
                  <a:pt x="9649" y="18231"/>
                </a:cubicBezTo>
              </a:path>
              <a:path w="4515" h="5706">
                <a:moveTo>
                  <a:pt x="10244" y="17959"/>
                </a:moveTo>
                <a:cubicBezTo>
                  <a:pt x="10322" y="18120"/>
                  <a:pt x="10377" y="18233"/>
                  <a:pt x="10393" y="18405"/>
                </a:cubicBezTo>
                <a:cubicBezTo>
                  <a:pt x="10402" y="18499"/>
                  <a:pt x="10405" y="18543"/>
                  <a:pt x="10443" y="18628"/>
                </a:cubicBezTo>
              </a:path>
              <a:path w="4515" h="5706">
                <a:moveTo>
                  <a:pt x="10716" y="17884"/>
                </a:moveTo>
                <a:cubicBezTo>
                  <a:pt x="10617" y="17946"/>
                  <a:pt x="10516" y="17989"/>
                  <a:pt x="10418" y="18033"/>
                </a:cubicBezTo>
                <a:cubicBezTo>
                  <a:pt x="10282" y="18095"/>
                  <a:pt x="10163" y="18136"/>
                  <a:pt x="10021" y="18182"/>
                </a:cubicBezTo>
                <a:cubicBezTo>
                  <a:pt x="9953" y="18204"/>
                  <a:pt x="9895" y="18224"/>
                  <a:pt x="9823" y="18231"/>
                </a:cubicBezTo>
              </a:path>
              <a:path w="4515" h="5706">
                <a:moveTo>
                  <a:pt x="10691" y="17661"/>
                </a:moveTo>
                <a:cubicBezTo>
                  <a:pt x="10652" y="17553"/>
                  <a:pt x="10611" y="17487"/>
                  <a:pt x="10517" y="17413"/>
                </a:cubicBezTo>
                <a:cubicBezTo>
                  <a:pt x="10389" y="17312"/>
                  <a:pt x="10271" y="17297"/>
                  <a:pt x="10120" y="17239"/>
                </a:cubicBezTo>
                <a:cubicBezTo>
                  <a:pt x="9996" y="17191"/>
                  <a:pt x="9903" y="17164"/>
                  <a:pt x="9773" y="17140"/>
                </a:cubicBezTo>
                <a:cubicBezTo>
                  <a:pt x="9640" y="17116"/>
                  <a:pt x="9556" y="17128"/>
                  <a:pt x="9426" y="17140"/>
                </a:cubicBezTo>
                <a:cubicBezTo>
                  <a:pt x="9276" y="17154"/>
                  <a:pt x="9150" y="17192"/>
                  <a:pt x="9004" y="17239"/>
                </a:cubicBezTo>
                <a:cubicBezTo>
                  <a:pt x="8896" y="17274"/>
                  <a:pt x="8874" y="17336"/>
                  <a:pt x="8806" y="17413"/>
                </a:cubicBezTo>
                <a:cubicBezTo>
                  <a:pt x="8734" y="17495"/>
                  <a:pt x="8733" y="17561"/>
                  <a:pt x="8706" y="17661"/>
                </a:cubicBezTo>
                <a:cubicBezTo>
                  <a:pt x="8683" y="17747"/>
                  <a:pt x="8669" y="17843"/>
                  <a:pt x="8682" y="17934"/>
                </a:cubicBezTo>
                <a:cubicBezTo>
                  <a:pt x="8697" y="18039"/>
                  <a:pt x="8734" y="18133"/>
                  <a:pt x="8781" y="18231"/>
                </a:cubicBezTo>
                <a:cubicBezTo>
                  <a:pt x="8840" y="18354"/>
                  <a:pt x="8927" y="18530"/>
                  <a:pt x="9054" y="18604"/>
                </a:cubicBezTo>
                <a:cubicBezTo>
                  <a:pt x="9133" y="18650"/>
                  <a:pt x="9264" y="18628"/>
                  <a:pt x="9351" y="18628"/>
                </a:cubicBezTo>
                <a:cubicBezTo>
                  <a:pt x="9551" y="18628"/>
                  <a:pt x="9750" y="18640"/>
                  <a:pt x="9947" y="18604"/>
                </a:cubicBezTo>
                <a:cubicBezTo>
                  <a:pt x="10193" y="18559"/>
                  <a:pt x="10387" y="18465"/>
                  <a:pt x="10616" y="18380"/>
                </a:cubicBezTo>
                <a:cubicBezTo>
                  <a:pt x="10732" y="18337"/>
                  <a:pt x="10772" y="18309"/>
                  <a:pt x="10864" y="18231"/>
                </a:cubicBezTo>
                <a:cubicBezTo>
                  <a:pt x="10922" y="18181"/>
                  <a:pt x="10954" y="18141"/>
                  <a:pt x="10964" y="18058"/>
                </a:cubicBezTo>
                <a:cubicBezTo>
                  <a:pt x="10989" y="17849"/>
                  <a:pt x="10929" y="17863"/>
                  <a:pt x="10840" y="17686"/>
                </a:cubicBezTo>
                <a:cubicBezTo>
                  <a:pt x="10760" y="17527"/>
                  <a:pt x="10654" y="17399"/>
                  <a:pt x="10542" y="17264"/>
                </a:cubicBezTo>
                <a:cubicBezTo>
                  <a:pt x="10509" y="17223"/>
                  <a:pt x="10476" y="17181"/>
                  <a:pt x="10443" y="171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9"/>
          <p:cNvSpPr/>
          <p:nvPr/>
        </p:nvSpPr>
        <p:spPr>
          <a:xfrm>
            <a:off x="4456080" y="2544840"/>
            <a:ext cx="2625840" cy="1857240"/>
          </a:xfrm>
          <a:custGeom>
            <a:avLst/>
            <a:gdLst/>
            <a:ahLst/>
            <a:rect l="l" t="t" r="r" b="b"/>
            <a:pathLst>
              <a:path w="7293" h="5161">
                <a:moveTo>
                  <a:pt x="13791" y="9351"/>
                </a:moveTo>
                <a:cubicBezTo>
                  <a:pt x="13838" y="9392"/>
                  <a:pt x="13888" y="9440"/>
                  <a:pt x="13940" y="9475"/>
                </a:cubicBezTo>
                <a:cubicBezTo>
                  <a:pt x="14005" y="9518"/>
                  <a:pt x="14072" y="9562"/>
                  <a:pt x="14139" y="9599"/>
                </a:cubicBezTo>
                <a:cubicBezTo>
                  <a:pt x="14246" y="9659"/>
                  <a:pt x="14370" y="9686"/>
                  <a:pt x="14486" y="9723"/>
                </a:cubicBezTo>
                <a:cubicBezTo>
                  <a:pt x="14606" y="9761"/>
                  <a:pt x="14733" y="9808"/>
                  <a:pt x="14858" y="9823"/>
                </a:cubicBezTo>
                <a:cubicBezTo>
                  <a:pt x="14991" y="9839"/>
                  <a:pt x="15121" y="9847"/>
                  <a:pt x="15255" y="9847"/>
                </a:cubicBezTo>
                <a:cubicBezTo>
                  <a:pt x="15391" y="9847"/>
                  <a:pt x="15520" y="9834"/>
                  <a:pt x="15652" y="9823"/>
                </a:cubicBezTo>
                <a:cubicBezTo>
                  <a:pt x="15829" y="9808"/>
                  <a:pt x="15983" y="9784"/>
                  <a:pt x="16148" y="9723"/>
                </a:cubicBezTo>
                <a:cubicBezTo>
                  <a:pt x="16204" y="9702"/>
                  <a:pt x="16248" y="9671"/>
                  <a:pt x="16297" y="9649"/>
                </a:cubicBezTo>
                <a:cubicBezTo>
                  <a:pt x="16360" y="9620"/>
                  <a:pt x="16366" y="9584"/>
                  <a:pt x="16396" y="9525"/>
                </a:cubicBezTo>
                <a:cubicBezTo>
                  <a:pt x="16332" y="9511"/>
                  <a:pt x="16275" y="9500"/>
                  <a:pt x="16197" y="9500"/>
                </a:cubicBezTo>
                <a:cubicBezTo>
                  <a:pt x="16119" y="9500"/>
                  <a:pt x="16070" y="9512"/>
                  <a:pt x="15999" y="9525"/>
                </a:cubicBezTo>
                <a:cubicBezTo>
                  <a:pt x="16082" y="9483"/>
                  <a:pt x="16158" y="9446"/>
                  <a:pt x="16222" y="9401"/>
                </a:cubicBezTo>
                <a:cubicBezTo>
                  <a:pt x="16267" y="9369"/>
                  <a:pt x="16364" y="9324"/>
                  <a:pt x="16421" y="9351"/>
                </a:cubicBezTo>
                <a:cubicBezTo>
                  <a:pt x="16457" y="9368"/>
                  <a:pt x="16553" y="9491"/>
                  <a:pt x="16594" y="9525"/>
                </a:cubicBezTo>
                <a:cubicBezTo>
                  <a:pt x="16663" y="9582"/>
                  <a:pt x="16722" y="9643"/>
                  <a:pt x="16793" y="9699"/>
                </a:cubicBezTo>
              </a:path>
              <a:path w="7293" h="5161">
                <a:moveTo>
                  <a:pt x="12477" y="10195"/>
                </a:moveTo>
                <a:cubicBezTo>
                  <a:pt x="12519" y="10153"/>
                  <a:pt x="12548" y="10124"/>
                  <a:pt x="12601" y="10096"/>
                </a:cubicBezTo>
                <a:cubicBezTo>
                  <a:pt x="12701" y="10043"/>
                  <a:pt x="12738" y="10072"/>
                  <a:pt x="12799" y="10145"/>
                </a:cubicBezTo>
                <a:cubicBezTo>
                  <a:pt x="12860" y="10217"/>
                  <a:pt x="12849" y="10276"/>
                  <a:pt x="12849" y="10368"/>
                </a:cubicBezTo>
                <a:cubicBezTo>
                  <a:pt x="12849" y="10457"/>
                  <a:pt x="12845" y="10612"/>
                  <a:pt x="12799" y="10691"/>
                </a:cubicBezTo>
                <a:cubicBezTo>
                  <a:pt x="12743" y="10786"/>
                  <a:pt x="12639" y="10854"/>
                  <a:pt x="12551" y="10889"/>
                </a:cubicBezTo>
                <a:cubicBezTo>
                  <a:pt x="12473" y="10920"/>
                  <a:pt x="12461" y="10923"/>
                  <a:pt x="12402" y="10864"/>
                </a:cubicBezTo>
                <a:cubicBezTo>
                  <a:pt x="12374" y="10836"/>
                  <a:pt x="12364" y="10716"/>
                  <a:pt x="12427" y="10716"/>
                </a:cubicBezTo>
                <a:cubicBezTo>
                  <a:pt x="12574" y="10716"/>
                  <a:pt x="12586" y="10810"/>
                  <a:pt x="12675" y="10889"/>
                </a:cubicBezTo>
                <a:cubicBezTo>
                  <a:pt x="12703" y="10914"/>
                  <a:pt x="12797" y="11025"/>
                  <a:pt x="12824" y="11038"/>
                </a:cubicBezTo>
                <a:cubicBezTo>
                  <a:pt x="12876" y="11038"/>
                  <a:pt x="12894" y="11037"/>
                  <a:pt x="12923" y="11013"/>
                </a:cubicBezTo>
              </a:path>
              <a:path w="7293" h="5161">
                <a:moveTo>
                  <a:pt x="13196" y="10616"/>
                </a:moveTo>
                <a:cubicBezTo>
                  <a:pt x="13180" y="10795"/>
                  <a:pt x="13160" y="10932"/>
                  <a:pt x="13196" y="11088"/>
                </a:cubicBezTo>
                <a:cubicBezTo>
                  <a:pt x="13196" y="10867"/>
                  <a:pt x="13223" y="10661"/>
                  <a:pt x="13246" y="10443"/>
                </a:cubicBezTo>
                <a:cubicBezTo>
                  <a:pt x="13253" y="10381"/>
                  <a:pt x="13244" y="10299"/>
                  <a:pt x="13271" y="10244"/>
                </a:cubicBezTo>
                <a:cubicBezTo>
                  <a:pt x="13310" y="10166"/>
                  <a:pt x="13403" y="10166"/>
                  <a:pt x="13469" y="10145"/>
                </a:cubicBezTo>
                <a:cubicBezTo>
                  <a:pt x="13602" y="10103"/>
                  <a:pt x="13707" y="10135"/>
                  <a:pt x="13841" y="10145"/>
                </a:cubicBezTo>
                <a:cubicBezTo>
                  <a:pt x="14023" y="10158"/>
                  <a:pt x="14205" y="10185"/>
                  <a:pt x="14387" y="10195"/>
                </a:cubicBezTo>
                <a:cubicBezTo>
                  <a:pt x="14585" y="10206"/>
                  <a:pt x="14785" y="10216"/>
                  <a:pt x="14982" y="10220"/>
                </a:cubicBezTo>
                <a:cubicBezTo>
                  <a:pt x="15148" y="10224"/>
                  <a:pt x="15312" y="10241"/>
                  <a:pt x="15478" y="10244"/>
                </a:cubicBezTo>
                <a:cubicBezTo>
                  <a:pt x="15522" y="10245"/>
                  <a:pt x="15512" y="10237"/>
                  <a:pt x="15553" y="10220"/>
                </a:cubicBezTo>
              </a:path>
              <a:path w="7293" h="5161">
                <a:moveTo>
                  <a:pt x="13543" y="10368"/>
                </a:moveTo>
                <a:cubicBezTo>
                  <a:pt x="13635" y="10440"/>
                  <a:pt x="13693" y="10532"/>
                  <a:pt x="13742" y="10641"/>
                </a:cubicBezTo>
                <a:cubicBezTo>
                  <a:pt x="13795" y="10760"/>
                  <a:pt x="13839" y="10831"/>
                  <a:pt x="13915" y="10939"/>
                </a:cubicBezTo>
                <a:cubicBezTo>
                  <a:pt x="13973" y="11021"/>
                  <a:pt x="14042" y="11172"/>
                  <a:pt x="14139" y="11212"/>
                </a:cubicBezTo>
                <a:cubicBezTo>
                  <a:pt x="14155" y="11212"/>
                  <a:pt x="14172" y="11212"/>
                  <a:pt x="14188" y="11212"/>
                </a:cubicBezTo>
              </a:path>
              <a:path w="7293" h="5161">
                <a:moveTo>
                  <a:pt x="13990" y="10393"/>
                </a:moveTo>
                <a:cubicBezTo>
                  <a:pt x="13911" y="10472"/>
                  <a:pt x="13821" y="10604"/>
                  <a:pt x="13767" y="10716"/>
                </a:cubicBezTo>
                <a:cubicBezTo>
                  <a:pt x="13722" y="10809"/>
                  <a:pt x="13674" y="10880"/>
                  <a:pt x="13618" y="10964"/>
                </a:cubicBezTo>
                <a:cubicBezTo>
                  <a:pt x="13582" y="11018"/>
                  <a:pt x="13545" y="11080"/>
                  <a:pt x="13593" y="11112"/>
                </a:cubicBezTo>
              </a:path>
              <a:path w="7293" h="5161">
                <a:moveTo>
                  <a:pt x="14089" y="10716"/>
                </a:moveTo>
                <a:cubicBezTo>
                  <a:pt x="14205" y="10735"/>
                  <a:pt x="14320" y="10761"/>
                  <a:pt x="14436" y="10765"/>
                </a:cubicBezTo>
                <a:cubicBezTo>
                  <a:pt x="14511" y="10765"/>
                  <a:pt x="14535" y="10765"/>
                  <a:pt x="14585" y="10765"/>
                </a:cubicBezTo>
              </a:path>
              <a:path w="7293" h="5161">
                <a:moveTo>
                  <a:pt x="14932" y="10344"/>
                </a:moveTo>
                <a:cubicBezTo>
                  <a:pt x="14951" y="10480"/>
                  <a:pt x="14984" y="10651"/>
                  <a:pt x="14957" y="10790"/>
                </a:cubicBezTo>
                <a:cubicBezTo>
                  <a:pt x="14940" y="10879"/>
                  <a:pt x="14949" y="10950"/>
                  <a:pt x="14982" y="11038"/>
                </a:cubicBezTo>
              </a:path>
              <a:path w="7293" h="5161">
                <a:moveTo>
                  <a:pt x="13990" y="8235"/>
                </a:moveTo>
                <a:cubicBezTo>
                  <a:pt x="14016" y="8185"/>
                  <a:pt x="14034" y="8142"/>
                  <a:pt x="14064" y="8086"/>
                </a:cubicBezTo>
                <a:cubicBezTo>
                  <a:pt x="14095" y="8028"/>
                  <a:pt x="14143" y="7938"/>
                  <a:pt x="14188" y="7888"/>
                </a:cubicBezTo>
                <a:cubicBezTo>
                  <a:pt x="14279" y="7789"/>
                  <a:pt x="14371" y="7738"/>
                  <a:pt x="14486" y="7665"/>
                </a:cubicBezTo>
                <a:cubicBezTo>
                  <a:pt x="14590" y="7599"/>
                  <a:pt x="14689" y="7512"/>
                  <a:pt x="14808" y="7466"/>
                </a:cubicBezTo>
                <a:cubicBezTo>
                  <a:pt x="15038" y="7377"/>
                  <a:pt x="15270" y="7297"/>
                  <a:pt x="15503" y="7218"/>
                </a:cubicBezTo>
                <a:cubicBezTo>
                  <a:pt x="15688" y="7156"/>
                  <a:pt x="15860" y="7142"/>
                  <a:pt x="16049" y="7119"/>
                </a:cubicBezTo>
                <a:cubicBezTo>
                  <a:pt x="16455" y="7070"/>
                  <a:pt x="16835" y="7070"/>
                  <a:pt x="17239" y="7094"/>
                </a:cubicBezTo>
                <a:cubicBezTo>
                  <a:pt x="17453" y="7107"/>
                  <a:pt x="17653" y="7123"/>
                  <a:pt x="17859" y="7193"/>
                </a:cubicBezTo>
                <a:cubicBezTo>
                  <a:pt x="18031" y="7252"/>
                  <a:pt x="18228" y="7322"/>
                  <a:pt x="18380" y="7417"/>
                </a:cubicBezTo>
                <a:cubicBezTo>
                  <a:pt x="18550" y="7523"/>
                  <a:pt x="18734" y="7593"/>
                  <a:pt x="18901" y="7714"/>
                </a:cubicBezTo>
                <a:cubicBezTo>
                  <a:pt x="18993" y="7781"/>
                  <a:pt x="19119" y="7883"/>
                  <a:pt x="19199" y="7962"/>
                </a:cubicBezTo>
                <a:cubicBezTo>
                  <a:pt x="19256" y="8018"/>
                  <a:pt x="19282" y="8066"/>
                  <a:pt x="19348" y="8111"/>
                </a:cubicBezTo>
                <a:cubicBezTo>
                  <a:pt x="19412" y="8154"/>
                  <a:pt x="19420" y="8110"/>
                  <a:pt x="19422" y="8111"/>
                </a:cubicBezTo>
              </a:path>
              <a:path w="7293" h="5161">
                <a:moveTo>
                  <a:pt x="19422" y="7764"/>
                </a:moveTo>
                <a:cubicBezTo>
                  <a:pt x="19472" y="7851"/>
                  <a:pt x="19526" y="7923"/>
                  <a:pt x="19571" y="8012"/>
                </a:cubicBezTo>
                <a:cubicBezTo>
                  <a:pt x="19602" y="8074"/>
                  <a:pt x="19619" y="8143"/>
                  <a:pt x="19645" y="8210"/>
                </a:cubicBezTo>
                <a:cubicBezTo>
                  <a:pt x="19653" y="8235"/>
                  <a:pt x="19662" y="8260"/>
                  <a:pt x="19670" y="8285"/>
                </a:cubicBezTo>
                <a:cubicBezTo>
                  <a:pt x="19587" y="8273"/>
                  <a:pt x="19525" y="8228"/>
                  <a:pt x="19447" y="8186"/>
                </a:cubicBezTo>
                <a:cubicBezTo>
                  <a:pt x="19300" y="8108"/>
                  <a:pt x="19159" y="8015"/>
                  <a:pt x="19000" y="7962"/>
                </a:cubicBezTo>
                <a:cubicBezTo>
                  <a:pt x="18967" y="7954"/>
                  <a:pt x="18934" y="7946"/>
                  <a:pt x="18901" y="7938"/>
                </a:cubicBezTo>
              </a:path>
              <a:path w="7293" h="5161">
                <a:moveTo>
                  <a:pt x="15801" y="11733"/>
                </a:moveTo>
                <a:cubicBezTo>
                  <a:pt x="15933" y="11733"/>
                  <a:pt x="16065" y="11733"/>
                  <a:pt x="16197" y="11733"/>
                </a:cubicBezTo>
              </a:path>
              <a:path w="7293" h="5161">
                <a:moveTo>
                  <a:pt x="16743" y="11509"/>
                </a:moveTo>
                <a:cubicBezTo>
                  <a:pt x="16819" y="11633"/>
                  <a:pt x="16894" y="11749"/>
                  <a:pt x="16966" y="11857"/>
                </a:cubicBezTo>
                <a:cubicBezTo>
                  <a:pt x="17029" y="11951"/>
                  <a:pt x="17139" y="12044"/>
                  <a:pt x="17214" y="12129"/>
                </a:cubicBezTo>
                <a:cubicBezTo>
                  <a:pt x="17277" y="12192"/>
                  <a:pt x="17287" y="12209"/>
                  <a:pt x="17338" y="12229"/>
                </a:cubicBezTo>
              </a:path>
              <a:path w="7293" h="5161">
                <a:moveTo>
                  <a:pt x="17264" y="11609"/>
                </a:moveTo>
                <a:cubicBezTo>
                  <a:pt x="17094" y="11748"/>
                  <a:pt x="16946" y="11877"/>
                  <a:pt x="16793" y="12030"/>
                </a:cubicBezTo>
                <a:cubicBezTo>
                  <a:pt x="16776" y="12047"/>
                  <a:pt x="16760" y="12063"/>
                  <a:pt x="16743" y="120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10"/>
          <p:cNvSpPr/>
          <p:nvPr/>
        </p:nvSpPr>
        <p:spPr>
          <a:xfrm>
            <a:off x="5732640" y="3776760"/>
            <a:ext cx="866520" cy="376200"/>
          </a:xfrm>
          <a:custGeom>
            <a:avLst/>
            <a:gdLst/>
            <a:ahLst/>
            <a:rect l="l" t="t" r="r" b="b"/>
            <a:pathLst>
              <a:path w="2407" h="1043">
                <a:moveTo>
                  <a:pt x="16247" y="10492"/>
                </a:moveTo>
                <a:cubicBezTo>
                  <a:pt x="16247" y="10639"/>
                  <a:pt x="16260" y="10768"/>
                  <a:pt x="16272" y="10914"/>
                </a:cubicBezTo>
                <a:cubicBezTo>
                  <a:pt x="16278" y="10981"/>
                  <a:pt x="16293" y="11077"/>
                  <a:pt x="16321" y="11137"/>
                </a:cubicBezTo>
                <a:cubicBezTo>
                  <a:pt x="16344" y="11160"/>
                  <a:pt x="16352" y="11164"/>
                  <a:pt x="16346" y="11187"/>
                </a:cubicBezTo>
              </a:path>
              <a:path w="2407" h="1043">
                <a:moveTo>
                  <a:pt x="15925" y="10765"/>
                </a:moveTo>
                <a:cubicBezTo>
                  <a:pt x="16053" y="10765"/>
                  <a:pt x="16170" y="10786"/>
                  <a:pt x="16297" y="10790"/>
                </a:cubicBezTo>
                <a:cubicBezTo>
                  <a:pt x="16396" y="10790"/>
                  <a:pt x="16429" y="10790"/>
                  <a:pt x="16495" y="10790"/>
                </a:cubicBezTo>
              </a:path>
              <a:path w="2407" h="1043">
                <a:moveTo>
                  <a:pt x="16892" y="10616"/>
                </a:moveTo>
                <a:cubicBezTo>
                  <a:pt x="16939" y="10711"/>
                  <a:pt x="16974" y="10832"/>
                  <a:pt x="17041" y="10914"/>
                </a:cubicBezTo>
                <a:cubicBezTo>
                  <a:pt x="17126" y="11018"/>
                  <a:pt x="17227" y="11109"/>
                  <a:pt x="17314" y="11212"/>
                </a:cubicBezTo>
                <a:cubicBezTo>
                  <a:pt x="17404" y="11318"/>
                  <a:pt x="17439" y="11345"/>
                  <a:pt x="17562" y="11410"/>
                </a:cubicBezTo>
              </a:path>
              <a:path w="2407" h="1043">
                <a:moveTo>
                  <a:pt x="17289" y="10542"/>
                </a:moveTo>
                <a:cubicBezTo>
                  <a:pt x="17163" y="10735"/>
                  <a:pt x="17036" y="10898"/>
                  <a:pt x="16966" y="11112"/>
                </a:cubicBezTo>
                <a:cubicBezTo>
                  <a:pt x="16952" y="11155"/>
                  <a:pt x="16839" y="11277"/>
                  <a:pt x="16842" y="11311"/>
                </a:cubicBezTo>
                <a:cubicBezTo>
                  <a:pt x="16850" y="11319"/>
                  <a:pt x="16859" y="11328"/>
                  <a:pt x="16867" y="11336"/>
                </a:cubicBezTo>
              </a:path>
              <a:path w="2407" h="1043">
                <a:moveTo>
                  <a:pt x="17413" y="10939"/>
                </a:moveTo>
                <a:cubicBezTo>
                  <a:pt x="17528" y="10955"/>
                  <a:pt x="17694" y="11005"/>
                  <a:pt x="17810" y="10988"/>
                </a:cubicBezTo>
                <a:cubicBezTo>
                  <a:pt x="17835" y="10980"/>
                  <a:pt x="17859" y="10972"/>
                  <a:pt x="17884" y="10964"/>
                </a:cubicBezTo>
              </a:path>
              <a:path w="2407" h="1043">
                <a:moveTo>
                  <a:pt x="18281" y="10616"/>
                </a:moveTo>
                <a:cubicBezTo>
                  <a:pt x="18289" y="10765"/>
                  <a:pt x="18285" y="10888"/>
                  <a:pt x="18281" y="11038"/>
                </a:cubicBezTo>
                <a:cubicBezTo>
                  <a:pt x="18278" y="11164"/>
                  <a:pt x="18285" y="11287"/>
                  <a:pt x="18306" y="11410"/>
                </a:cubicBezTo>
                <a:cubicBezTo>
                  <a:pt x="18314" y="11451"/>
                  <a:pt x="18323" y="11493"/>
                  <a:pt x="18331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11"/>
          <p:cNvSpPr/>
          <p:nvPr/>
        </p:nvSpPr>
        <p:spPr>
          <a:xfrm>
            <a:off x="3340080" y="3517920"/>
            <a:ext cx="401760" cy="36684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9351" y="9773"/>
                </a:moveTo>
                <a:cubicBezTo>
                  <a:pt x="9396" y="9847"/>
                  <a:pt x="9420" y="9955"/>
                  <a:pt x="9451" y="10046"/>
                </a:cubicBezTo>
                <a:cubicBezTo>
                  <a:pt x="9490" y="10160"/>
                  <a:pt x="9572" y="10216"/>
                  <a:pt x="9624" y="10319"/>
                </a:cubicBezTo>
                <a:cubicBezTo>
                  <a:pt x="9667" y="10406"/>
                  <a:pt x="9718" y="10512"/>
                  <a:pt x="9773" y="10592"/>
                </a:cubicBezTo>
                <a:cubicBezTo>
                  <a:pt x="9825" y="10667"/>
                  <a:pt x="9851" y="10712"/>
                  <a:pt x="9922" y="10765"/>
                </a:cubicBezTo>
                <a:cubicBezTo>
                  <a:pt x="9930" y="10773"/>
                  <a:pt x="9939" y="10782"/>
                  <a:pt x="9947" y="10790"/>
                </a:cubicBezTo>
              </a:path>
              <a:path w="1117" h="1018">
                <a:moveTo>
                  <a:pt x="9723" y="9823"/>
                </a:moveTo>
                <a:cubicBezTo>
                  <a:pt x="9645" y="9923"/>
                  <a:pt x="9600" y="10023"/>
                  <a:pt x="9525" y="10120"/>
                </a:cubicBezTo>
                <a:cubicBezTo>
                  <a:pt x="9464" y="10199"/>
                  <a:pt x="9424" y="10284"/>
                  <a:pt x="9376" y="10368"/>
                </a:cubicBezTo>
                <a:cubicBezTo>
                  <a:pt x="9351" y="10413"/>
                  <a:pt x="9289" y="10497"/>
                  <a:pt x="9277" y="10542"/>
                </a:cubicBezTo>
                <a:cubicBezTo>
                  <a:pt x="9277" y="10584"/>
                  <a:pt x="9277" y="10609"/>
                  <a:pt x="9277" y="10567"/>
                </a:cubicBezTo>
              </a:path>
              <a:path w="1117" h="1018">
                <a:moveTo>
                  <a:pt x="9872" y="10145"/>
                </a:moveTo>
                <a:cubicBezTo>
                  <a:pt x="9967" y="10171"/>
                  <a:pt x="10045" y="10170"/>
                  <a:pt x="10145" y="10170"/>
                </a:cubicBezTo>
                <a:cubicBezTo>
                  <a:pt x="10222" y="10170"/>
                  <a:pt x="10226" y="10185"/>
                  <a:pt x="10294" y="10195"/>
                </a:cubicBezTo>
              </a:path>
              <a:path w="1117" h="1018">
                <a:moveTo>
                  <a:pt x="9996" y="10319"/>
                </a:moveTo>
                <a:cubicBezTo>
                  <a:pt x="10076" y="10354"/>
                  <a:pt x="10143" y="10346"/>
                  <a:pt x="10220" y="10368"/>
                </a:cubicBezTo>
                <a:cubicBezTo>
                  <a:pt x="10244" y="10375"/>
                  <a:pt x="10382" y="10422"/>
                  <a:pt x="10393" y="10418"/>
                </a:cubicBezTo>
                <a:cubicBezTo>
                  <a:pt x="10393" y="10410"/>
                  <a:pt x="10393" y="10401"/>
                  <a:pt x="1039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12"/>
          <p:cNvSpPr/>
          <p:nvPr/>
        </p:nvSpPr>
        <p:spPr>
          <a:xfrm>
            <a:off x="4044960" y="3544920"/>
            <a:ext cx="349200" cy="393840"/>
          </a:xfrm>
          <a:custGeom>
            <a:avLst/>
            <a:gdLst/>
            <a:ahLst/>
            <a:rect l="l" t="t" r="r" b="b"/>
            <a:pathLst>
              <a:path w="968" h="1093">
                <a:moveTo>
                  <a:pt x="11237" y="9847"/>
                </a:moveTo>
                <a:cubicBezTo>
                  <a:pt x="11256" y="9937"/>
                  <a:pt x="11261" y="10005"/>
                  <a:pt x="11261" y="10096"/>
                </a:cubicBezTo>
                <a:cubicBezTo>
                  <a:pt x="11261" y="10184"/>
                  <a:pt x="11286" y="10253"/>
                  <a:pt x="11286" y="10344"/>
                </a:cubicBezTo>
                <a:cubicBezTo>
                  <a:pt x="11286" y="10431"/>
                  <a:pt x="11264" y="10507"/>
                  <a:pt x="11261" y="10592"/>
                </a:cubicBezTo>
                <a:cubicBezTo>
                  <a:pt x="11258" y="10709"/>
                  <a:pt x="11156" y="11025"/>
                  <a:pt x="11237" y="10939"/>
                </a:cubicBezTo>
                <a:cubicBezTo>
                  <a:pt x="11245" y="10922"/>
                  <a:pt x="11253" y="10906"/>
                  <a:pt x="11261" y="10889"/>
                </a:cubicBezTo>
              </a:path>
              <a:path w="968" h="1093">
                <a:moveTo>
                  <a:pt x="11981" y="10120"/>
                </a:moveTo>
                <a:cubicBezTo>
                  <a:pt x="11963" y="10219"/>
                  <a:pt x="11956" y="10295"/>
                  <a:pt x="11956" y="10393"/>
                </a:cubicBezTo>
                <a:cubicBezTo>
                  <a:pt x="11956" y="10475"/>
                  <a:pt x="11967" y="10548"/>
                  <a:pt x="11981" y="10616"/>
                </a:cubicBezTo>
                <a:cubicBezTo>
                  <a:pt x="11986" y="10639"/>
                  <a:pt x="12005" y="10801"/>
                  <a:pt x="12005" y="10740"/>
                </a:cubicBezTo>
              </a:path>
              <a:path w="968" h="1093">
                <a:moveTo>
                  <a:pt x="11782" y="10443"/>
                </a:moveTo>
                <a:cubicBezTo>
                  <a:pt x="11859" y="10453"/>
                  <a:pt x="11927" y="10481"/>
                  <a:pt x="12005" y="10492"/>
                </a:cubicBezTo>
                <a:cubicBezTo>
                  <a:pt x="12075" y="10502"/>
                  <a:pt x="12145" y="10513"/>
                  <a:pt x="12204" y="1054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58:49Z</dcterms:created>
  <dc:creator>jnewman</dc:creator>
  <dc:description/>
  <dc:language>en-US</dc:language>
  <cp:lastModifiedBy>abeason</cp:lastModifiedBy>
  <dcterms:modified xsi:type="dcterms:W3CDTF">2009-09-10T14:37:45Z</dcterms:modified>
  <cp:revision>8</cp:revision>
  <dc:subject/>
  <dc:title>Thursday, September 13th</dc:title>
</cp:coreProperties>
</file>